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670675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670800" cy="977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1800" y="-3600"/>
            <a:ext cx="2889000" cy="49212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3781440" y="-3600"/>
            <a:ext cx="2889360" cy="49212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899640" y="742680"/>
            <a:ext cx="4870440" cy="3652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b601"/>
                </a:solidFill>
                <a:latin typeface="Segoe Semibold"/>
              </a:rPr>
              <a:t>Click to move the slide</a:t>
            </a: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891720" y="4637160"/>
            <a:ext cx="4884840" cy="440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_FuturaOrto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_FuturaOrto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-1800" y="9284760"/>
            <a:ext cx="2889000" cy="49212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3781440" y="9284760"/>
            <a:ext cx="2889360" cy="49212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  <a:defRPr b="0" i="1" lang="ru-RU" sz="1000" spc="-1" strike="noStrike">
                <a:solidFill>
                  <a:srgbClr val="000000"/>
                </a:solidFill>
                <a:latin typeface="a_FuturaOrt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fld id="{7E5CCAC3-FC3A-4A12-B71A-E296095F0569}" type="slidenum">
              <a:rPr b="0" i="1" lang="ru-RU" sz="1000" spc="-1" strike="noStrike">
                <a:solidFill>
                  <a:srgbClr val="000000"/>
                </a:solidFill>
                <a:latin typeface="a_FuturaOrto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900000" y="743040"/>
            <a:ext cx="4870440" cy="365292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891720" y="4637160"/>
            <a:ext cx="4884840" cy="44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_FuturaOrto"/>
            </a:endParaRPr>
          </a:p>
        </p:txBody>
      </p:sp>
      <p:sp>
        <p:nvSpPr>
          <p:cNvPr id="207" name="Номер слайда 3"/>
          <p:cNvSpPr/>
          <p:nvPr/>
        </p:nvSpPr>
        <p:spPr>
          <a:xfrm>
            <a:off x="3781440" y="9285120"/>
            <a:ext cx="2889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fld id="{FF5E0B5E-133B-4B0C-B04D-659220745549}" type="slidenum">
              <a:rPr b="0" i="1" lang="ru-RU" sz="1000" spc="-1" strike="noStrike">
                <a:solidFill>
                  <a:srgbClr val="000000"/>
                </a:solidFill>
                <a:latin typeface="a_FuturaOrto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900000" y="743040"/>
            <a:ext cx="4870440" cy="365292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891720" y="4637160"/>
            <a:ext cx="4884840" cy="44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_FuturaOrto"/>
            </a:endParaRPr>
          </a:p>
        </p:txBody>
      </p:sp>
      <p:sp>
        <p:nvSpPr>
          <p:cNvPr id="228" name="Номер слайда 3"/>
          <p:cNvSpPr/>
          <p:nvPr/>
        </p:nvSpPr>
        <p:spPr>
          <a:xfrm>
            <a:off x="3781440" y="9285120"/>
            <a:ext cx="2889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fld id="{3728FA0C-C503-4444-BBC0-7F38EAE07C38}" type="slidenum">
              <a:rPr b="0" i="1" lang="ru-RU" sz="1000" spc="-1" strike="noStrike">
                <a:solidFill>
                  <a:srgbClr val="000000"/>
                </a:solidFill>
                <a:latin typeface="a_FuturaOrto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900000" y="743040"/>
            <a:ext cx="4870440" cy="365292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891720" y="4637160"/>
            <a:ext cx="4884840" cy="44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_FuturaOrto"/>
            </a:endParaRPr>
          </a:p>
        </p:txBody>
      </p:sp>
      <p:sp>
        <p:nvSpPr>
          <p:cNvPr id="231" name="Номер слайда 3"/>
          <p:cNvSpPr/>
          <p:nvPr/>
        </p:nvSpPr>
        <p:spPr>
          <a:xfrm>
            <a:off x="3781440" y="9285120"/>
            <a:ext cx="2889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fld id="{EB7004A7-6D58-433C-BA30-D1FB54325DC7}" type="slidenum">
              <a:rPr b="0" i="1" lang="ru-RU" sz="1000" spc="-1" strike="noStrike">
                <a:solidFill>
                  <a:srgbClr val="000000"/>
                </a:solidFill>
                <a:latin typeface="a_FuturaOrto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900000" y="743040"/>
            <a:ext cx="4870440" cy="365292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891720" y="4637160"/>
            <a:ext cx="4884840" cy="44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_FuturaOrto"/>
            </a:endParaRPr>
          </a:p>
        </p:txBody>
      </p:sp>
      <p:sp>
        <p:nvSpPr>
          <p:cNvPr id="234" name="Номер слайда 3"/>
          <p:cNvSpPr/>
          <p:nvPr/>
        </p:nvSpPr>
        <p:spPr>
          <a:xfrm>
            <a:off x="3781440" y="9285120"/>
            <a:ext cx="2889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fld id="{E70B28AF-0807-44E9-9A49-397413BA2C71}" type="slidenum">
              <a:rPr b="0" i="1" lang="ru-RU" sz="1000" spc="-1" strike="noStrike">
                <a:solidFill>
                  <a:srgbClr val="000000"/>
                </a:solidFill>
                <a:latin typeface="a_FuturaOrto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900000" y="743040"/>
            <a:ext cx="4870440" cy="365292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891720" y="4637160"/>
            <a:ext cx="4884840" cy="44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_FuturaOrto"/>
            </a:endParaRPr>
          </a:p>
        </p:txBody>
      </p:sp>
      <p:sp>
        <p:nvSpPr>
          <p:cNvPr id="237" name="Номер слайда 3"/>
          <p:cNvSpPr/>
          <p:nvPr/>
        </p:nvSpPr>
        <p:spPr>
          <a:xfrm>
            <a:off x="3781440" y="9285120"/>
            <a:ext cx="2889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fld id="{2A975280-0CB0-47B3-8632-4E3B77C710CD}" type="slidenum">
              <a:rPr b="0" i="1" lang="ru-RU" sz="1000" spc="-1" strike="noStrike">
                <a:solidFill>
                  <a:srgbClr val="000000"/>
                </a:solidFill>
                <a:latin typeface="a_FuturaOrto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900000" y="743040"/>
            <a:ext cx="4870440" cy="365292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891720" y="4637160"/>
            <a:ext cx="4884840" cy="44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_FuturaOrto"/>
            </a:endParaRPr>
          </a:p>
        </p:txBody>
      </p:sp>
      <p:sp>
        <p:nvSpPr>
          <p:cNvPr id="240" name="Номер слайда 3"/>
          <p:cNvSpPr/>
          <p:nvPr/>
        </p:nvSpPr>
        <p:spPr>
          <a:xfrm>
            <a:off x="3781440" y="9285120"/>
            <a:ext cx="2889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fld id="{04D749D5-609A-4F77-A6AB-CAD0BFDF4B71}" type="slidenum">
              <a:rPr b="0" i="1" lang="ru-RU" sz="1000" spc="-1" strike="noStrike">
                <a:solidFill>
                  <a:srgbClr val="000000"/>
                </a:solidFill>
                <a:latin typeface="a_FuturaOrto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900000" y="743040"/>
            <a:ext cx="4870440" cy="365292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891720" y="4637160"/>
            <a:ext cx="4884840" cy="44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_FuturaOrto"/>
            </a:endParaRPr>
          </a:p>
        </p:txBody>
      </p:sp>
      <p:sp>
        <p:nvSpPr>
          <p:cNvPr id="243" name="Номер слайда 3"/>
          <p:cNvSpPr/>
          <p:nvPr/>
        </p:nvSpPr>
        <p:spPr>
          <a:xfrm>
            <a:off x="3781440" y="9285120"/>
            <a:ext cx="2889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fld id="{ADA5A7ED-E3C9-4F70-98C2-DBCC3F7249D9}" type="slidenum">
              <a:rPr b="0" i="1" lang="ru-RU" sz="1000" spc="-1" strike="noStrike">
                <a:solidFill>
                  <a:srgbClr val="000000"/>
                </a:solidFill>
                <a:latin typeface="a_FuturaOrto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900000" y="743040"/>
            <a:ext cx="4870440" cy="365292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891720" y="4637160"/>
            <a:ext cx="4884840" cy="44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_FuturaOrto"/>
            </a:endParaRPr>
          </a:p>
        </p:txBody>
      </p:sp>
      <p:sp>
        <p:nvSpPr>
          <p:cNvPr id="246" name="Номер слайда 3"/>
          <p:cNvSpPr/>
          <p:nvPr/>
        </p:nvSpPr>
        <p:spPr>
          <a:xfrm>
            <a:off x="3781440" y="9285120"/>
            <a:ext cx="2889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fld id="{2C878514-5AD4-4811-AD51-6DB76F208362}" type="slidenum">
              <a:rPr b="0" i="1" lang="ru-RU" sz="1000" spc="-1" strike="noStrike">
                <a:solidFill>
                  <a:srgbClr val="000000"/>
                </a:solidFill>
                <a:latin typeface="a_FuturaOrto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900000" y="743040"/>
            <a:ext cx="4870440" cy="365292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891720" y="4637160"/>
            <a:ext cx="4884840" cy="44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_FuturaOrto"/>
            </a:endParaRPr>
          </a:p>
        </p:txBody>
      </p:sp>
      <p:sp>
        <p:nvSpPr>
          <p:cNvPr id="249" name="Номер слайда 3"/>
          <p:cNvSpPr/>
          <p:nvPr/>
        </p:nvSpPr>
        <p:spPr>
          <a:xfrm>
            <a:off x="3781440" y="9285120"/>
            <a:ext cx="2889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fld id="{4022B009-4738-41F1-B106-0A4DE20468A7}" type="slidenum">
              <a:rPr b="0" i="1" lang="ru-RU" sz="1000" spc="-1" strike="noStrike">
                <a:solidFill>
                  <a:srgbClr val="000000"/>
                </a:solidFill>
                <a:latin typeface="a_FuturaOrto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900000" y="743040"/>
            <a:ext cx="4870440" cy="365292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891720" y="4637160"/>
            <a:ext cx="4884840" cy="44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_FuturaOrto"/>
            </a:endParaRPr>
          </a:p>
        </p:txBody>
      </p:sp>
      <p:sp>
        <p:nvSpPr>
          <p:cNvPr id="252" name="Номер слайда 3"/>
          <p:cNvSpPr/>
          <p:nvPr/>
        </p:nvSpPr>
        <p:spPr>
          <a:xfrm>
            <a:off x="3781440" y="9285120"/>
            <a:ext cx="2889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fld id="{9BA546C4-2A60-4E66-B2E7-1A645F87B569}" type="slidenum">
              <a:rPr b="0" i="1" lang="ru-RU" sz="1000" spc="-1" strike="noStrike">
                <a:solidFill>
                  <a:srgbClr val="000000"/>
                </a:solidFill>
                <a:latin typeface="a_FuturaOrto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900000" y="743040"/>
            <a:ext cx="4870440" cy="365292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891720" y="4637160"/>
            <a:ext cx="4884840" cy="44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_FuturaOrto"/>
            </a:endParaRPr>
          </a:p>
        </p:txBody>
      </p:sp>
      <p:sp>
        <p:nvSpPr>
          <p:cNvPr id="255" name="Номер слайда 3"/>
          <p:cNvSpPr/>
          <p:nvPr/>
        </p:nvSpPr>
        <p:spPr>
          <a:xfrm>
            <a:off x="3781440" y="9285120"/>
            <a:ext cx="2889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fld id="{F5B52971-63D1-4EF5-AEE4-D9B33407A597}" type="slidenum">
              <a:rPr b="0" i="1" lang="ru-RU" sz="1000" spc="-1" strike="noStrike">
                <a:solidFill>
                  <a:srgbClr val="000000"/>
                </a:solidFill>
                <a:latin typeface="a_FuturaOrto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900000" y="743040"/>
            <a:ext cx="4870440" cy="365292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891720" y="4637160"/>
            <a:ext cx="4884840" cy="44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_FuturaOrto"/>
            </a:endParaRPr>
          </a:p>
        </p:txBody>
      </p:sp>
      <p:sp>
        <p:nvSpPr>
          <p:cNvPr id="258" name="Номер слайда 3"/>
          <p:cNvSpPr/>
          <p:nvPr/>
        </p:nvSpPr>
        <p:spPr>
          <a:xfrm>
            <a:off x="3781440" y="9285120"/>
            <a:ext cx="2889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fld id="{176A54F1-85E5-4FF6-A5BB-C537392D28D6}" type="slidenum">
              <a:rPr b="0" i="1" lang="ru-RU" sz="1000" spc="-1" strike="noStrike">
                <a:solidFill>
                  <a:srgbClr val="000000"/>
                </a:solidFill>
                <a:latin typeface="a_FuturaOrto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900000" y="743040"/>
            <a:ext cx="4870440" cy="365292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891720" y="4637160"/>
            <a:ext cx="4884840" cy="44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_FuturaOrto"/>
            </a:endParaRPr>
          </a:p>
        </p:txBody>
      </p:sp>
      <p:sp>
        <p:nvSpPr>
          <p:cNvPr id="261" name="Номер слайда 3"/>
          <p:cNvSpPr/>
          <p:nvPr/>
        </p:nvSpPr>
        <p:spPr>
          <a:xfrm>
            <a:off x="3781440" y="9285120"/>
            <a:ext cx="2889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fld id="{BDBF9590-EEA1-4C04-81DD-38AA46DC6FB4}" type="slidenum">
              <a:rPr b="0" i="1" lang="ru-RU" sz="1000" spc="-1" strike="noStrike">
                <a:solidFill>
                  <a:srgbClr val="000000"/>
                </a:solidFill>
                <a:latin typeface="a_FuturaOrto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900000" y="743040"/>
            <a:ext cx="4870440" cy="365292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891720" y="4637160"/>
            <a:ext cx="4884840" cy="44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_FuturaOrto"/>
            </a:endParaRPr>
          </a:p>
        </p:txBody>
      </p:sp>
      <p:sp>
        <p:nvSpPr>
          <p:cNvPr id="264" name="Номер слайда 3"/>
          <p:cNvSpPr/>
          <p:nvPr/>
        </p:nvSpPr>
        <p:spPr>
          <a:xfrm>
            <a:off x="3781440" y="9285120"/>
            <a:ext cx="2889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fld id="{5DC2960D-927E-4327-A46C-1D1001E3BCA8}" type="slidenum">
              <a:rPr b="0" i="1" lang="ru-RU" sz="1000" spc="-1" strike="noStrike">
                <a:solidFill>
                  <a:srgbClr val="000000"/>
                </a:solidFill>
                <a:latin typeface="a_FuturaOrto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900000" y="743040"/>
            <a:ext cx="4870440" cy="365292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891720" y="4637160"/>
            <a:ext cx="4884840" cy="44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_FuturaOrto"/>
            </a:endParaRPr>
          </a:p>
        </p:txBody>
      </p:sp>
      <p:sp>
        <p:nvSpPr>
          <p:cNvPr id="210" name="Номер слайда 3"/>
          <p:cNvSpPr/>
          <p:nvPr/>
        </p:nvSpPr>
        <p:spPr>
          <a:xfrm>
            <a:off x="3781440" y="9285120"/>
            <a:ext cx="2889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fld id="{4E1B8E49-AC7B-46E9-A9DC-16EEDF486AEC}" type="slidenum">
              <a:rPr b="0" i="1" lang="ru-RU" sz="1000" spc="-1" strike="noStrike">
                <a:solidFill>
                  <a:srgbClr val="000000"/>
                </a:solidFill>
                <a:latin typeface="a_FuturaOrto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900000" y="743040"/>
            <a:ext cx="4870440" cy="365292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891720" y="4637160"/>
            <a:ext cx="4884840" cy="44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_FuturaOrto"/>
            </a:endParaRPr>
          </a:p>
        </p:txBody>
      </p:sp>
      <p:sp>
        <p:nvSpPr>
          <p:cNvPr id="213" name="Номер слайда 3"/>
          <p:cNvSpPr/>
          <p:nvPr/>
        </p:nvSpPr>
        <p:spPr>
          <a:xfrm>
            <a:off x="3781440" y="9285120"/>
            <a:ext cx="2889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fld id="{7212303A-71ED-4702-A039-3E38FE58FB99}" type="slidenum">
              <a:rPr b="0" i="1" lang="ru-RU" sz="1000" spc="-1" strike="noStrike">
                <a:solidFill>
                  <a:srgbClr val="000000"/>
                </a:solidFill>
                <a:latin typeface="a_FuturaOrto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900000" y="743040"/>
            <a:ext cx="4870440" cy="365292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891720" y="4637160"/>
            <a:ext cx="4884840" cy="44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_FuturaOrto"/>
            </a:endParaRPr>
          </a:p>
        </p:txBody>
      </p:sp>
      <p:sp>
        <p:nvSpPr>
          <p:cNvPr id="216" name="Номер слайда 3"/>
          <p:cNvSpPr/>
          <p:nvPr/>
        </p:nvSpPr>
        <p:spPr>
          <a:xfrm>
            <a:off x="3781440" y="9285120"/>
            <a:ext cx="2889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fld id="{CF40364B-C2E8-4EF2-A0F1-F6DC37E63B2F}" type="slidenum">
              <a:rPr b="0" i="1" lang="ru-RU" sz="1000" spc="-1" strike="noStrike">
                <a:solidFill>
                  <a:srgbClr val="000000"/>
                </a:solidFill>
                <a:latin typeface="a_FuturaOrto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900000" y="743040"/>
            <a:ext cx="4870440" cy="365292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891720" y="4637160"/>
            <a:ext cx="4884840" cy="44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_FuturaOrto"/>
            </a:endParaRPr>
          </a:p>
        </p:txBody>
      </p:sp>
      <p:sp>
        <p:nvSpPr>
          <p:cNvPr id="219" name="Номер слайда 3"/>
          <p:cNvSpPr/>
          <p:nvPr/>
        </p:nvSpPr>
        <p:spPr>
          <a:xfrm>
            <a:off x="3781440" y="9285120"/>
            <a:ext cx="2889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fld id="{6FC6F746-75FC-4545-B4D8-93C70C866DB0}" type="slidenum">
              <a:rPr b="0" i="1" lang="ru-RU" sz="1000" spc="-1" strike="noStrike">
                <a:solidFill>
                  <a:srgbClr val="000000"/>
                </a:solidFill>
                <a:latin typeface="a_FuturaOrto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900000" y="743040"/>
            <a:ext cx="4870440" cy="365292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891720" y="4637160"/>
            <a:ext cx="4884840" cy="44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_FuturaOrto"/>
            </a:endParaRPr>
          </a:p>
        </p:txBody>
      </p:sp>
      <p:sp>
        <p:nvSpPr>
          <p:cNvPr id="222" name="Номер слайда 3"/>
          <p:cNvSpPr/>
          <p:nvPr/>
        </p:nvSpPr>
        <p:spPr>
          <a:xfrm>
            <a:off x="3781440" y="9285120"/>
            <a:ext cx="2889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fld id="{40612C9F-4FF7-4298-97B2-55DBAAB70827}" type="slidenum">
              <a:rPr b="0" i="1" lang="ru-RU" sz="1000" spc="-1" strike="noStrike">
                <a:solidFill>
                  <a:srgbClr val="000000"/>
                </a:solidFill>
                <a:latin typeface="a_FuturaOrto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900000" y="743040"/>
            <a:ext cx="4870440" cy="365292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891720" y="4637160"/>
            <a:ext cx="4884840" cy="44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_FuturaOrto"/>
            </a:endParaRPr>
          </a:p>
        </p:txBody>
      </p:sp>
      <p:sp>
        <p:nvSpPr>
          <p:cNvPr id="225" name="Номер слайда 3"/>
          <p:cNvSpPr/>
          <p:nvPr/>
        </p:nvSpPr>
        <p:spPr>
          <a:xfrm>
            <a:off x="3781440" y="9285120"/>
            <a:ext cx="2889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fld id="{B5AFC436-A99A-40D5-B2D4-181140599B81}" type="slidenum">
              <a:rPr b="0" i="1" lang="ru-RU" sz="1000" spc="-1" strike="noStrike">
                <a:solidFill>
                  <a:srgbClr val="000000"/>
                </a:solidFill>
                <a:latin typeface="a_FuturaOrto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D25A84-D43E-44EF-B6FA-409CE82805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838836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0520" y="3456000"/>
            <a:ext cx="838836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295D71-3E90-4EF6-AA83-2220358058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409320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8920" y="1415880"/>
            <a:ext cx="409320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80520" y="3456000"/>
            <a:ext cx="409320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8920" y="3456000"/>
            <a:ext cx="409320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3D4EE9-6982-4C7B-8CED-9DE5D06C4C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270072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16600" y="1415880"/>
            <a:ext cx="270072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52680" y="1415880"/>
            <a:ext cx="270072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80520" y="3456000"/>
            <a:ext cx="270072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16600" y="3456000"/>
            <a:ext cx="270072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52680" y="3456000"/>
            <a:ext cx="270072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548678-2C33-4BF9-AE20-55D5469EF7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EB205-5CEA-4662-B078-928973DE033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80520" y="1415880"/>
            <a:ext cx="8388360" cy="390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D79EF-43BA-4EE9-90A6-1C38EB3624C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8388360" cy="39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6E92B-BA08-410F-A507-C579348DB0F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4093200" cy="39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920" y="1415880"/>
            <a:ext cx="4093200" cy="39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816BA-7BC1-4ADD-BBD7-ACCB3BC6203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1BC4D-6A22-4536-9868-DE040E79DD4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80520" y="228600"/>
            <a:ext cx="8393400" cy="61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8BB9D-BC71-43FA-8573-05E72A240CA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409320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920" y="1415880"/>
            <a:ext cx="4093200" cy="39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80520" y="3456000"/>
            <a:ext cx="409320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BF1DF-A1D7-4110-822D-E6B189C67F8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80520" y="1415880"/>
            <a:ext cx="8388360" cy="390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61261D-6891-46E5-B15E-D4F621CAC0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4093200" cy="39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920" y="1415880"/>
            <a:ext cx="409320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920" y="3456000"/>
            <a:ext cx="409320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F5959-8197-410E-8BEE-713B637F081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409320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920" y="1415880"/>
            <a:ext cx="409320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456000"/>
            <a:ext cx="838836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18983-89C2-4FEB-A8D1-0497D363565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838836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0520" y="3456000"/>
            <a:ext cx="838836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7081A-F7D4-46B2-9658-8FA4908BF0F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409320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920" y="1415880"/>
            <a:ext cx="409320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520" y="3456000"/>
            <a:ext cx="409320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920" y="3456000"/>
            <a:ext cx="409320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98507-5611-411C-B148-05E80B357B8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270072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16600" y="1415880"/>
            <a:ext cx="270072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52680" y="1415880"/>
            <a:ext cx="270072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80520" y="3456000"/>
            <a:ext cx="270072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16600" y="3456000"/>
            <a:ext cx="270072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52680" y="3456000"/>
            <a:ext cx="270072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7D09C-15BD-494F-ADA4-4CC8B706B81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8388360" cy="39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66B279-72DE-45F6-8DB5-59887D1EF3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4093200" cy="39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8920" y="1415880"/>
            <a:ext cx="4093200" cy="39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650F56-6FED-49BD-966C-3557F80ED2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FE0B2F-167B-4B06-94F1-1B92FB6128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80520" y="228600"/>
            <a:ext cx="8393400" cy="61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07D7DD-2BE9-4F03-97E8-9802996962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409320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8920" y="1415880"/>
            <a:ext cx="4093200" cy="39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80520" y="3456000"/>
            <a:ext cx="409320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A44AC0-593E-47D9-A897-332A8970BB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4093200" cy="39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8920" y="1415880"/>
            <a:ext cx="409320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8920" y="3456000"/>
            <a:ext cx="409320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D38291-FC7F-4708-BCE0-52F32A7346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409320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8920" y="1415880"/>
            <a:ext cx="409320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80520" y="3456000"/>
            <a:ext cx="838836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3E3809-6FFD-4BE9-A612-3BD568CE72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4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b601"/>
                </a:solidFill>
                <a:latin typeface="Segoe Semibold"/>
              </a:rPr>
              <a:t>Click to edit the title text format</a:t>
            </a: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520" y="1415880"/>
            <a:ext cx="8388360" cy="390564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443160" indent="-443160">
              <a:lnSpc>
                <a:spcPct val="85000"/>
              </a:lnSpc>
              <a:spcBef>
                <a:spcPts val="11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 Semibol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  <a:p>
            <a:pPr lvl="1" marL="794880" indent="-350280">
              <a:lnSpc>
                <a:spcPct val="85000"/>
              </a:lnSpc>
              <a:spcBef>
                <a:spcPts val="11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 Semibol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  <a:p>
            <a:pPr lvl="2" marL="1166040" indent="-369000">
              <a:lnSpc>
                <a:spcPct val="85000"/>
              </a:lnSpc>
              <a:spcBef>
                <a:spcPts val="11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 Semibol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  <a:p>
            <a:pPr lvl="3" marL="1499040" indent="-331560">
              <a:lnSpc>
                <a:spcPct val="85000"/>
              </a:lnSpc>
              <a:spcBef>
                <a:spcPts val="11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 Semibol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  <a:p>
            <a:pPr lvl="4" marL="1819440" indent="-301320">
              <a:lnSpc>
                <a:spcPct val="85000"/>
              </a:lnSpc>
              <a:spcBef>
                <a:spcPts val="11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 Semibol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  <a:p>
            <a:pPr lvl="5" marL="1819440" indent="-301320">
              <a:lnSpc>
                <a:spcPct val="85000"/>
              </a:lnSpc>
              <a:spcBef>
                <a:spcPts val="11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 Semibol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  <a:p>
            <a:pPr lvl="6" marL="1819440" indent="-301320">
              <a:lnSpc>
                <a:spcPct val="85000"/>
              </a:lnSpc>
              <a:spcBef>
                <a:spcPts val="11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 Semibol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2233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9DF72-4CB0-4B68-8911-35516FEE999F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Group 9"/>
          <p:cNvGrpSpPr/>
          <p:nvPr/>
        </p:nvGrpSpPr>
        <p:grpSpPr>
          <a:xfrm>
            <a:off x="7667640" y="333360"/>
            <a:ext cx="898560" cy="1278000"/>
            <a:chOff x="7667640" y="333360"/>
            <a:chExt cx="898560" cy="1278000"/>
          </a:xfrm>
        </p:grpSpPr>
        <p:sp>
          <p:nvSpPr>
            <p:cNvPr id="41" name="Freeform 7"/>
            <p:cNvSpPr/>
            <p:nvPr/>
          </p:nvSpPr>
          <p:spPr>
            <a:xfrm>
              <a:off x="7667640" y="333360"/>
              <a:ext cx="898560" cy="1278000"/>
            </a:xfrm>
            <a:custGeom>
              <a:avLst/>
              <a:gdLst>
                <a:gd name="textAreaLeft" fmla="*/ 0 w 898560"/>
                <a:gd name="textAreaRight" fmla="*/ 898920 w 898560"/>
                <a:gd name="textAreaTop" fmla="*/ 0 h 1278000"/>
                <a:gd name="textAreaBottom" fmla="*/ 1278360 h 1278000"/>
              </a:gdLst>
              <a:ahLst/>
              <a:rect l="textAreaLeft" t="textAreaTop" r="textAreaRight" b="textAreaBottom"/>
              <a:pathLst>
                <a:path w="1414" h="2013">
                  <a:moveTo>
                    <a:pt x="440" y="1445"/>
                  </a:moveTo>
                  <a:lnTo>
                    <a:pt x="415" y="1404"/>
                  </a:lnTo>
                  <a:lnTo>
                    <a:pt x="393" y="1363"/>
                  </a:lnTo>
                  <a:lnTo>
                    <a:pt x="371" y="1321"/>
                  </a:lnTo>
                  <a:lnTo>
                    <a:pt x="352" y="1279"/>
                  </a:lnTo>
                  <a:lnTo>
                    <a:pt x="334" y="1236"/>
                  </a:lnTo>
                  <a:lnTo>
                    <a:pt x="317" y="1193"/>
                  </a:lnTo>
                  <a:lnTo>
                    <a:pt x="301" y="1149"/>
                  </a:lnTo>
                  <a:lnTo>
                    <a:pt x="287" y="1105"/>
                  </a:lnTo>
                  <a:lnTo>
                    <a:pt x="275" y="1061"/>
                  </a:lnTo>
                  <a:lnTo>
                    <a:pt x="263" y="1017"/>
                  </a:lnTo>
                  <a:lnTo>
                    <a:pt x="252" y="972"/>
                  </a:lnTo>
                  <a:lnTo>
                    <a:pt x="243" y="927"/>
                  </a:lnTo>
                  <a:lnTo>
                    <a:pt x="234" y="881"/>
                  </a:lnTo>
                  <a:lnTo>
                    <a:pt x="227" y="836"/>
                  </a:lnTo>
                  <a:lnTo>
                    <a:pt x="220" y="790"/>
                  </a:lnTo>
                  <a:lnTo>
                    <a:pt x="214" y="744"/>
                  </a:lnTo>
                  <a:lnTo>
                    <a:pt x="208" y="698"/>
                  </a:lnTo>
                  <a:lnTo>
                    <a:pt x="203" y="652"/>
                  </a:lnTo>
                  <a:lnTo>
                    <a:pt x="200" y="605"/>
                  </a:lnTo>
                  <a:lnTo>
                    <a:pt x="196" y="559"/>
                  </a:lnTo>
                  <a:lnTo>
                    <a:pt x="193" y="512"/>
                  </a:lnTo>
                  <a:lnTo>
                    <a:pt x="191" y="466"/>
                  </a:lnTo>
                  <a:lnTo>
                    <a:pt x="188" y="419"/>
                  </a:lnTo>
                  <a:lnTo>
                    <a:pt x="186" y="372"/>
                  </a:lnTo>
                  <a:lnTo>
                    <a:pt x="185" y="325"/>
                  </a:lnTo>
                  <a:lnTo>
                    <a:pt x="183" y="278"/>
                  </a:lnTo>
                  <a:lnTo>
                    <a:pt x="182" y="232"/>
                  </a:lnTo>
                  <a:lnTo>
                    <a:pt x="181" y="185"/>
                  </a:lnTo>
                  <a:lnTo>
                    <a:pt x="179" y="139"/>
                  </a:lnTo>
                  <a:lnTo>
                    <a:pt x="178" y="92"/>
                  </a:lnTo>
                  <a:lnTo>
                    <a:pt x="177" y="46"/>
                  </a:lnTo>
                  <a:lnTo>
                    <a:pt x="175" y="0"/>
                  </a:lnTo>
                  <a:lnTo>
                    <a:pt x="837" y="652"/>
                  </a:lnTo>
                  <a:lnTo>
                    <a:pt x="1370" y="1026"/>
                  </a:lnTo>
                  <a:lnTo>
                    <a:pt x="1294" y="1116"/>
                  </a:lnTo>
                  <a:lnTo>
                    <a:pt x="1414" y="1234"/>
                  </a:lnTo>
                  <a:lnTo>
                    <a:pt x="688" y="1725"/>
                  </a:lnTo>
                  <a:lnTo>
                    <a:pt x="673" y="1711"/>
                  </a:lnTo>
                  <a:lnTo>
                    <a:pt x="657" y="1697"/>
                  </a:lnTo>
                  <a:lnTo>
                    <a:pt x="641" y="1682"/>
                  </a:lnTo>
                  <a:lnTo>
                    <a:pt x="625" y="1667"/>
                  </a:lnTo>
                  <a:lnTo>
                    <a:pt x="609" y="1652"/>
                  </a:lnTo>
                  <a:lnTo>
                    <a:pt x="593" y="1636"/>
                  </a:lnTo>
                  <a:lnTo>
                    <a:pt x="577" y="1619"/>
                  </a:lnTo>
                  <a:lnTo>
                    <a:pt x="561" y="1602"/>
                  </a:lnTo>
                  <a:lnTo>
                    <a:pt x="545" y="1585"/>
                  </a:lnTo>
                  <a:lnTo>
                    <a:pt x="529" y="1567"/>
                  </a:lnTo>
                  <a:lnTo>
                    <a:pt x="513" y="1548"/>
                  </a:lnTo>
                  <a:lnTo>
                    <a:pt x="498" y="1529"/>
                  </a:lnTo>
                  <a:lnTo>
                    <a:pt x="483" y="1509"/>
                  </a:lnTo>
                  <a:lnTo>
                    <a:pt x="468" y="1488"/>
                  </a:lnTo>
                  <a:lnTo>
                    <a:pt x="454" y="1467"/>
                  </a:lnTo>
                  <a:lnTo>
                    <a:pt x="440" y="1445"/>
                  </a:lnTo>
                  <a:close/>
                  <a:moveTo>
                    <a:pt x="0" y="2012"/>
                  </a:moveTo>
                  <a:lnTo>
                    <a:pt x="153" y="1854"/>
                  </a:lnTo>
                  <a:lnTo>
                    <a:pt x="117" y="1854"/>
                  </a:lnTo>
                  <a:lnTo>
                    <a:pt x="132" y="1833"/>
                  </a:lnTo>
                  <a:lnTo>
                    <a:pt x="147" y="1816"/>
                  </a:lnTo>
                  <a:lnTo>
                    <a:pt x="162" y="1801"/>
                  </a:lnTo>
                  <a:lnTo>
                    <a:pt x="177" y="1788"/>
                  </a:lnTo>
                  <a:lnTo>
                    <a:pt x="193" y="1777"/>
                  </a:lnTo>
                  <a:lnTo>
                    <a:pt x="209" y="1769"/>
                  </a:lnTo>
                  <a:lnTo>
                    <a:pt x="225" y="1763"/>
                  </a:lnTo>
                  <a:lnTo>
                    <a:pt x="241" y="1758"/>
                  </a:lnTo>
                  <a:lnTo>
                    <a:pt x="256" y="1754"/>
                  </a:lnTo>
                  <a:lnTo>
                    <a:pt x="273" y="1752"/>
                  </a:lnTo>
                  <a:lnTo>
                    <a:pt x="289" y="1751"/>
                  </a:lnTo>
                  <a:lnTo>
                    <a:pt x="306" y="1751"/>
                  </a:lnTo>
                  <a:lnTo>
                    <a:pt x="322" y="1752"/>
                  </a:lnTo>
                  <a:lnTo>
                    <a:pt x="339" y="1754"/>
                  </a:lnTo>
                  <a:lnTo>
                    <a:pt x="355" y="1755"/>
                  </a:lnTo>
                  <a:lnTo>
                    <a:pt x="372" y="1757"/>
                  </a:lnTo>
                  <a:lnTo>
                    <a:pt x="412" y="1775"/>
                  </a:lnTo>
                  <a:lnTo>
                    <a:pt x="423" y="1794"/>
                  </a:lnTo>
                  <a:lnTo>
                    <a:pt x="423" y="1811"/>
                  </a:lnTo>
                  <a:lnTo>
                    <a:pt x="227" y="2012"/>
                  </a:lnTo>
                  <a:lnTo>
                    <a:pt x="132" y="2012"/>
                  </a:lnTo>
                  <a:lnTo>
                    <a:pt x="284" y="1855"/>
                  </a:lnTo>
                  <a:lnTo>
                    <a:pt x="244" y="1855"/>
                  </a:lnTo>
                  <a:lnTo>
                    <a:pt x="93" y="2012"/>
                  </a:lnTo>
                  <a:lnTo>
                    <a:pt x="0" y="2012"/>
                  </a:lnTo>
                  <a:close/>
                  <a:moveTo>
                    <a:pt x="270" y="2009"/>
                  </a:moveTo>
                  <a:lnTo>
                    <a:pt x="452" y="1819"/>
                  </a:lnTo>
                  <a:lnTo>
                    <a:pt x="458" y="1804"/>
                  </a:lnTo>
                  <a:lnTo>
                    <a:pt x="457" y="1789"/>
                  </a:lnTo>
                  <a:lnTo>
                    <a:pt x="447" y="1779"/>
                  </a:lnTo>
                  <a:lnTo>
                    <a:pt x="468" y="1762"/>
                  </a:lnTo>
                  <a:lnTo>
                    <a:pt x="479" y="1759"/>
                  </a:lnTo>
                  <a:lnTo>
                    <a:pt x="490" y="1757"/>
                  </a:lnTo>
                  <a:lnTo>
                    <a:pt x="501" y="1754"/>
                  </a:lnTo>
                  <a:lnTo>
                    <a:pt x="512" y="1752"/>
                  </a:lnTo>
                  <a:lnTo>
                    <a:pt x="522" y="1750"/>
                  </a:lnTo>
                  <a:lnTo>
                    <a:pt x="533" y="1749"/>
                  </a:lnTo>
                  <a:lnTo>
                    <a:pt x="544" y="1748"/>
                  </a:lnTo>
                  <a:lnTo>
                    <a:pt x="555" y="1747"/>
                  </a:lnTo>
                  <a:lnTo>
                    <a:pt x="566" y="1748"/>
                  </a:lnTo>
                  <a:lnTo>
                    <a:pt x="577" y="1749"/>
                  </a:lnTo>
                  <a:lnTo>
                    <a:pt x="587" y="1751"/>
                  </a:lnTo>
                  <a:lnTo>
                    <a:pt x="598" y="1752"/>
                  </a:lnTo>
                  <a:lnTo>
                    <a:pt x="609" y="1755"/>
                  </a:lnTo>
                  <a:lnTo>
                    <a:pt x="619" y="1759"/>
                  </a:lnTo>
                  <a:lnTo>
                    <a:pt x="630" y="1764"/>
                  </a:lnTo>
                  <a:lnTo>
                    <a:pt x="640" y="1769"/>
                  </a:lnTo>
                  <a:lnTo>
                    <a:pt x="656" y="1789"/>
                  </a:lnTo>
                  <a:lnTo>
                    <a:pt x="656" y="1807"/>
                  </a:lnTo>
                  <a:lnTo>
                    <a:pt x="644" y="1824"/>
                  </a:lnTo>
                  <a:lnTo>
                    <a:pt x="460" y="2012"/>
                  </a:lnTo>
                  <a:lnTo>
                    <a:pt x="364" y="2012"/>
                  </a:lnTo>
                  <a:lnTo>
                    <a:pt x="425" y="1949"/>
                  </a:lnTo>
                  <a:lnTo>
                    <a:pt x="385" y="1949"/>
                  </a:lnTo>
                  <a:lnTo>
                    <a:pt x="326" y="2009"/>
                  </a:lnTo>
                  <a:lnTo>
                    <a:pt x="270" y="2009"/>
                  </a:lnTo>
                  <a:close/>
                  <a:moveTo>
                    <a:pt x="427" y="1900"/>
                  </a:moveTo>
                  <a:lnTo>
                    <a:pt x="472" y="1856"/>
                  </a:lnTo>
                  <a:lnTo>
                    <a:pt x="486" y="1851"/>
                  </a:lnTo>
                  <a:lnTo>
                    <a:pt x="502" y="1851"/>
                  </a:lnTo>
                  <a:lnTo>
                    <a:pt x="503" y="1863"/>
                  </a:lnTo>
                  <a:lnTo>
                    <a:pt x="463" y="1900"/>
                  </a:lnTo>
                  <a:lnTo>
                    <a:pt x="427" y="1900"/>
                  </a:lnTo>
                  <a:close/>
                  <a:moveTo>
                    <a:pt x="745" y="1999"/>
                  </a:moveTo>
                  <a:lnTo>
                    <a:pt x="711" y="1979"/>
                  </a:lnTo>
                  <a:lnTo>
                    <a:pt x="737" y="1973"/>
                  </a:lnTo>
                  <a:lnTo>
                    <a:pt x="763" y="1964"/>
                  </a:lnTo>
                  <a:lnTo>
                    <a:pt x="783" y="1950"/>
                  </a:lnTo>
                  <a:lnTo>
                    <a:pt x="792" y="1954"/>
                  </a:lnTo>
                  <a:lnTo>
                    <a:pt x="801" y="1957"/>
                  </a:lnTo>
                  <a:lnTo>
                    <a:pt x="808" y="1960"/>
                  </a:lnTo>
                  <a:lnTo>
                    <a:pt x="815" y="1962"/>
                  </a:lnTo>
                  <a:lnTo>
                    <a:pt x="823" y="1962"/>
                  </a:lnTo>
                  <a:lnTo>
                    <a:pt x="830" y="1963"/>
                  </a:lnTo>
                  <a:lnTo>
                    <a:pt x="838" y="1963"/>
                  </a:lnTo>
                  <a:lnTo>
                    <a:pt x="847" y="1962"/>
                  </a:lnTo>
                  <a:lnTo>
                    <a:pt x="864" y="1954"/>
                  </a:lnTo>
                  <a:lnTo>
                    <a:pt x="878" y="1940"/>
                  </a:lnTo>
                  <a:lnTo>
                    <a:pt x="851" y="1939"/>
                  </a:lnTo>
                  <a:lnTo>
                    <a:pt x="829" y="1934"/>
                  </a:lnTo>
                  <a:lnTo>
                    <a:pt x="810" y="1926"/>
                  </a:lnTo>
                  <a:lnTo>
                    <a:pt x="910" y="1811"/>
                  </a:lnTo>
                  <a:lnTo>
                    <a:pt x="918" y="1797"/>
                  </a:lnTo>
                  <a:lnTo>
                    <a:pt x="913" y="1780"/>
                  </a:lnTo>
                  <a:lnTo>
                    <a:pt x="900" y="1767"/>
                  </a:lnTo>
                  <a:lnTo>
                    <a:pt x="907" y="1757"/>
                  </a:lnTo>
                  <a:lnTo>
                    <a:pt x="924" y="1751"/>
                  </a:lnTo>
                  <a:lnTo>
                    <a:pt x="946" y="1747"/>
                  </a:lnTo>
                  <a:lnTo>
                    <a:pt x="972" y="1751"/>
                  </a:lnTo>
                  <a:lnTo>
                    <a:pt x="986" y="1762"/>
                  </a:lnTo>
                  <a:lnTo>
                    <a:pt x="987" y="1779"/>
                  </a:lnTo>
                  <a:lnTo>
                    <a:pt x="984" y="1789"/>
                  </a:lnTo>
                  <a:lnTo>
                    <a:pt x="887" y="1890"/>
                  </a:lnTo>
                  <a:lnTo>
                    <a:pt x="901" y="1892"/>
                  </a:lnTo>
                  <a:lnTo>
                    <a:pt x="919" y="1890"/>
                  </a:lnTo>
                  <a:lnTo>
                    <a:pt x="1046" y="1762"/>
                  </a:lnTo>
                  <a:lnTo>
                    <a:pt x="1062" y="1752"/>
                  </a:lnTo>
                  <a:lnTo>
                    <a:pt x="1091" y="1749"/>
                  </a:lnTo>
                  <a:lnTo>
                    <a:pt x="1114" y="1763"/>
                  </a:lnTo>
                  <a:lnTo>
                    <a:pt x="1121" y="1782"/>
                  </a:lnTo>
                  <a:lnTo>
                    <a:pt x="1119" y="1794"/>
                  </a:lnTo>
                  <a:lnTo>
                    <a:pt x="931" y="1991"/>
                  </a:lnTo>
                  <a:lnTo>
                    <a:pt x="921" y="1994"/>
                  </a:lnTo>
                  <a:lnTo>
                    <a:pt x="911" y="1998"/>
                  </a:lnTo>
                  <a:lnTo>
                    <a:pt x="902" y="2001"/>
                  </a:lnTo>
                  <a:lnTo>
                    <a:pt x="893" y="2004"/>
                  </a:lnTo>
                  <a:lnTo>
                    <a:pt x="883" y="2005"/>
                  </a:lnTo>
                  <a:lnTo>
                    <a:pt x="874" y="2007"/>
                  </a:lnTo>
                  <a:lnTo>
                    <a:pt x="865" y="2009"/>
                  </a:lnTo>
                  <a:lnTo>
                    <a:pt x="856" y="2010"/>
                  </a:lnTo>
                  <a:lnTo>
                    <a:pt x="847" y="2011"/>
                  </a:lnTo>
                  <a:lnTo>
                    <a:pt x="838" y="2012"/>
                  </a:lnTo>
                  <a:lnTo>
                    <a:pt x="829" y="2012"/>
                  </a:lnTo>
                  <a:lnTo>
                    <a:pt x="819" y="2012"/>
                  </a:lnTo>
                  <a:lnTo>
                    <a:pt x="810" y="2012"/>
                  </a:lnTo>
                  <a:lnTo>
                    <a:pt x="801" y="2012"/>
                  </a:lnTo>
                  <a:lnTo>
                    <a:pt x="792" y="2012"/>
                  </a:lnTo>
                  <a:lnTo>
                    <a:pt x="783" y="2012"/>
                  </a:lnTo>
                  <a:lnTo>
                    <a:pt x="745" y="1999"/>
                  </a:lnTo>
                  <a:close/>
                  <a:moveTo>
                    <a:pt x="1059" y="2012"/>
                  </a:moveTo>
                  <a:lnTo>
                    <a:pt x="1017" y="1998"/>
                  </a:lnTo>
                  <a:lnTo>
                    <a:pt x="992" y="1986"/>
                  </a:lnTo>
                  <a:lnTo>
                    <a:pt x="987" y="1973"/>
                  </a:lnTo>
                  <a:lnTo>
                    <a:pt x="1145" y="1804"/>
                  </a:lnTo>
                  <a:lnTo>
                    <a:pt x="1150" y="1782"/>
                  </a:lnTo>
                  <a:lnTo>
                    <a:pt x="1141" y="1767"/>
                  </a:lnTo>
                  <a:lnTo>
                    <a:pt x="1152" y="1763"/>
                  </a:lnTo>
                  <a:lnTo>
                    <a:pt x="1163" y="1760"/>
                  </a:lnTo>
                  <a:lnTo>
                    <a:pt x="1175" y="1757"/>
                  </a:lnTo>
                  <a:lnTo>
                    <a:pt x="1186" y="1754"/>
                  </a:lnTo>
                  <a:lnTo>
                    <a:pt x="1197" y="1752"/>
                  </a:lnTo>
                  <a:lnTo>
                    <a:pt x="1208" y="1750"/>
                  </a:lnTo>
                  <a:lnTo>
                    <a:pt x="1220" y="1749"/>
                  </a:lnTo>
                  <a:lnTo>
                    <a:pt x="1231" y="1748"/>
                  </a:lnTo>
                  <a:lnTo>
                    <a:pt x="1243" y="1748"/>
                  </a:lnTo>
                  <a:lnTo>
                    <a:pt x="1253" y="1748"/>
                  </a:lnTo>
                  <a:lnTo>
                    <a:pt x="1265" y="1749"/>
                  </a:lnTo>
                  <a:lnTo>
                    <a:pt x="1277" y="1751"/>
                  </a:lnTo>
                  <a:lnTo>
                    <a:pt x="1288" y="1754"/>
                  </a:lnTo>
                  <a:lnTo>
                    <a:pt x="1300" y="1757"/>
                  </a:lnTo>
                  <a:lnTo>
                    <a:pt x="1312" y="1762"/>
                  </a:lnTo>
                  <a:lnTo>
                    <a:pt x="1324" y="1767"/>
                  </a:lnTo>
                  <a:lnTo>
                    <a:pt x="1338" y="1782"/>
                  </a:lnTo>
                  <a:lnTo>
                    <a:pt x="1340" y="1802"/>
                  </a:lnTo>
                  <a:lnTo>
                    <a:pt x="1332" y="1818"/>
                  </a:lnTo>
                  <a:lnTo>
                    <a:pt x="1244" y="1905"/>
                  </a:lnTo>
                  <a:lnTo>
                    <a:pt x="1238" y="1868"/>
                  </a:lnTo>
                  <a:lnTo>
                    <a:pt x="1217" y="1854"/>
                  </a:lnTo>
                  <a:lnTo>
                    <a:pt x="1173" y="1847"/>
                  </a:lnTo>
                  <a:lnTo>
                    <a:pt x="1149" y="1858"/>
                  </a:lnTo>
                  <a:lnTo>
                    <a:pt x="1121" y="1882"/>
                  </a:lnTo>
                  <a:lnTo>
                    <a:pt x="1105" y="1914"/>
                  </a:lnTo>
                  <a:lnTo>
                    <a:pt x="1101" y="1949"/>
                  </a:lnTo>
                  <a:lnTo>
                    <a:pt x="1123" y="1964"/>
                  </a:lnTo>
                  <a:lnTo>
                    <a:pt x="1159" y="1977"/>
                  </a:lnTo>
                  <a:lnTo>
                    <a:pt x="1200" y="1973"/>
                  </a:lnTo>
                  <a:lnTo>
                    <a:pt x="1166" y="2001"/>
                  </a:lnTo>
                  <a:lnTo>
                    <a:pt x="1118" y="2013"/>
                  </a:lnTo>
                  <a:lnTo>
                    <a:pt x="1059" y="2012"/>
                  </a:lnTo>
                  <a:close/>
                  <a:moveTo>
                    <a:pt x="700" y="1904"/>
                  </a:moveTo>
                  <a:lnTo>
                    <a:pt x="682" y="1892"/>
                  </a:lnTo>
                  <a:lnTo>
                    <a:pt x="687" y="1870"/>
                  </a:lnTo>
                  <a:lnTo>
                    <a:pt x="700" y="1856"/>
                  </a:lnTo>
                  <a:lnTo>
                    <a:pt x="723" y="1846"/>
                  </a:lnTo>
                  <a:lnTo>
                    <a:pt x="745" y="1856"/>
                  </a:lnTo>
                  <a:lnTo>
                    <a:pt x="745" y="1874"/>
                  </a:lnTo>
                  <a:lnTo>
                    <a:pt x="725" y="1897"/>
                  </a:lnTo>
                  <a:lnTo>
                    <a:pt x="700" y="1904"/>
                  </a:lnTo>
                  <a:close/>
                  <a:moveTo>
                    <a:pt x="497" y="2012"/>
                  </a:moveTo>
                  <a:lnTo>
                    <a:pt x="678" y="1826"/>
                  </a:lnTo>
                  <a:lnTo>
                    <a:pt x="687" y="1811"/>
                  </a:lnTo>
                  <a:lnTo>
                    <a:pt x="688" y="1793"/>
                  </a:lnTo>
                  <a:lnTo>
                    <a:pt x="674" y="1775"/>
                  </a:lnTo>
                  <a:lnTo>
                    <a:pt x="697" y="1762"/>
                  </a:lnTo>
                  <a:lnTo>
                    <a:pt x="707" y="1759"/>
                  </a:lnTo>
                  <a:lnTo>
                    <a:pt x="718" y="1757"/>
                  </a:lnTo>
                  <a:lnTo>
                    <a:pt x="729" y="1754"/>
                  </a:lnTo>
                  <a:lnTo>
                    <a:pt x="739" y="1752"/>
                  </a:lnTo>
                  <a:lnTo>
                    <a:pt x="749" y="1750"/>
                  </a:lnTo>
                  <a:lnTo>
                    <a:pt x="760" y="1749"/>
                  </a:lnTo>
                  <a:lnTo>
                    <a:pt x="771" y="1748"/>
                  </a:lnTo>
                  <a:lnTo>
                    <a:pt x="781" y="1747"/>
                  </a:lnTo>
                  <a:lnTo>
                    <a:pt x="792" y="1748"/>
                  </a:lnTo>
                  <a:lnTo>
                    <a:pt x="802" y="1749"/>
                  </a:lnTo>
                  <a:lnTo>
                    <a:pt x="813" y="1751"/>
                  </a:lnTo>
                  <a:lnTo>
                    <a:pt x="823" y="1752"/>
                  </a:lnTo>
                  <a:lnTo>
                    <a:pt x="834" y="1755"/>
                  </a:lnTo>
                  <a:lnTo>
                    <a:pt x="844" y="1759"/>
                  </a:lnTo>
                  <a:lnTo>
                    <a:pt x="855" y="1764"/>
                  </a:lnTo>
                  <a:lnTo>
                    <a:pt x="865" y="1769"/>
                  </a:lnTo>
                  <a:lnTo>
                    <a:pt x="879" y="1787"/>
                  </a:lnTo>
                  <a:lnTo>
                    <a:pt x="883" y="1802"/>
                  </a:lnTo>
                  <a:lnTo>
                    <a:pt x="878" y="1811"/>
                  </a:lnTo>
                  <a:lnTo>
                    <a:pt x="760" y="1941"/>
                  </a:lnTo>
                  <a:lnTo>
                    <a:pt x="747" y="1948"/>
                  </a:lnTo>
                  <a:lnTo>
                    <a:pt x="735" y="1953"/>
                  </a:lnTo>
                  <a:lnTo>
                    <a:pt x="724" y="1957"/>
                  </a:lnTo>
                  <a:lnTo>
                    <a:pt x="714" y="1960"/>
                  </a:lnTo>
                  <a:lnTo>
                    <a:pt x="704" y="1962"/>
                  </a:lnTo>
                  <a:lnTo>
                    <a:pt x="694" y="1962"/>
                  </a:lnTo>
                  <a:lnTo>
                    <a:pt x="684" y="1963"/>
                  </a:lnTo>
                  <a:lnTo>
                    <a:pt x="675" y="1963"/>
                  </a:lnTo>
                  <a:lnTo>
                    <a:pt x="644" y="1952"/>
                  </a:lnTo>
                  <a:lnTo>
                    <a:pt x="633" y="1941"/>
                  </a:lnTo>
                  <a:lnTo>
                    <a:pt x="561" y="2012"/>
                  </a:lnTo>
                  <a:lnTo>
                    <a:pt x="497" y="2012"/>
                  </a:lnTo>
                  <a:close/>
                </a:path>
              </a:pathLst>
            </a:custGeom>
            <a:solidFill>
              <a:srgbClr val="284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Freeform 8"/>
            <p:cNvSpPr/>
            <p:nvPr/>
          </p:nvSpPr>
          <p:spPr>
            <a:xfrm>
              <a:off x="7821720" y="517680"/>
              <a:ext cx="669960" cy="815760"/>
            </a:xfrm>
            <a:custGeom>
              <a:avLst/>
              <a:gdLst>
                <a:gd name="textAreaLeft" fmla="*/ 0 w 669960"/>
                <a:gd name="textAreaRight" fmla="*/ 670320 w 669960"/>
                <a:gd name="textAreaTop" fmla="*/ 0 h 815760"/>
                <a:gd name="textAreaBottom" fmla="*/ 816120 h 815760"/>
              </a:gdLst>
              <a:ahLst/>
              <a:rect l="textAreaLeft" t="textAreaTop" r="textAreaRight" b="textAreaBottom"/>
              <a:pathLst>
                <a:path w="1053" h="1287">
                  <a:moveTo>
                    <a:pt x="0" y="0"/>
                  </a:moveTo>
                  <a:lnTo>
                    <a:pt x="2" y="55"/>
                  </a:lnTo>
                  <a:lnTo>
                    <a:pt x="4" y="109"/>
                  </a:lnTo>
                  <a:lnTo>
                    <a:pt x="7" y="162"/>
                  </a:lnTo>
                  <a:lnTo>
                    <a:pt x="12" y="214"/>
                  </a:lnTo>
                  <a:lnTo>
                    <a:pt x="16" y="265"/>
                  </a:lnTo>
                  <a:lnTo>
                    <a:pt x="23" y="315"/>
                  </a:lnTo>
                  <a:lnTo>
                    <a:pt x="29" y="364"/>
                  </a:lnTo>
                  <a:lnTo>
                    <a:pt x="37" y="413"/>
                  </a:lnTo>
                  <a:lnTo>
                    <a:pt x="46" y="461"/>
                  </a:lnTo>
                  <a:lnTo>
                    <a:pt x="55" y="507"/>
                  </a:lnTo>
                  <a:lnTo>
                    <a:pt x="66" y="553"/>
                  </a:lnTo>
                  <a:lnTo>
                    <a:pt x="78" y="597"/>
                  </a:lnTo>
                  <a:lnTo>
                    <a:pt x="91" y="641"/>
                  </a:lnTo>
                  <a:lnTo>
                    <a:pt x="104" y="685"/>
                  </a:lnTo>
                  <a:lnTo>
                    <a:pt x="119" y="727"/>
                  </a:lnTo>
                  <a:lnTo>
                    <a:pt x="135" y="768"/>
                  </a:lnTo>
                  <a:lnTo>
                    <a:pt x="152" y="807"/>
                  </a:lnTo>
                  <a:lnTo>
                    <a:pt x="170" y="846"/>
                  </a:lnTo>
                  <a:lnTo>
                    <a:pt x="190" y="885"/>
                  </a:lnTo>
                  <a:lnTo>
                    <a:pt x="210" y="922"/>
                  </a:lnTo>
                  <a:lnTo>
                    <a:pt x="232" y="958"/>
                  </a:lnTo>
                  <a:lnTo>
                    <a:pt x="255" y="993"/>
                  </a:lnTo>
                  <a:lnTo>
                    <a:pt x="279" y="1027"/>
                  </a:lnTo>
                  <a:lnTo>
                    <a:pt x="304" y="1060"/>
                  </a:lnTo>
                  <a:lnTo>
                    <a:pt x="331" y="1092"/>
                  </a:lnTo>
                  <a:lnTo>
                    <a:pt x="360" y="1123"/>
                  </a:lnTo>
                  <a:lnTo>
                    <a:pt x="389" y="1153"/>
                  </a:lnTo>
                  <a:lnTo>
                    <a:pt x="419" y="1182"/>
                  </a:lnTo>
                  <a:lnTo>
                    <a:pt x="452" y="1210"/>
                  </a:lnTo>
                  <a:lnTo>
                    <a:pt x="485" y="1237"/>
                  </a:lnTo>
                  <a:lnTo>
                    <a:pt x="520" y="1262"/>
                  </a:lnTo>
                  <a:lnTo>
                    <a:pt x="556" y="1287"/>
                  </a:lnTo>
                  <a:lnTo>
                    <a:pt x="1053" y="74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4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b601"/>
                </a:solidFill>
                <a:latin typeface="Segoe Semibold"/>
              </a:rPr>
              <a:t>Click to edit the title text format</a:t>
            </a: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520" y="1415880"/>
            <a:ext cx="8388360" cy="390564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443160" indent="-443160">
              <a:lnSpc>
                <a:spcPct val="85000"/>
              </a:lnSpc>
              <a:spcBef>
                <a:spcPts val="11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 Semibol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  <a:p>
            <a:pPr lvl="1" marL="794880" indent="-350280">
              <a:lnSpc>
                <a:spcPct val="85000"/>
              </a:lnSpc>
              <a:spcBef>
                <a:spcPts val="11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 Semibol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  <a:p>
            <a:pPr lvl="2" marL="1166040" indent="-369000">
              <a:lnSpc>
                <a:spcPct val="85000"/>
              </a:lnSpc>
              <a:spcBef>
                <a:spcPts val="11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 Semibol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  <a:p>
            <a:pPr lvl="3" marL="1499040" indent="-331560">
              <a:lnSpc>
                <a:spcPct val="85000"/>
              </a:lnSpc>
              <a:spcBef>
                <a:spcPts val="11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 Semibol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  <a:p>
            <a:pPr lvl="4" marL="1819440" indent="-301320">
              <a:lnSpc>
                <a:spcPct val="85000"/>
              </a:lnSpc>
              <a:spcBef>
                <a:spcPts val="11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 Semibol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  <a:p>
            <a:pPr lvl="5" marL="1819440" indent="-301320">
              <a:lnSpc>
                <a:spcPct val="85000"/>
              </a:lnSpc>
              <a:spcBef>
                <a:spcPts val="11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 Semibol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  <a:p>
            <a:pPr lvl="6" marL="1819440" indent="-301320">
              <a:lnSpc>
                <a:spcPct val="85000"/>
              </a:lnSpc>
              <a:spcBef>
                <a:spcPts val="11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 Semibol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bc5e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112E1-E29B-442F-8DE1-6491127B9FF3}" type="slidenum">
              <a:rPr b="0" lang="en-US" sz="1400" spc="-1" strike="noStrike">
                <a:solidFill>
                  <a:srgbClr val="bc5e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Номер слайда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FFBEC-6748-48AA-AFBB-B1D70AD95864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32"/>
          <p:cNvSpPr/>
          <p:nvPr/>
        </p:nvSpPr>
        <p:spPr>
          <a:xfrm>
            <a:off x="1405080" y="1973160"/>
            <a:ext cx="6622920" cy="21510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ccff99"/>
              </a:gs>
              <a:gs pos="100000">
                <a:srgbClr val="ccffff"/>
              </a:gs>
            </a:gsLst>
            <a:lin ang="5400000"/>
          </a:gradFill>
          <a:ln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Arial"/>
              </a:rPr>
              <a:t>Формиров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2800" spc="-1" strike="noStrike">
                <a:solidFill>
                  <a:srgbClr val="eb1d0d"/>
                </a:solidFill>
                <a:latin typeface="Arial"/>
              </a:rPr>
              <a:t>Отчета о финансовых результатах деятель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Arial"/>
              </a:rPr>
              <a:t>(форма </a:t>
            </a:r>
            <a:r>
              <a:rPr b="1" lang="ru-RU" sz="2800" spc="-1" strike="noStrike">
                <a:solidFill>
                  <a:srgbClr val="eb1d0d"/>
                </a:solidFill>
                <a:latin typeface="Arial"/>
              </a:rPr>
              <a:t>0503121</a:t>
            </a:r>
            <a:r>
              <a:rPr b="1" lang="ru-RU" sz="2800" spc="-1" strike="noStrike">
                <a:solidFill>
                  <a:srgbClr val="660066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22721-F250-424A-9A13-11E4B30D64FB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108000" y="71280"/>
          <a:ext cx="8943840" cy="6656400"/>
        </p:xfrm>
        <a:graphic>
          <a:graphicData uri="http://schemas.openxmlformats.org/drawingml/2006/table">
            <a:tbl>
              <a:tblPr/>
              <a:tblGrid>
                <a:gridCol w="4235400"/>
                <a:gridCol w="430200"/>
                <a:gridCol w="512640"/>
                <a:gridCol w="1255680"/>
                <a:gridCol w="1254240"/>
                <a:gridCol w="1255680"/>
              </a:tblGrid>
              <a:tr h="55332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именование показател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д стро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д по КОСГ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юджетная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ятельност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иносящая дох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ятельност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редства во временном распоряжен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16560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24948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асход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98</a:t>
                      </a: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8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8 88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21888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плата труда и начисления на оплату труд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2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37368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 том числе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заработная плат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6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21888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числения на выплаты по оплате труд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21888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иобретение услуг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37368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 том числе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слуги связ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21888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транспортные услуг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21888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ммунальные услуг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5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21888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рендная плата за пользование имущество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2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21888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слуги по содержанию имуществ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21888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очие услуг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21888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бслуживание долговых обязательст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37368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 том числе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бслуживание внутренних долговых обязательст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21888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бслуживание внешних долговых обязательст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21888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езвозмездные и безвозвратные перечисления организация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52848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 том числе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езвозмездные и безвозвратные перечисления государственным и муниципальных организация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42408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езвозвратные и безвозмездные перечисления организациям, за исключением государственных и муниципальных организац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19116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езвозвратные и безвозмездные перечисления бюджета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44712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 том числе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еречисления другим бюджетам бюджетной системы Российской Федерац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5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31788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еречисления наднациональным организациям и правительствам иностранных государст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5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18864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еречисления международным организация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08000" y="714240"/>
          <a:ext cx="7961400" cy="2355840"/>
        </p:xfrm>
        <a:graphic>
          <a:graphicData uri="http://schemas.openxmlformats.org/drawingml/2006/table">
            <a:tbl>
              <a:tblPr/>
              <a:tblGrid>
                <a:gridCol w="4081320"/>
                <a:gridCol w="1089000"/>
                <a:gridCol w="1362240"/>
                <a:gridCol w="1428840"/>
              </a:tblGrid>
              <a:tr h="2487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именование операц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мма, ру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рреспонденция сче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8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бе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еди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исаны фактические расходы по оказанным услугам, в том числе на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 38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01011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10604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плату труд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числения на оплату тру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3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чие услуг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2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мортизация основного средств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сходование материальных запас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8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7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33" name="Text Box 262"/>
          <p:cNvSpPr/>
          <p:nvPr/>
        </p:nvSpPr>
        <p:spPr>
          <a:xfrm>
            <a:off x="108000" y="285840"/>
            <a:ext cx="7559640" cy="2653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600" spc="-1" strike="noStrike">
                <a:solidFill>
                  <a:srgbClr val="660066"/>
                </a:solidFill>
                <a:latin typeface="Arial"/>
              </a:rPr>
              <a:t>В течении года были следующие операции по счету 21060444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500"/>
                            </p:stCondLst>
                            <p:childTnLst>
                              <p:par>
                                <p:cTn id="11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AE2B7-75A2-400A-A022-B365C4A4A6F2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0" y="34920"/>
          <a:ext cx="9144000" cy="4537080"/>
        </p:xfrm>
        <a:graphic>
          <a:graphicData uri="http://schemas.openxmlformats.org/drawingml/2006/table">
            <a:tbl>
              <a:tblPr/>
              <a:tblGrid>
                <a:gridCol w="4329000"/>
                <a:gridCol w="441360"/>
                <a:gridCol w="525600"/>
                <a:gridCol w="1282680"/>
                <a:gridCol w="1282680"/>
                <a:gridCol w="1282680"/>
              </a:tblGrid>
              <a:tr h="65556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именование показател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д стро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д по КОСГ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юджетна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ятель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иносящая дох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ятель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редства во временном распоряжен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19116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19116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оциальное обеспече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50076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 том числе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собия по социальному страхованию насел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19116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собия по социальной помощи населени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6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34596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оциальные пособия, выплачиваемые организациями сектора государственного управл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6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24948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асходы по операциям с актив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85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50076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 том числе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мортизация основных средств и нематериальных актив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24948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асходование материальных запас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6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7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34596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чрезвычайные расходы по операциям с актив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6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7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21888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очие расход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372240">
                <a:tc>
                  <a:txBody>
                    <a:bodyPr lIns="36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Чистый операционный результат </a:t>
                      </a: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(стр291 –сьр.292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- 198 83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124 7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486360">
                <a:tc>
                  <a:txBody>
                    <a:bodyPr lIns="36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перационный результат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о налогообложени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 стр.010 – стр. 150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9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- 198 83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1263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279720">
                <a:tc>
                  <a:txBody>
                    <a:bodyPr lIns="36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лог на прибыл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9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15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36" name=""/>
          <p:cNvGraphicFramePr/>
          <p:nvPr/>
        </p:nvGraphicFramePr>
        <p:xfrm>
          <a:off x="108000" y="4543560"/>
          <a:ext cx="8856720" cy="1100160"/>
        </p:xfrm>
        <a:graphic>
          <a:graphicData uri="http://schemas.openxmlformats.org/drawingml/2006/table">
            <a:tbl>
              <a:tblPr/>
              <a:tblGrid>
                <a:gridCol w="4403520"/>
                <a:gridCol w="355680"/>
                <a:gridCol w="496800"/>
                <a:gridCol w="1163880"/>
                <a:gridCol w="1252440"/>
                <a:gridCol w="1184400"/>
              </a:tblGrid>
              <a:tr h="655560"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именование показател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д стро-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 КОСГ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юджетна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ятель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иносящая дох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ятель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редства во временном распоряжен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  <a:tr h="191160"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  <a:tr h="249480"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Доход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- 7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45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106200" y="5670720"/>
          <a:ext cx="8872560" cy="1116000"/>
        </p:xfrm>
        <a:graphic>
          <a:graphicData uri="http://schemas.openxmlformats.org/drawingml/2006/table">
            <a:tbl>
              <a:tblPr/>
              <a:tblGrid>
                <a:gridCol w="4249800"/>
                <a:gridCol w="503280"/>
                <a:gridCol w="504720"/>
                <a:gridCol w="1167120"/>
                <a:gridCol w="1250640"/>
                <a:gridCol w="1197000"/>
              </a:tblGrid>
              <a:tr h="655560"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именование показател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д стро-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д по КОСГ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юджетна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ятель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иносящая дохо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ятель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редства во временном распоряжен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191160"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279720"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асход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2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98</a:t>
                      </a: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08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88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</a:tbl>
          </a:graphicData>
        </a:graphic>
      </p:graphicFrame>
      <p:sp>
        <p:nvSpPr>
          <p:cNvPr id="138" name="Rectangle 195"/>
          <p:cNvSpPr/>
          <p:nvPr/>
        </p:nvSpPr>
        <p:spPr>
          <a:xfrm>
            <a:off x="71280" y="4784400"/>
            <a:ext cx="8964720" cy="50868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b601"/>
              </a:gs>
              <a:gs pos="100000">
                <a:srgbClr val="ccffff"/>
              </a:gs>
            </a:gsLst>
            <a:lin ang="5400000"/>
          </a:gradFill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00000"/>
                </a:solidFill>
                <a:latin typeface="Arial Cyr"/>
              </a:rPr>
              <a:t>Чистый операционный результат</a:t>
            </a:r>
            <a:r>
              <a:rPr b="1" lang="ru-RU" sz="1600" spc="-1" strike="noStrike">
                <a:solidFill>
                  <a:srgbClr val="9900cc"/>
                </a:solidFill>
                <a:latin typeface="Arial Cyr"/>
              </a:rPr>
              <a:t> </a:t>
            </a:r>
            <a:r>
              <a:rPr b="1" lang="ru-RU" sz="1600" spc="-1" strike="noStrike">
                <a:solidFill>
                  <a:srgbClr val="ff0000"/>
                </a:solidFill>
                <a:latin typeface="Arial Cyr"/>
              </a:rPr>
              <a:t>(строка 290)</a:t>
            </a:r>
            <a:r>
              <a:rPr b="1" lang="ru-RU" sz="1600" spc="-1" strike="noStrike">
                <a:solidFill>
                  <a:srgbClr val="9900cc"/>
                </a:solidFill>
                <a:latin typeface="Arial Cyr"/>
              </a:rPr>
              <a:t>  =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cc"/>
                </a:solidFill>
                <a:latin typeface="Arial Cyr"/>
              </a:rPr>
              <a:t> </a:t>
            </a:r>
            <a:r>
              <a:rPr b="1" lang="ru-RU" sz="1600" spc="-1" strike="noStrike">
                <a:solidFill>
                  <a:srgbClr val="ff0000"/>
                </a:solidFill>
                <a:latin typeface="Arial Cyr"/>
              </a:rPr>
              <a:t>(строка 291)</a:t>
            </a:r>
            <a:r>
              <a:rPr b="1" lang="ru-RU" sz="1600" spc="-1" strike="noStrike">
                <a:solidFill>
                  <a:srgbClr val="9900cc"/>
                </a:solidFill>
                <a:latin typeface="Arial Cyr"/>
              </a:rPr>
              <a:t> – </a:t>
            </a:r>
            <a:r>
              <a:rPr b="1" lang="ru-RU" sz="1600" spc="-1" strike="noStrike">
                <a:solidFill>
                  <a:srgbClr val="ff0000"/>
                </a:solidFill>
                <a:latin typeface="Arial Cyr"/>
              </a:rPr>
              <a:t>(строка</a:t>
            </a:r>
            <a:r>
              <a:rPr b="1" lang="en-US" sz="1600" spc="-1" strike="noStrike">
                <a:solidFill>
                  <a:srgbClr val="ff0000"/>
                </a:solidFill>
                <a:latin typeface="Arial Cyr"/>
              </a:rPr>
              <a:t> </a:t>
            </a:r>
            <a:r>
              <a:rPr b="1" lang="ru-RU" sz="1600" spc="-1" strike="noStrike">
                <a:solidFill>
                  <a:srgbClr val="ff0000"/>
                </a:solidFill>
                <a:latin typeface="Arial Cyr"/>
              </a:rPr>
              <a:t>292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0E3DA-F975-4076-8E9C-8064ECE6FE39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106200" y="220680"/>
          <a:ext cx="8964720" cy="4894200"/>
        </p:xfrm>
        <a:graphic>
          <a:graphicData uri="http://schemas.openxmlformats.org/drawingml/2006/table">
            <a:tbl>
              <a:tblPr/>
              <a:tblGrid>
                <a:gridCol w="4246560"/>
                <a:gridCol w="430200"/>
                <a:gridCol w="511200"/>
                <a:gridCol w="1262160"/>
                <a:gridCol w="1254240"/>
                <a:gridCol w="1260360"/>
              </a:tblGrid>
              <a:tr h="655560"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именование показател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д стро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д по КОСГ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юджетна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ятель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иносящая доход деятель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редства во временном распоряжен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1160"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4880"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перации с нефинансовыми актив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4880">
                <a:tc>
                  <a:txBody>
                    <a:bodyPr lIns="18000" rIns="36000" tIns="36000" bIns="36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Чистое поступление основных средст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9680">
                <a:tc>
                  <a:txBody>
                    <a:bodyPr lIns="18000" rIns="36000" tIns="36000" bIns="36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 том числе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величение стоимости основных средст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4880">
                <a:tc>
                  <a:txBody>
                    <a:bodyPr lIns="18000" rIns="36000" tIns="36000" bIns="36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меньшение стоимости основных средст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4880">
                <a:tc>
                  <a:txBody>
                    <a:bodyPr lIns="18000" rIns="36000" tIns="36000" bIns="36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Чистое поступление нематериальных актив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9680">
                <a:tc>
                  <a:txBody>
                    <a:bodyPr lIns="18000" rIns="36000" tIns="36000" bIns="36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 том числе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величение стоимости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материальных актив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1960">
                <a:tc>
                  <a:txBody>
                    <a:bodyPr lIns="18000" rIns="36000" tIns="36000" bIns="36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меньшение стоимости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материальных актив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4880">
                <a:tc>
                  <a:txBody>
                    <a:bodyPr lIns="18000" rIns="36000" tIns="36000" bIns="36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Чистое поступление непроизведенных актив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6760">
                <a:tc>
                  <a:txBody>
                    <a:bodyPr lIns="18000" rIns="36000" tIns="36000" bIns="36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 том числе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величение стоимости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произведенных актив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1960">
                <a:tc>
                  <a:txBody>
                    <a:bodyPr lIns="18000" rIns="36000" tIns="36000" bIns="36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меньшение стоимости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произведенных актив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5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4880">
                <a:tc>
                  <a:txBody>
                    <a:bodyPr lIns="18000" rIns="36000" tIns="36000" bIns="36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Чистое поступление материальных запас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9680">
                <a:tc>
                  <a:txBody>
                    <a:bodyPr lIns="18000" rIns="36000" tIns="36000" bIns="36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 том числе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величение стоимости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териальных запас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4880">
                <a:tc>
                  <a:txBody>
                    <a:bodyPr lIns="18000" rIns="36000" tIns="36000" bIns="36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меньшение стоимости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териальных запас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6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41" name="Rectangle 337"/>
          <p:cNvSpPr/>
          <p:nvPr/>
        </p:nvSpPr>
        <p:spPr>
          <a:xfrm>
            <a:off x="106200" y="4660920"/>
            <a:ext cx="8964720" cy="227484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5400000"/>
          </a:gradFill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Стр. 321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=  сч. 0101 + сч. 010601  + сч. 010701     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Стр.322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= сч.0101 + сч. 0104 + сч. 010601 + сч. 0107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Стр. 331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=  сч 010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+ сч. 10602 + 10702                 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Стр.332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=  сч.010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+ сч.104 +  сч.10602 + сч. 10702      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Стр. 351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= сч. 010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+ сч.010603                               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Стр. 352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= сч. 010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+ сч.010603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Стр. 361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= сч. 0105 + сч.010604 + 010703               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Стр. 362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= сч. 0105 + сч.010604 + сч. 010703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338"/>
          <p:cNvSpPr/>
          <p:nvPr/>
        </p:nvSpPr>
        <p:spPr>
          <a:xfrm>
            <a:off x="365040" y="220680"/>
            <a:ext cx="7921800" cy="5695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5400000"/>
          </a:gradFill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Arial Cyr"/>
              </a:rPr>
              <a:t>Строка 290 «Чистый операционный результат»: =</a:t>
            </a:r>
            <a:r>
              <a:rPr b="1" lang="ru-RU" sz="1200" spc="-1" strike="noStrike">
                <a:solidFill>
                  <a:srgbClr val="ff0000"/>
                </a:solidFill>
                <a:latin typeface="Arial Cyr"/>
              </a:rPr>
              <a:t> стр.</a:t>
            </a:r>
            <a:r>
              <a:rPr b="1" lang="en-US" sz="1200" spc="-1" strike="noStrike">
                <a:solidFill>
                  <a:srgbClr val="ff0000"/>
                </a:solidFill>
                <a:latin typeface="Arial Cyr"/>
              </a:rPr>
              <a:t>291</a:t>
            </a:r>
            <a:r>
              <a:rPr b="1" lang="ru-RU" sz="1200" spc="-1" strike="noStrike">
                <a:solidFill>
                  <a:srgbClr val="ff0000"/>
                </a:solidFill>
                <a:latin typeface="Arial Cyr"/>
              </a:rPr>
              <a:t> – стр.</a:t>
            </a:r>
            <a:r>
              <a:rPr b="1" lang="en-US" sz="1200" spc="-1" strike="noStrike">
                <a:solidFill>
                  <a:srgbClr val="ff0000"/>
                </a:solidFill>
                <a:latin typeface="Arial Cyr"/>
              </a:rPr>
              <a:t>29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Arial"/>
              </a:rPr>
              <a:t>Строка 290 «Чистый операционный результат»: =</a:t>
            </a: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 стр.310 + стр.390 – стр.510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=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стр.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310 + </a:t>
            </a: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стр.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3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339"/>
          <p:cNvSpPr/>
          <p:nvPr/>
        </p:nvSpPr>
        <p:spPr>
          <a:xfrm>
            <a:off x="5075280" y="1202040"/>
            <a:ext cx="2952720" cy="20448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5400000"/>
          </a:gradFill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0000"/>
                </a:solidFill>
                <a:latin typeface="Arial Cyr"/>
              </a:rPr>
              <a:t>    </a:t>
            </a:r>
            <a:r>
              <a:rPr b="1" i="1" lang="ru-RU" sz="1200" spc="-1" strike="noStrike">
                <a:solidFill>
                  <a:srgbClr val="ff0000"/>
                </a:solidFill>
                <a:latin typeface="Arial Cyr"/>
              </a:rPr>
              <a:t>Строка </a:t>
            </a:r>
            <a:r>
              <a:rPr b="1" i="1" lang="en-US" sz="1200" spc="-1" strike="noStrike">
                <a:solidFill>
                  <a:srgbClr val="ff0000"/>
                </a:solidFill>
                <a:latin typeface="Arial Cyr"/>
              </a:rPr>
              <a:t>320</a:t>
            </a:r>
            <a:r>
              <a:rPr b="1" i="1" lang="ru-RU" sz="1200" spc="-1" strike="noStrike">
                <a:solidFill>
                  <a:srgbClr val="ff0000"/>
                </a:solidFill>
                <a:latin typeface="Arial Cyr"/>
              </a:rPr>
              <a:t> : =</a:t>
            </a:r>
            <a:r>
              <a:rPr b="1" lang="ru-RU" sz="1200" spc="-1" strike="noStrike">
                <a:solidFill>
                  <a:srgbClr val="ff0000"/>
                </a:solidFill>
                <a:latin typeface="Arial Cyr"/>
              </a:rPr>
              <a:t> стр.</a:t>
            </a:r>
            <a:r>
              <a:rPr b="1" lang="en-US" sz="1200" spc="-1" strike="noStrike">
                <a:solidFill>
                  <a:srgbClr val="ff0000"/>
                </a:solidFill>
                <a:latin typeface="Arial Cyr"/>
              </a:rPr>
              <a:t>321</a:t>
            </a:r>
            <a:r>
              <a:rPr b="1" lang="ru-RU" sz="1200" spc="-1" strike="noStrike">
                <a:solidFill>
                  <a:srgbClr val="ff0000"/>
                </a:solidFill>
                <a:latin typeface="Arial Cyr"/>
              </a:rPr>
              <a:t> – стр.</a:t>
            </a:r>
            <a:r>
              <a:rPr b="1" lang="en-US" sz="1200" spc="-1" strike="noStrike">
                <a:solidFill>
                  <a:srgbClr val="ff0000"/>
                </a:solidFill>
                <a:latin typeface="Arial Cyr"/>
              </a:rPr>
              <a:t>3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340"/>
          <p:cNvSpPr/>
          <p:nvPr/>
        </p:nvSpPr>
        <p:spPr>
          <a:xfrm>
            <a:off x="4930920" y="914400"/>
            <a:ext cx="3817800" cy="20448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5400000"/>
          </a:gradFill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Arial"/>
              </a:rPr>
              <a:t>Стр. </a:t>
            </a:r>
            <a:r>
              <a:rPr b="1" i="1" lang="en-US" sz="1200" spc="-1" strike="noStrike">
                <a:solidFill>
                  <a:srgbClr val="ff0000"/>
                </a:solidFill>
                <a:latin typeface="Arial"/>
              </a:rPr>
              <a:t>310</a:t>
            </a:r>
            <a:r>
              <a:rPr b="1" i="1" lang="ru-RU" sz="1200" spc="-1" strike="noStrike">
                <a:solidFill>
                  <a:srgbClr val="ff0000"/>
                </a:solidFill>
                <a:latin typeface="Arial"/>
              </a:rPr>
              <a:t>: =</a:t>
            </a: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 стр.3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20</a:t>
            </a: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 + стр.3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30+c</a:t>
            </a: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тр.350+стр.3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343"/>
          <p:cNvSpPr/>
          <p:nvPr/>
        </p:nvSpPr>
        <p:spPr>
          <a:xfrm>
            <a:off x="5435640" y="2067120"/>
            <a:ext cx="2952720" cy="20448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5400000"/>
          </a:gradFill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0000"/>
                </a:solidFill>
                <a:latin typeface="Arial Cyr"/>
              </a:rPr>
              <a:t>    </a:t>
            </a:r>
            <a:r>
              <a:rPr b="1" i="1" lang="ru-RU" sz="1200" spc="-1" strike="noStrike">
                <a:solidFill>
                  <a:srgbClr val="ff0000"/>
                </a:solidFill>
                <a:latin typeface="Arial Cyr"/>
              </a:rPr>
              <a:t>Строка </a:t>
            </a:r>
            <a:r>
              <a:rPr b="1" i="1" lang="en-US" sz="1200" spc="-1" strike="noStrike">
                <a:solidFill>
                  <a:srgbClr val="ff0000"/>
                </a:solidFill>
                <a:latin typeface="Arial Cyr"/>
              </a:rPr>
              <a:t>3</a:t>
            </a:r>
            <a:r>
              <a:rPr b="1" i="1" lang="ru-RU" sz="1200" spc="-1" strike="noStrike">
                <a:solidFill>
                  <a:srgbClr val="ff0000"/>
                </a:solidFill>
                <a:latin typeface="Arial Cyr"/>
              </a:rPr>
              <a:t>3</a:t>
            </a:r>
            <a:r>
              <a:rPr b="1" i="1" lang="en-US" sz="1200" spc="-1" strike="noStrike">
                <a:solidFill>
                  <a:srgbClr val="ff0000"/>
                </a:solidFill>
                <a:latin typeface="Arial Cyr"/>
              </a:rPr>
              <a:t>0</a:t>
            </a:r>
            <a:r>
              <a:rPr b="1" i="1" lang="ru-RU" sz="1200" spc="-1" strike="noStrike">
                <a:solidFill>
                  <a:srgbClr val="ff0000"/>
                </a:solidFill>
                <a:latin typeface="Arial Cyr"/>
              </a:rPr>
              <a:t> : =</a:t>
            </a:r>
            <a:r>
              <a:rPr b="1" lang="ru-RU" sz="1200" spc="-1" strike="noStrike">
                <a:solidFill>
                  <a:srgbClr val="ff0000"/>
                </a:solidFill>
                <a:latin typeface="Arial Cyr"/>
              </a:rPr>
              <a:t> стр.</a:t>
            </a:r>
            <a:r>
              <a:rPr b="1" lang="en-US" sz="1200" spc="-1" strike="noStrike">
                <a:solidFill>
                  <a:srgbClr val="ff0000"/>
                </a:solidFill>
                <a:latin typeface="Arial Cyr"/>
              </a:rPr>
              <a:t>3</a:t>
            </a:r>
            <a:r>
              <a:rPr b="1" lang="ru-RU" sz="1200" spc="-1" strike="noStrike">
                <a:solidFill>
                  <a:srgbClr val="ff0000"/>
                </a:solidFill>
                <a:latin typeface="Arial Cyr"/>
              </a:rPr>
              <a:t>3</a:t>
            </a:r>
            <a:r>
              <a:rPr b="1" lang="en-US" sz="1200" spc="-1" strike="noStrike">
                <a:solidFill>
                  <a:srgbClr val="ff0000"/>
                </a:solidFill>
                <a:latin typeface="Arial Cyr"/>
              </a:rPr>
              <a:t>1</a:t>
            </a:r>
            <a:r>
              <a:rPr b="1" lang="ru-RU" sz="1200" spc="-1" strike="noStrike">
                <a:solidFill>
                  <a:srgbClr val="ff0000"/>
                </a:solidFill>
                <a:latin typeface="Arial Cyr"/>
              </a:rPr>
              <a:t> – стр.</a:t>
            </a:r>
            <a:r>
              <a:rPr b="1" lang="en-US" sz="1200" spc="-1" strike="noStrike">
                <a:solidFill>
                  <a:srgbClr val="ff0000"/>
                </a:solidFill>
                <a:latin typeface="Arial Cyr"/>
              </a:rPr>
              <a:t>3</a:t>
            </a:r>
            <a:r>
              <a:rPr b="1" lang="ru-RU" sz="1200" spc="-1" strike="noStrike">
                <a:solidFill>
                  <a:srgbClr val="ff0000"/>
                </a:solidFill>
                <a:latin typeface="Arial Cyr"/>
              </a:rPr>
              <a:t>3</a:t>
            </a:r>
            <a:r>
              <a:rPr b="1" lang="en-US" sz="1200" spc="-1" strike="noStrike">
                <a:solidFill>
                  <a:srgbClr val="ff0000"/>
                </a:solidFill>
                <a:latin typeface="Arial Cyr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344"/>
          <p:cNvSpPr/>
          <p:nvPr/>
        </p:nvSpPr>
        <p:spPr>
          <a:xfrm>
            <a:off x="5435640" y="2930760"/>
            <a:ext cx="2952720" cy="20448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5400000"/>
          </a:gradFill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0000"/>
                </a:solidFill>
                <a:latin typeface="Arial Cyr"/>
              </a:rPr>
              <a:t>    </a:t>
            </a:r>
            <a:r>
              <a:rPr b="1" i="1" lang="ru-RU" sz="1200" spc="-1" strike="noStrike">
                <a:solidFill>
                  <a:srgbClr val="ff0000"/>
                </a:solidFill>
                <a:latin typeface="Arial Cyr"/>
              </a:rPr>
              <a:t>Строка </a:t>
            </a:r>
            <a:r>
              <a:rPr b="1" i="1" lang="en-US" sz="1200" spc="-1" strike="noStrike">
                <a:solidFill>
                  <a:srgbClr val="ff0000"/>
                </a:solidFill>
                <a:latin typeface="Arial Cyr"/>
              </a:rPr>
              <a:t>3</a:t>
            </a:r>
            <a:r>
              <a:rPr b="1" i="1" lang="ru-RU" sz="1200" spc="-1" strike="noStrike">
                <a:solidFill>
                  <a:srgbClr val="ff0000"/>
                </a:solidFill>
                <a:latin typeface="Arial Cyr"/>
              </a:rPr>
              <a:t>5</a:t>
            </a:r>
            <a:r>
              <a:rPr b="1" i="1" lang="en-US" sz="1200" spc="-1" strike="noStrike">
                <a:solidFill>
                  <a:srgbClr val="ff0000"/>
                </a:solidFill>
                <a:latin typeface="Arial Cyr"/>
              </a:rPr>
              <a:t>0</a:t>
            </a:r>
            <a:r>
              <a:rPr b="1" i="1" lang="ru-RU" sz="1200" spc="-1" strike="noStrike">
                <a:solidFill>
                  <a:srgbClr val="ff0000"/>
                </a:solidFill>
                <a:latin typeface="Arial Cyr"/>
              </a:rPr>
              <a:t> : =</a:t>
            </a:r>
            <a:r>
              <a:rPr b="1" lang="ru-RU" sz="1200" spc="-1" strike="noStrike">
                <a:solidFill>
                  <a:srgbClr val="ff0000"/>
                </a:solidFill>
                <a:latin typeface="Arial Cyr"/>
              </a:rPr>
              <a:t> стр.</a:t>
            </a:r>
            <a:r>
              <a:rPr b="1" lang="en-US" sz="1200" spc="-1" strike="noStrike">
                <a:solidFill>
                  <a:srgbClr val="ff0000"/>
                </a:solidFill>
                <a:latin typeface="Arial Cyr"/>
              </a:rPr>
              <a:t>3</a:t>
            </a:r>
            <a:r>
              <a:rPr b="1" lang="ru-RU" sz="1200" spc="-1" strike="noStrike">
                <a:solidFill>
                  <a:srgbClr val="ff0000"/>
                </a:solidFill>
                <a:latin typeface="Arial Cyr"/>
              </a:rPr>
              <a:t>5</a:t>
            </a:r>
            <a:r>
              <a:rPr b="1" lang="en-US" sz="1200" spc="-1" strike="noStrike">
                <a:solidFill>
                  <a:srgbClr val="ff0000"/>
                </a:solidFill>
                <a:latin typeface="Arial Cyr"/>
              </a:rPr>
              <a:t>1</a:t>
            </a:r>
            <a:r>
              <a:rPr b="1" lang="ru-RU" sz="1200" spc="-1" strike="noStrike">
                <a:solidFill>
                  <a:srgbClr val="ff0000"/>
                </a:solidFill>
                <a:latin typeface="Arial Cyr"/>
              </a:rPr>
              <a:t> – стр.</a:t>
            </a:r>
            <a:r>
              <a:rPr b="1" lang="en-US" sz="1200" spc="-1" strike="noStrike">
                <a:solidFill>
                  <a:srgbClr val="ff0000"/>
                </a:solidFill>
                <a:latin typeface="Arial Cyr"/>
              </a:rPr>
              <a:t>3</a:t>
            </a:r>
            <a:r>
              <a:rPr b="1" lang="ru-RU" sz="1200" spc="-1" strike="noStrike">
                <a:solidFill>
                  <a:srgbClr val="ff0000"/>
                </a:solidFill>
                <a:latin typeface="Arial Cyr"/>
              </a:rPr>
              <a:t>5</a:t>
            </a:r>
            <a:r>
              <a:rPr b="1" lang="en-US" sz="1200" spc="-1" strike="noStrike">
                <a:solidFill>
                  <a:srgbClr val="ff0000"/>
                </a:solidFill>
                <a:latin typeface="Arial Cyr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345"/>
          <p:cNvSpPr/>
          <p:nvPr/>
        </p:nvSpPr>
        <p:spPr>
          <a:xfrm>
            <a:off x="5506920" y="3865680"/>
            <a:ext cx="2952720" cy="20448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5400000"/>
          </a:gradFill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0000"/>
                </a:solidFill>
                <a:latin typeface="Arial Cyr"/>
              </a:rPr>
              <a:t>    </a:t>
            </a:r>
            <a:r>
              <a:rPr b="1" i="1" lang="ru-RU" sz="1200" spc="-1" strike="noStrike">
                <a:solidFill>
                  <a:srgbClr val="ff0000"/>
                </a:solidFill>
                <a:latin typeface="Arial Cyr"/>
              </a:rPr>
              <a:t>Строка </a:t>
            </a:r>
            <a:r>
              <a:rPr b="1" i="1" lang="en-US" sz="1200" spc="-1" strike="noStrike">
                <a:solidFill>
                  <a:srgbClr val="ff0000"/>
                </a:solidFill>
                <a:latin typeface="Arial Cyr"/>
              </a:rPr>
              <a:t>3</a:t>
            </a:r>
            <a:r>
              <a:rPr b="1" i="1" lang="ru-RU" sz="1200" spc="-1" strike="noStrike">
                <a:solidFill>
                  <a:srgbClr val="ff0000"/>
                </a:solidFill>
                <a:latin typeface="Arial Cyr"/>
              </a:rPr>
              <a:t>6</a:t>
            </a:r>
            <a:r>
              <a:rPr b="1" i="1" lang="en-US" sz="1200" spc="-1" strike="noStrike">
                <a:solidFill>
                  <a:srgbClr val="ff0000"/>
                </a:solidFill>
                <a:latin typeface="Arial Cyr"/>
              </a:rPr>
              <a:t>0</a:t>
            </a:r>
            <a:r>
              <a:rPr b="1" i="1" lang="ru-RU" sz="1200" spc="-1" strike="noStrike">
                <a:solidFill>
                  <a:srgbClr val="ff0000"/>
                </a:solidFill>
                <a:latin typeface="Arial Cyr"/>
              </a:rPr>
              <a:t> : =</a:t>
            </a:r>
            <a:r>
              <a:rPr b="1" lang="ru-RU" sz="1200" spc="-1" strike="noStrike">
                <a:solidFill>
                  <a:srgbClr val="ff0000"/>
                </a:solidFill>
                <a:latin typeface="Arial Cyr"/>
              </a:rPr>
              <a:t> стр.</a:t>
            </a:r>
            <a:r>
              <a:rPr b="1" lang="en-US" sz="1200" spc="-1" strike="noStrike">
                <a:solidFill>
                  <a:srgbClr val="ff0000"/>
                </a:solidFill>
                <a:latin typeface="Arial Cyr"/>
              </a:rPr>
              <a:t>3</a:t>
            </a:r>
            <a:r>
              <a:rPr b="1" lang="ru-RU" sz="1200" spc="-1" strike="noStrike">
                <a:solidFill>
                  <a:srgbClr val="ff0000"/>
                </a:solidFill>
                <a:latin typeface="Arial Cyr"/>
              </a:rPr>
              <a:t>6</a:t>
            </a:r>
            <a:r>
              <a:rPr b="1" lang="en-US" sz="1200" spc="-1" strike="noStrike">
                <a:solidFill>
                  <a:srgbClr val="ff0000"/>
                </a:solidFill>
                <a:latin typeface="Arial Cyr"/>
              </a:rPr>
              <a:t>1</a:t>
            </a:r>
            <a:r>
              <a:rPr b="1" lang="ru-RU" sz="1200" spc="-1" strike="noStrike">
                <a:solidFill>
                  <a:srgbClr val="ff0000"/>
                </a:solidFill>
                <a:latin typeface="Arial Cyr"/>
              </a:rPr>
              <a:t> – стр.</a:t>
            </a:r>
            <a:r>
              <a:rPr b="1" lang="en-US" sz="1200" spc="-1" strike="noStrike">
                <a:solidFill>
                  <a:srgbClr val="ff0000"/>
                </a:solidFill>
                <a:latin typeface="Arial Cyr"/>
              </a:rPr>
              <a:t>3</a:t>
            </a:r>
            <a:r>
              <a:rPr b="1" lang="ru-RU" sz="1200" spc="-1" strike="noStrike">
                <a:solidFill>
                  <a:srgbClr val="ff0000"/>
                </a:solidFill>
                <a:latin typeface="Arial Cyr"/>
              </a:rPr>
              <a:t>6</a:t>
            </a:r>
            <a:r>
              <a:rPr b="1" lang="en-US" sz="1200" spc="-1" strike="noStrike">
                <a:solidFill>
                  <a:srgbClr val="ff0000"/>
                </a:solidFill>
                <a:latin typeface="Arial Cyr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3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3000"/>
                            </p:stCondLst>
                            <p:childTnLst>
                              <p:par>
                                <p:cTn id="1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3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6000"/>
                            </p:stCondLst>
                            <p:childTnLst>
                              <p:par>
                                <p:cTn id="1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3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9000"/>
                            </p:stCondLst>
                            <p:childTnLst>
                              <p:par>
                                <p:cTn id="1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3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12000"/>
                            </p:stCondLst>
                            <p:childTnLst>
                              <p:par>
                                <p:cTn id="1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3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5000"/>
                            </p:stCondLst>
                            <p:childTnLst>
                              <p:par>
                                <p:cTn id="1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3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18000"/>
                            </p:stCondLst>
                            <p:childTnLst>
                              <p:par>
                                <p:cTn id="1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3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64D4A-35F1-4621-A952-E7FDBB898BE9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179280" y="44280"/>
          <a:ext cx="8832960" cy="2017800"/>
        </p:xfrm>
        <a:graphic>
          <a:graphicData uri="http://schemas.openxmlformats.org/drawingml/2006/table">
            <a:tbl>
              <a:tblPr/>
              <a:tblGrid>
                <a:gridCol w="4183200"/>
                <a:gridCol w="423720"/>
                <a:gridCol w="506520"/>
                <a:gridCol w="1241280"/>
                <a:gridCol w="1238400"/>
                <a:gridCol w="1239840"/>
              </a:tblGrid>
              <a:tr h="655560"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Наименование показател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Код стро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Код по КОСГ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Бюджетна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деятель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Приносящая дохо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деятель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Средства во временном распоряжен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1160"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4880"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Операции с нефинансовыми актив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3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5480">
                <a:tc>
                  <a:txBody>
                    <a:bodyPr lIns="18000" rIns="36000" tIns="36000" bIns="36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Чистое поступление основных средст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3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8 1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0 9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66560">
                <a:tc>
                  <a:txBody>
                    <a:bodyPr lIns="18000" rIns="36000" tIns="36000" bIns="36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             </a:t>
                      </a: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в том числе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увеличение стоимости основных средст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3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3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4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79 8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4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57 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5480">
                <a:tc>
                  <a:txBody>
                    <a:bodyPr lIns="18000" rIns="36000" tIns="36000" bIns="36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             </a:t>
                      </a: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уменьшение стоимости основных средст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3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4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31 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36 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0" name=""/>
          <p:cNvGraphicFramePr/>
          <p:nvPr/>
        </p:nvGraphicFramePr>
        <p:xfrm>
          <a:off x="50760" y="2654280"/>
          <a:ext cx="8913960" cy="4173480"/>
        </p:xfrm>
        <a:graphic>
          <a:graphicData uri="http://schemas.openxmlformats.org/drawingml/2006/table">
            <a:tbl>
              <a:tblPr/>
              <a:tblGrid>
                <a:gridCol w="849240"/>
                <a:gridCol w="741600"/>
                <a:gridCol w="760320"/>
                <a:gridCol w="762120"/>
                <a:gridCol w="760320"/>
                <a:gridCol w="762120"/>
                <a:gridCol w="763560"/>
                <a:gridCol w="760320"/>
                <a:gridCol w="762120"/>
                <a:gridCol w="760320"/>
                <a:gridCol w="871560"/>
                <a:gridCol w="360360"/>
              </a:tblGrid>
              <a:tr h="309960">
                <a:tc rowSpan="2">
                  <a:txBody>
                    <a:bodyPr lIns="18000" rIns="1800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омер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че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gridSpan="2">
                  <a:txBody>
                    <a:bodyPr lIns="18000" rIns="1800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стато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 начало 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8000" rIns="1800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стато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 начало месяц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8000" rIns="1800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боро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за месяц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8000" rIns="1800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боро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 начала 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8000" rIns="1800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стато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 конец месяц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18000" rIns="1800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Ж/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309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 дебет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 кредит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 дебет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 кредит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 дебет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 кредит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 дебет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 кредит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 дебет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 кредит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9960">
                <a:tc>
                  <a:txBody>
                    <a:bodyPr lIns="18000" rIns="1800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0102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 240 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 240 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 240 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182880">
                <a:tc>
                  <a:txBody>
                    <a:bodyPr lIns="18000" rIns="1800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0102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3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182880">
                <a:tc>
                  <a:txBody>
                    <a:bodyPr lIns="18000" rIns="1800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01024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182880">
                <a:tc>
                  <a:txBody>
                    <a:bodyPr lIns="18000" rIns="1800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0104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3 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3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 20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7 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29 2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182880">
                <a:tc>
                  <a:txBody>
                    <a:bodyPr lIns="18000" rIns="1800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0104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3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 20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13 2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182880">
                <a:tc>
                  <a:txBody>
                    <a:bodyPr lIns="18000" rIns="1800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01044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7 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27 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182880">
                <a:tc>
                  <a:txBody>
                    <a:bodyPr lIns="18000" rIns="1800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0105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0 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0 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0 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182880">
                <a:tc>
                  <a:txBody>
                    <a:bodyPr lIns="18000" rIns="1800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0105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3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182880">
                <a:tc>
                  <a:txBody>
                    <a:bodyPr lIns="18000" rIns="1800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01054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182880">
                <a:tc>
                  <a:txBody>
                    <a:bodyPr lIns="18000" rIns="1800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0106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5</a:t>
                      </a: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182880">
                <a:tc>
                  <a:txBody>
                    <a:bodyPr lIns="18000" rIns="1800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0106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3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75</a:t>
                      </a:r>
                      <a:r>
                        <a:rPr b="1" lang="ru-RU" sz="12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182880">
                <a:tc>
                  <a:txBody>
                    <a:bodyPr lIns="18000" rIns="1800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01064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5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7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182880">
                <a:tc>
                  <a:txBody>
                    <a:bodyPr lIns="18000" rIns="1800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0402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 896 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 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96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 2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 9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182880">
                <a:tc>
                  <a:txBody>
                    <a:bodyPr lIns="18000" rIns="1800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04024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 2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0 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182880">
                <a:tc>
                  <a:txBody>
                    <a:bodyPr lIns="18000" rIns="1800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0404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8 2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5</a:t>
                      </a: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</a:t>
                      </a: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5</a:t>
                      </a: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182880">
                <a:tc>
                  <a:txBody>
                    <a:bodyPr lIns="18000" rIns="1800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04044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5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5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5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65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182880">
                <a:tc>
                  <a:txBody>
                    <a:bodyPr lIns="18000" rIns="1800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0405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8 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8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 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182880">
                <a:tc>
                  <a:txBody>
                    <a:bodyPr lIns="18000" rIns="1800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04054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 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 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182880">
                <a:tc>
                  <a:txBody>
                    <a:bodyPr lIns="18000" rIns="1800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0601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5</a:t>
                      </a: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</a:t>
                      </a: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 9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1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5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182880">
                <a:tc>
                  <a:txBody>
                    <a:bodyPr lIns="18000" rIns="1800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0601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3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5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65</a:t>
                      </a:r>
                      <a:r>
                        <a:rPr b="1" lang="ru-RU" sz="12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9</a:t>
                      </a:r>
                      <a:r>
                        <a:rPr b="1" lang="ru-RU" sz="12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182880">
                <a:tc>
                  <a:txBody>
                    <a:bodyPr lIns="18000" rIns="1800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06014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 9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3 9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</a:tbl>
          </a:graphicData>
        </a:graphic>
      </p:graphicFrame>
      <p:sp>
        <p:nvSpPr>
          <p:cNvPr id="151" name="Oval 386"/>
          <p:cNvSpPr/>
          <p:nvPr/>
        </p:nvSpPr>
        <p:spPr>
          <a:xfrm>
            <a:off x="5580000" y="2637000"/>
            <a:ext cx="1371600" cy="380880"/>
          </a:xfrm>
          <a:prstGeom prst="ellipse">
            <a:avLst/>
          </a:prstGeom>
          <a:noFill/>
          <a:ln w="28440">
            <a:solidFill>
              <a:srgbClr val="4880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393"/>
          <p:cNvSpPr/>
          <p:nvPr/>
        </p:nvSpPr>
        <p:spPr>
          <a:xfrm>
            <a:off x="1206360" y="3898800"/>
            <a:ext cx="6248520" cy="0"/>
          </a:xfrm>
          <a:prstGeom prst="line">
            <a:avLst/>
          </a:prstGeom>
          <a:ln w="12600">
            <a:solidFill>
              <a:srgbClr val="4880dc"/>
            </a:solidFill>
            <a:prstDash val="sysDot"/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394"/>
          <p:cNvSpPr/>
          <p:nvPr/>
        </p:nvSpPr>
        <p:spPr>
          <a:xfrm>
            <a:off x="1206360" y="4406760"/>
            <a:ext cx="6248520" cy="0"/>
          </a:xfrm>
          <a:prstGeom prst="line">
            <a:avLst/>
          </a:prstGeom>
          <a:ln w="12600">
            <a:solidFill>
              <a:srgbClr val="4880dc"/>
            </a:solidFill>
            <a:prstDash val="sysDot"/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410"/>
          <p:cNvSpPr/>
          <p:nvPr/>
        </p:nvSpPr>
        <p:spPr>
          <a:xfrm>
            <a:off x="1187280" y="4076640"/>
            <a:ext cx="7010640" cy="0"/>
          </a:xfrm>
          <a:prstGeom prst="line">
            <a:avLst/>
          </a:prstGeom>
          <a:ln w="19080">
            <a:solidFill>
              <a:srgbClr val="9933ff"/>
            </a:solidFill>
            <a:prstDash val="sysDot"/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Oval 424"/>
          <p:cNvSpPr/>
          <p:nvPr/>
        </p:nvSpPr>
        <p:spPr>
          <a:xfrm>
            <a:off x="5580000" y="5805360"/>
            <a:ext cx="685800" cy="287640"/>
          </a:xfrm>
          <a:prstGeom prst="ellipse">
            <a:avLst/>
          </a:prstGeom>
          <a:noFill/>
          <a:ln w="28440">
            <a:solidFill>
              <a:srgbClr val="4880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426"/>
          <p:cNvSpPr/>
          <p:nvPr/>
        </p:nvSpPr>
        <p:spPr>
          <a:xfrm>
            <a:off x="3924360" y="5400720"/>
            <a:ext cx="1828800" cy="326520"/>
          </a:xfrm>
          <a:prstGeom prst="rect">
            <a:avLst/>
          </a:prstGeom>
          <a:solidFill>
            <a:srgbClr val="99ffcc"/>
          </a:solidFill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0000"/>
                </a:solidFill>
                <a:latin typeface="Arial Cyr"/>
              </a:rPr>
              <a:t>Сумма берется со знаком «минус»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430"/>
          <p:cNvSpPr/>
          <p:nvPr/>
        </p:nvSpPr>
        <p:spPr>
          <a:xfrm>
            <a:off x="395280" y="2111040"/>
            <a:ext cx="7696080" cy="448200"/>
          </a:xfrm>
          <a:prstGeom prst="rect">
            <a:avLst/>
          </a:prstGeom>
          <a:solidFill>
            <a:srgbClr val="99ffcc"/>
          </a:solidFill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800000"/>
                </a:solidFill>
                <a:latin typeface="Arial"/>
              </a:rPr>
              <a:t>Чистое поступление основных средств</a:t>
            </a:r>
            <a:r>
              <a:rPr b="1" lang="ru-RU" sz="14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(строка 320)</a:t>
            </a:r>
            <a:r>
              <a:rPr b="1" lang="ru-RU" sz="1400" spc="-1" strike="noStrike">
                <a:solidFill>
                  <a:srgbClr val="9900cc"/>
                </a:solidFill>
                <a:latin typeface="Arial"/>
              </a:rPr>
              <a:t>  =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800000"/>
                </a:solidFill>
                <a:latin typeface="Arial"/>
              </a:rPr>
              <a:t>Увеличение стоимости ОС</a:t>
            </a:r>
            <a:r>
              <a:rPr b="1" lang="ru-RU" sz="14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(строка 321)</a:t>
            </a:r>
            <a:r>
              <a:rPr b="1" lang="ru-RU" sz="1400" spc="-1" strike="noStrike">
                <a:solidFill>
                  <a:srgbClr val="9900cc"/>
                </a:solidFill>
                <a:latin typeface="Arial"/>
              </a:rPr>
              <a:t> – </a:t>
            </a:r>
            <a:r>
              <a:rPr b="1" lang="ru-RU" sz="1400" spc="-1" strike="noStrike">
                <a:solidFill>
                  <a:srgbClr val="800000"/>
                </a:solidFill>
                <a:latin typeface="Arial"/>
              </a:rPr>
              <a:t>Уменьшение стоимости</a:t>
            </a:r>
            <a:r>
              <a:rPr b="1" lang="ru-RU" sz="14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(строка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322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5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500"/>
                            </p:stCondLst>
                            <p:childTnLst>
                              <p:par>
                                <p:cTn id="1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1000"/>
                            </p:stCondLst>
                            <p:childTnLst>
                              <p:par>
                                <p:cTn id="1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150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500"/>
                            </p:stCondLst>
                            <p:childTnLst>
                              <p:par>
                                <p:cTn id="19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4C567-6FEE-4321-9E26-58EFFA56EEC5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142920" y="442800"/>
          <a:ext cx="8929800" cy="6629400"/>
        </p:xfrm>
        <a:graphic>
          <a:graphicData uri="http://schemas.openxmlformats.org/drawingml/2006/table">
            <a:tbl>
              <a:tblPr/>
              <a:tblGrid>
                <a:gridCol w="4228920"/>
                <a:gridCol w="428760"/>
                <a:gridCol w="511200"/>
                <a:gridCol w="1255680"/>
                <a:gridCol w="1424160"/>
                <a:gridCol w="1081080"/>
              </a:tblGrid>
              <a:tr h="941760"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Наименование показател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Код стро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Код по КОСГ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Бюджетна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деятельн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Приносящая дох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деятельн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редства во временном распоряжен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7440"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5480"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Операции с нефинансовыми актива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3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11 0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1 6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5480">
                <a:tc>
                  <a:txBody>
                    <a:bodyPr lIns="18000" rIns="36000" tIns="36000" bIns="36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Чистое поступление основных средст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3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8 1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0 9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15600">
                <a:tc>
                  <a:txBody>
                    <a:bodyPr lIns="18000" rIns="36000" tIns="36000" bIns="36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                         </a:t>
                      </a: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в том числе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             </a:t>
                      </a: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увеличение стоимости основных средст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3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3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79 8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57 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4520">
                <a:tc>
                  <a:txBody>
                    <a:bodyPr lIns="18000" rIns="36000" tIns="36000" bIns="36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             </a:t>
                      </a: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уменьшение стоимости основных средст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3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4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31 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36 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5480">
                <a:tc>
                  <a:txBody>
                    <a:bodyPr lIns="18000" rIns="36000" tIns="36000" bIns="36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Чистое поступление нематериальных актив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3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- 1 3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15600">
                <a:tc>
                  <a:txBody>
                    <a:bodyPr lIns="18000" rIns="36000" tIns="36000" bIns="36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             </a:t>
                      </a: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в том числе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увеличение стоимости </a:t>
                      </a: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нематериальных актив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3</a:t>
                      </a: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2</a:t>
                      </a: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4520">
                <a:tc>
                  <a:txBody>
                    <a:bodyPr lIns="18000" rIns="36000" tIns="36000" bIns="36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             </a:t>
                      </a: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уменьшение стоимости </a:t>
                      </a: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нематериальных актив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3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1 3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5480">
                <a:tc>
                  <a:txBody>
                    <a:bodyPr lIns="18000" rIns="36000" tIns="36000" bIns="36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Чистое поступление непроизведенных актив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15600">
                <a:tc>
                  <a:txBody>
                    <a:bodyPr lIns="18000" rIns="36000" tIns="36000" bIns="36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                          </a:t>
                      </a: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в том числе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             </a:t>
                      </a: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увеличение стоимости </a:t>
                      </a: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непроизведенных актив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5</a:t>
                      </a: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3</a:t>
                      </a: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4520">
                <a:tc>
                  <a:txBody>
                    <a:bodyPr lIns="18000" rIns="36000" tIns="36000" bIns="36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             </a:t>
                      </a: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уменьшение стоимости </a:t>
                      </a: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непроизведенных актив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35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4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5480">
                <a:tc>
                  <a:txBody>
                    <a:bodyPr lIns="18000" rIns="36000" tIns="36000" bIns="36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Чистое поступление материальных запас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3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64 2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15600">
                <a:tc>
                  <a:txBody>
                    <a:bodyPr lIns="18000" rIns="36000" tIns="36000" bIns="36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                          </a:t>
                      </a: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в том числе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             </a:t>
                      </a: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увеличение стоимости </a:t>
                      </a: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материальных запас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6</a:t>
                      </a: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4</a:t>
                      </a: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70 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13 88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4520">
                <a:tc>
                  <a:txBody>
                    <a:bodyPr lIns="18000" rIns="36000" tIns="36000" bIns="36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             </a:t>
                      </a: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уменьшение стоимости </a:t>
                      </a: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материальных запас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36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4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6 1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13 18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0" name="Rectangle 161"/>
          <p:cNvSpPr/>
          <p:nvPr/>
        </p:nvSpPr>
        <p:spPr>
          <a:xfrm>
            <a:off x="1044720" y="76680"/>
            <a:ext cx="7619760" cy="249480"/>
          </a:xfrm>
          <a:prstGeom prst="rect">
            <a:avLst/>
          </a:prstGeom>
          <a:gradFill rotWithShape="0">
            <a:gsLst>
              <a:gs pos="0">
                <a:srgbClr val="faa906"/>
              </a:gs>
              <a:gs pos="50000">
                <a:srgbClr val="ffffff"/>
              </a:gs>
              <a:gs pos="100000">
                <a:srgbClr val="faa906"/>
              </a:gs>
            </a:gsLst>
            <a:lin ang="5400000"/>
          </a:gradFill>
          <a:ln w="12600">
            <a:solidFill>
              <a:srgbClr val="4880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 Cyr"/>
              </a:rPr>
              <a:t>Аналогично</a:t>
            </a:r>
            <a:r>
              <a:rPr b="1" lang="ru-RU" sz="1400" spc="-1" strike="noStrike">
                <a:solidFill>
                  <a:srgbClr val="660066"/>
                </a:solidFill>
                <a:latin typeface="Arial Cyr"/>
              </a:rPr>
              <a:t> заносится информация по </a:t>
            </a:r>
            <a:r>
              <a:rPr b="1" lang="ru-RU" sz="1400" spc="-1" strike="noStrike">
                <a:solidFill>
                  <a:srgbClr val="ff0000"/>
                </a:solidFill>
                <a:latin typeface="Arial Cyr"/>
              </a:rPr>
              <a:t>строкам 330 – 36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1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FB6E6-1D3B-4F83-8B8C-E96520BAD401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34920" y="-819000"/>
          <a:ext cx="9036000" cy="7611840"/>
        </p:xfrm>
        <a:graphic>
          <a:graphicData uri="http://schemas.openxmlformats.org/drawingml/2006/table">
            <a:tbl>
              <a:tblPr/>
              <a:tblGrid>
                <a:gridCol w="4319640"/>
                <a:gridCol w="407880"/>
                <a:gridCol w="457200"/>
                <a:gridCol w="135000"/>
                <a:gridCol w="1195560"/>
                <a:gridCol w="1099800"/>
                <a:gridCol w="1420920"/>
              </a:tblGrid>
              <a:tr h="65556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именование показател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д стро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д по КОСГ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юджетна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ятель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иносящая дох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ятель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редства во временном распоряжен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116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864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перации с финансовыми активами и обязательствам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=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Стр.3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-  Стр.5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056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перации с финансовыми актива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5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=   410 +420 +440 + 460 + </a:t>
                      </a: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470 + </a:t>
                      </a: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4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52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Чистое поступление средств на счета бюдже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596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 том числе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ступления средств на счета бюдже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4"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=0201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+210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596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ыбытия со счетов бюдже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4"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=0201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+0304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52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Чистое поступление ценных бумаг, кроме акций и иных форм участия в капитал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076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 том числе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величение стоимости ценных бумаг, кроме акций и иных форм участия в капитал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= 0204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596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меньшение стоимости ценных бумаг, кроме акций и иных форм участия в капитал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02040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596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Чистое поступление акций и иных форм участия в капитал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076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 том числе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величение стоимости акций и иных форм участия в капитал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Сч.0204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596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меньшение стоимости акций и иных форм участия в капи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тал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4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Сч.0204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596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Чистое предоставление бюджетных ссуд, бюджетных креди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076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 том числе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едоставление бюджетных ссуд, бюджетных креди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Сч.02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596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гашение бюджетных ссуд, бюджетных креди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6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Сч.02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320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Чистое поступление депозитов, иных финансовых актив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4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5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6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20401Депоз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596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Чистое увеличение дебиторской задолженности (кроме бюджетных ссуд, бюджетных кредитов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596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 том числе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величение прочей дебиторской задолженно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8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4"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Сч.0205, 0206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0208, 0209, 221001, 021003, 0210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596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меньшение прочей дебиторской задолженно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8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4"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Сч.0205, 0206, 0208, 0209, 221001, 021003, 0210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Номер слайда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91946-EB1E-423B-8029-F6558CAC46CB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199"/>
          <p:cNvSpPr/>
          <p:nvPr/>
        </p:nvSpPr>
        <p:spPr>
          <a:xfrm>
            <a:off x="8478720" y="6466320"/>
            <a:ext cx="588960" cy="433800"/>
          </a:xfrm>
          <a:prstGeom prst="ellipse">
            <a:avLst/>
          </a:prstGeom>
          <a:gradFill rotWithShape="0">
            <a:gsLst>
              <a:gs pos="0">
                <a:srgbClr val="faa906"/>
              </a:gs>
              <a:gs pos="50000">
                <a:srgbClr val="ffffff"/>
              </a:gs>
              <a:gs pos="100000">
                <a:srgbClr val="faa906"/>
              </a:gs>
            </a:gsLst>
            <a:lin ang="5400000"/>
          </a:gradFill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400" spc="-1" strike="noStrike">
                <a:solidFill>
                  <a:srgbClr val="9900cc"/>
                </a:solidFill>
                <a:latin typeface="Arial Cyr"/>
              </a:rPr>
              <a:t>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108000" y="115920"/>
          <a:ext cx="8929800" cy="2155680"/>
        </p:xfrm>
        <a:graphic>
          <a:graphicData uri="http://schemas.openxmlformats.org/drawingml/2006/table">
            <a:tbl>
              <a:tblPr/>
              <a:tblGrid>
                <a:gridCol w="4228920"/>
                <a:gridCol w="428760"/>
                <a:gridCol w="512640"/>
                <a:gridCol w="1252800"/>
                <a:gridCol w="1253880"/>
                <a:gridCol w="1252800"/>
              </a:tblGrid>
              <a:tr h="655560"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Наименование показател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Код стро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Код по КОСГ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Бюджетна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деятель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Приносящая дох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деятель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редства во временном распоряжен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1160"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8880"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перации с финансовыми активами и обязательств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3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8880">
                <a:tc>
                  <a:txBody>
                    <a:bodyPr lIns="18000" rIns="36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перации с финансовыми актив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3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3000">
                <a:tc>
                  <a:txBody>
                    <a:bodyPr lIns="18000" rIns="36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Чистое поступление средств на счета бюдже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4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- 86979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590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5520">
                <a:tc>
                  <a:txBody>
                    <a:bodyPr lIns="18000" rIns="36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 том числе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ступления средств на счета бюдже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4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5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224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1060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3000">
                <a:tc>
                  <a:txBody>
                    <a:bodyPr lIns="18000" rIns="36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ыбытия со счетов бюдже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4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6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8922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4704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-36360" y="4176720"/>
          <a:ext cx="9144000" cy="1990800"/>
        </p:xfrm>
        <a:graphic>
          <a:graphicData uri="http://schemas.openxmlformats.org/drawingml/2006/table">
            <a:tbl>
              <a:tblPr/>
              <a:tblGrid>
                <a:gridCol w="900000"/>
                <a:gridCol w="669960"/>
                <a:gridCol w="788760"/>
                <a:gridCol w="784440"/>
                <a:gridCol w="788760"/>
                <a:gridCol w="787680"/>
                <a:gridCol w="787320"/>
                <a:gridCol w="789120"/>
                <a:gridCol w="787320"/>
                <a:gridCol w="796680"/>
                <a:gridCol w="866880"/>
                <a:gridCol w="397080"/>
              </a:tblGrid>
              <a:tr h="345960">
                <a:tc rowSpan="2"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омер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че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стато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 начало 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стато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 начало месяц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боро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за месяц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боро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 начала 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стато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 конец месяц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Ж/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5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 дебет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 кредит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 дебет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 кредит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 дебет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 кредит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 дебет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 кредит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 дебет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 кредит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8880"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0100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 4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 4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 4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 4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8880"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0104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 4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 4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8880"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0104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5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 4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2 4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8880"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01046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 4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2 4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8880"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0405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8 60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648 6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48 6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8880"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0405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6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2 84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6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22 84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9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" name="Line 379"/>
          <p:cNvSpPr/>
          <p:nvPr/>
        </p:nvSpPr>
        <p:spPr>
          <a:xfrm>
            <a:off x="1206360" y="5092560"/>
            <a:ext cx="6172200" cy="0"/>
          </a:xfrm>
          <a:prstGeom prst="line">
            <a:avLst/>
          </a:prstGeom>
          <a:ln w="19080">
            <a:solidFill>
              <a:srgbClr val="4880dc"/>
            </a:solidFill>
            <a:prstDash val="sysDot"/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381"/>
          <p:cNvSpPr/>
          <p:nvPr/>
        </p:nvSpPr>
        <p:spPr>
          <a:xfrm>
            <a:off x="407880" y="2961000"/>
            <a:ext cx="7620120" cy="462600"/>
          </a:xfrm>
          <a:prstGeom prst="rect">
            <a:avLst/>
          </a:prstGeom>
          <a:gradFill rotWithShape="0">
            <a:gsLst>
              <a:gs pos="0">
                <a:srgbClr val="faa906"/>
              </a:gs>
              <a:gs pos="50000">
                <a:srgbClr val="ffffff"/>
              </a:gs>
              <a:gs pos="100000">
                <a:srgbClr val="faa906"/>
              </a:gs>
            </a:gsLst>
            <a:lin ang="5400000"/>
          </a:gradFill>
          <a:ln w="12600">
            <a:solidFill>
              <a:srgbClr val="4880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Строка 411</a:t>
            </a:r>
            <a:r>
              <a:rPr b="1" lang="ru-RU" sz="1400" spc="-1" strike="noStrike">
                <a:solidFill>
                  <a:srgbClr val="4880dc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660066"/>
                </a:solidFill>
                <a:latin typeface="Arial"/>
              </a:rPr>
              <a:t>по</a:t>
            </a:r>
            <a:r>
              <a:rPr b="1" lang="ru-RU" sz="1400" spc="-1" strike="noStrike">
                <a:solidFill>
                  <a:srgbClr val="4880dc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КОСГУ 510 =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020100000</a:t>
            </a:r>
            <a:r>
              <a:rPr b="1" lang="ru-RU" sz="1400" spc="-1" strike="noStrike">
                <a:solidFill>
                  <a:srgbClr val="4880dc"/>
                </a:solidFill>
                <a:latin typeface="Arial"/>
              </a:rPr>
              <a:t> (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роме 020102000</a:t>
            </a:r>
            <a:r>
              <a:rPr b="1" lang="ru-RU" sz="1400" spc="-1" strike="noStrike">
                <a:solidFill>
                  <a:srgbClr val="4880dc"/>
                </a:solidFill>
                <a:latin typeface="Arial"/>
              </a:rPr>
              <a:t>) </a:t>
            </a:r>
            <a:r>
              <a:rPr b="1" lang="ru-RU" sz="1400" spc="-1" strike="noStrike">
                <a:solidFill>
                  <a:srgbClr val="660066"/>
                </a:solidFill>
                <a:latin typeface="Arial"/>
              </a:rPr>
              <a:t>+ 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020401000 + 021002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382"/>
          <p:cNvSpPr/>
          <p:nvPr/>
        </p:nvSpPr>
        <p:spPr>
          <a:xfrm>
            <a:off x="368280" y="3608640"/>
            <a:ext cx="7620120" cy="462600"/>
          </a:xfrm>
          <a:prstGeom prst="rect">
            <a:avLst/>
          </a:prstGeom>
          <a:gradFill rotWithShape="0">
            <a:gsLst>
              <a:gs pos="0">
                <a:srgbClr val="faa906"/>
              </a:gs>
              <a:gs pos="50000">
                <a:srgbClr val="ffffff"/>
              </a:gs>
              <a:gs pos="100000">
                <a:srgbClr val="faa906"/>
              </a:gs>
            </a:gsLst>
            <a:lin ang="5400000"/>
          </a:gradFill>
          <a:ln w="12600">
            <a:solidFill>
              <a:srgbClr val="4880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 Cyr"/>
              </a:rPr>
              <a:t>Строка 412</a:t>
            </a:r>
            <a:r>
              <a:rPr b="1" lang="ru-RU" sz="1400" spc="-1" strike="noStrike">
                <a:solidFill>
                  <a:srgbClr val="4880dc"/>
                </a:solidFill>
                <a:latin typeface="Arial Cyr"/>
              </a:rPr>
              <a:t> </a:t>
            </a:r>
            <a:r>
              <a:rPr b="1" lang="ru-RU" sz="1400" spc="-1" strike="noStrike">
                <a:solidFill>
                  <a:srgbClr val="660066"/>
                </a:solidFill>
                <a:latin typeface="Arial Cyr"/>
              </a:rPr>
              <a:t>по</a:t>
            </a:r>
            <a:r>
              <a:rPr b="1" lang="ru-RU" sz="1400" spc="-1" strike="noStrike">
                <a:solidFill>
                  <a:srgbClr val="4880dc"/>
                </a:solidFill>
                <a:latin typeface="Arial Cyr"/>
              </a:rPr>
              <a:t> </a:t>
            </a:r>
            <a:r>
              <a:rPr b="1" lang="ru-RU" sz="1400" spc="-1" strike="noStrike">
                <a:solidFill>
                  <a:srgbClr val="ff0000"/>
                </a:solidFill>
                <a:latin typeface="Arial Cyr"/>
              </a:rPr>
              <a:t>КОСГУ 610</a:t>
            </a:r>
            <a:r>
              <a:rPr b="1" lang="ru-RU" sz="1400" spc="-1" strike="noStrike">
                <a:solidFill>
                  <a:srgbClr val="4880dc"/>
                </a:solidFill>
                <a:latin typeface="Arial Cyr"/>
              </a:rPr>
              <a:t> </a:t>
            </a:r>
            <a:r>
              <a:rPr b="1" lang="ru-RU" sz="1400" spc="-1" strike="noStrike">
                <a:solidFill>
                  <a:srgbClr val="660066"/>
                </a:solidFill>
                <a:latin typeface="Arial Cyr"/>
              </a:rPr>
              <a:t>=</a:t>
            </a:r>
            <a:r>
              <a:rPr b="1" lang="ru-RU" sz="1400" spc="-1" strike="noStrike">
                <a:solidFill>
                  <a:srgbClr val="4880dc"/>
                </a:solidFill>
                <a:latin typeface="Arial Cyr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 Cyr"/>
              </a:rPr>
              <a:t>020100000 (</a:t>
            </a:r>
            <a:r>
              <a:rPr b="1" lang="ru-RU" sz="1400" spc="-1" strike="noStrike">
                <a:solidFill>
                  <a:srgbClr val="000000"/>
                </a:solidFill>
                <a:latin typeface="Arial Cyr"/>
              </a:rPr>
              <a:t>кроме 020102000</a:t>
            </a:r>
            <a:r>
              <a:rPr b="1" lang="ru-RU" sz="1400" spc="-1" strike="noStrike">
                <a:solidFill>
                  <a:srgbClr val="4880dc"/>
                </a:solidFill>
                <a:latin typeface="Arial Cyr"/>
              </a:rPr>
              <a:t>) </a:t>
            </a:r>
            <a:r>
              <a:rPr b="1" lang="ru-RU" sz="1400" spc="-1" strike="noStrike">
                <a:solidFill>
                  <a:srgbClr val="ff0000"/>
                </a:solidFill>
                <a:latin typeface="Arial Cyr"/>
              </a:rPr>
              <a:t>+ 020401000 + 030405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Oval 389"/>
          <p:cNvSpPr/>
          <p:nvPr/>
        </p:nvSpPr>
        <p:spPr>
          <a:xfrm>
            <a:off x="5651640" y="5805360"/>
            <a:ext cx="761760" cy="457200"/>
          </a:xfrm>
          <a:prstGeom prst="ellipse">
            <a:avLst/>
          </a:prstGeom>
          <a:noFill/>
          <a:ln w="28440">
            <a:solidFill>
              <a:srgbClr val="4880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391"/>
          <p:cNvSpPr/>
          <p:nvPr/>
        </p:nvSpPr>
        <p:spPr>
          <a:xfrm>
            <a:off x="4863960" y="6275520"/>
            <a:ext cx="2032200" cy="387000"/>
          </a:xfrm>
          <a:prstGeom prst="rect">
            <a:avLst/>
          </a:prstGeom>
          <a:solidFill>
            <a:srgbClr val="99ffcc"/>
          </a:solidFill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 Cyr"/>
              </a:rPr>
              <a:t>Сумма берется со знаком «минус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393"/>
          <p:cNvSpPr/>
          <p:nvPr/>
        </p:nvSpPr>
        <p:spPr>
          <a:xfrm>
            <a:off x="520560" y="2398320"/>
            <a:ext cx="7696440" cy="448200"/>
          </a:xfrm>
          <a:prstGeom prst="rect">
            <a:avLst/>
          </a:prstGeom>
          <a:solidFill>
            <a:srgbClr val="99ffcc"/>
          </a:solidFill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800000"/>
                </a:solidFill>
                <a:latin typeface="Arial Cyr"/>
              </a:rPr>
              <a:t>Чистое поступление средств на счета бюджета</a:t>
            </a:r>
            <a:r>
              <a:rPr b="1" lang="ru-RU" sz="1400" spc="-1" strike="noStrike">
                <a:solidFill>
                  <a:srgbClr val="9900cc"/>
                </a:solidFill>
                <a:latin typeface="Arial Cyr"/>
              </a:rPr>
              <a:t> </a:t>
            </a:r>
            <a:r>
              <a:rPr b="1" lang="ru-RU" sz="1400" spc="-1" strike="noStrike">
                <a:solidFill>
                  <a:srgbClr val="ff0000"/>
                </a:solidFill>
                <a:latin typeface="Arial Cyr"/>
              </a:rPr>
              <a:t>(строка 410)</a:t>
            </a:r>
            <a:r>
              <a:rPr b="1" lang="ru-RU" sz="1400" spc="-1" strike="noStrike">
                <a:solidFill>
                  <a:srgbClr val="9900cc"/>
                </a:solidFill>
                <a:latin typeface="Arial Cyr"/>
              </a:rPr>
              <a:t>  =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800000"/>
                </a:solidFill>
                <a:latin typeface="Arial Cyr"/>
              </a:rPr>
              <a:t>Поступления средств</a:t>
            </a:r>
            <a:r>
              <a:rPr b="1" lang="ru-RU" sz="1400" spc="-1" strike="noStrike">
                <a:solidFill>
                  <a:srgbClr val="9900cc"/>
                </a:solidFill>
                <a:latin typeface="Arial Cyr"/>
              </a:rPr>
              <a:t> </a:t>
            </a:r>
            <a:r>
              <a:rPr b="1" lang="ru-RU" sz="1400" spc="-1" strike="noStrike">
                <a:solidFill>
                  <a:srgbClr val="ff0000"/>
                </a:solidFill>
                <a:latin typeface="Arial Cyr"/>
              </a:rPr>
              <a:t>(строка 411)</a:t>
            </a:r>
            <a:r>
              <a:rPr b="1" lang="ru-RU" sz="1400" spc="-1" strike="noStrike">
                <a:solidFill>
                  <a:srgbClr val="9900cc"/>
                </a:solidFill>
                <a:latin typeface="Arial Cyr"/>
              </a:rPr>
              <a:t> – </a:t>
            </a:r>
            <a:r>
              <a:rPr b="1" lang="ru-RU" sz="1400" spc="-1" strike="noStrike">
                <a:solidFill>
                  <a:srgbClr val="800000"/>
                </a:solidFill>
                <a:latin typeface="Arial Cyr"/>
              </a:rPr>
              <a:t>Выбытия средств</a:t>
            </a:r>
            <a:r>
              <a:rPr b="1" lang="ru-RU" sz="1400" spc="-1" strike="noStrike">
                <a:solidFill>
                  <a:srgbClr val="9900cc"/>
                </a:solidFill>
                <a:latin typeface="Arial Cyr"/>
              </a:rPr>
              <a:t> </a:t>
            </a:r>
            <a:r>
              <a:rPr b="1" lang="ru-RU" sz="1400" spc="-1" strike="noStrike">
                <a:solidFill>
                  <a:srgbClr val="ff0000"/>
                </a:solidFill>
                <a:latin typeface="Arial Cyr"/>
              </a:rPr>
              <a:t>(строка</a:t>
            </a:r>
            <a:r>
              <a:rPr b="1" lang="en-US" sz="1400" spc="-1" strike="noStrike">
                <a:solidFill>
                  <a:srgbClr val="ff0000"/>
                </a:solidFill>
                <a:latin typeface="Arial Cyr"/>
              </a:rPr>
              <a:t> </a:t>
            </a:r>
            <a:r>
              <a:rPr b="1" lang="ru-RU" sz="1400" spc="-1" strike="noStrike">
                <a:solidFill>
                  <a:srgbClr val="ff0000"/>
                </a:solidFill>
                <a:latin typeface="Arial Cyr"/>
              </a:rPr>
              <a:t>412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399"/>
          <p:cNvSpPr/>
          <p:nvPr/>
        </p:nvSpPr>
        <p:spPr>
          <a:xfrm flipV="1">
            <a:off x="9109080" y="1413000"/>
            <a:ext cx="0" cy="576000"/>
          </a:xfrm>
          <a:prstGeom prst="line">
            <a:avLst/>
          </a:prstGeom>
          <a:ln cap="rnd" w="31680">
            <a:solidFill>
              <a:srgbClr val="003366"/>
            </a:solidFill>
            <a:custDash>
              <a:ds d="100000" sp="1000"/>
            </a:custDash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8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8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500"/>
                            </p:stCondLst>
                            <p:childTnLst>
                              <p:par>
                                <p:cTn id="24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6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1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6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Номер слайда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10A23-20CA-4B91-8042-889B32B27125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Oval 241"/>
          <p:cNvSpPr/>
          <p:nvPr/>
        </p:nvSpPr>
        <p:spPr>
          <a:xfrm>
            <a:off x="8478720" y="6466320"/>
            <a:ext cx="588960" cy="433800"/>
          </a:xfrm>
          <a:prstGeom prst="ellipse">
            <a:avLst/>
          </a:prstGeom>
          <a:gradFill rotWithShape="0">
            <a:gsLst>
              <a:gs pos="0">
                <a:srgbClr val="faa906"/>
              </a:gs>
              <a:gs pos="50000">
                <a:srgbClr val="ffffff"/>
              </a:gs>
              <a:gs pos="100000">
                <a:srgbClr val="faa906"/>
              </a:gs>
            </a:gsLst>
            <a:lin ang="5400000"/>
          </a:gradFill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400" spc="-1" strike="noStrike">
                <a:solidFill>
                  <a:srgbClr val="9900cc"/>
                </a:solidFill>
                <a:latin typeface="Arial Cyr"/>
              </a:rPr>
              <a:t>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179280" y="115920"/>
          <a:ext cx="8929800" cy="2052720"/>
        </p:xfrm>
        <a:graphic>
          <a:graphicData uri="http://schemas.openxmlformats.org/drawingml/2006/table">
            <a:tbl>
              <a:tblPr/>
              <a:tblGrid>
                <a:gridCol w="4229280"/>
                <a:gridCol w="428400"/>
                <a:gridCol w="513000"/>
                <a:gridCol w="1252440"/>
                <a:gridCol w="1254240"/>
                <a:gridCol w="1252440"/>
              </a:tblGrid>
              <a:tr h="655560"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Наименование показател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Код стро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Код по КОСГ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Бюджетна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деятель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Приносящая дох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деятель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редства во временном распоряжен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1160"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8880"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Операции с финансовыми активами и обязательств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8880">
                <a:tc>
                  <a:txBody>
                    <a:bodyPr lIns="18000" rIns="36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Операции с финансовыми актив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8880">
                <a:tc>
                  <a:txBody>
                    <a:bodyPr lIns="18000" rIns="36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Чистое поступление средств на счета бюдже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4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-86979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590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- 8107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9960">
                <a:tc>
                  <a:txBody>
                    <a:bodyPr lIns="18000" rIns="36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                   </a:t>
                      </a: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в том числе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          </a:t>
                      </a: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поступления средств на счета бюдже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4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5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224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10609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1285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8880">
                <a:tc>
                  <a:txBody>
                    <a:bodyPr lIns="18000" rIns="36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          </a:t>
                      </a: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выбытия со счетов бюдже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4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6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77" name=""/>
          <p:cNvGraphicFramePr/>
          <p:nvPr/>
        </p:nvGraphicFramePr>
        <p:xfrm>
          <a:off x="179280" y="3932280"/>
          <a:ext cx="8929800" cy="2935080"/>
        </p:xfrm>
        <a:graphic>
          <a:graphicData uri="http://schemas.openxmlformats.org/drawingml/2006/table">
            <a:tbl>
              <a:tblPr/>
              <a:tblGrid>
                <a:gridCol w="863640"/>
                <a:gridCol w="669960"/>
                <a:gridCol w="770040"/>
                <a:gridCol w="765000"/>
                <a:gridCol w="771480"/>
                <a:gridCol w="770040"/>
                <a:gridCol w="768240"/>
                <a:gridCol w="770040"/>
                <a:gridCol w="768240"/>
                <a:gridCol w="779760"/>
                <a:gridCol w="846000"/>
                <a:gridCol w="387360"/>
              </a:tblGrid>
              <a:tr h="345960">
                <a:tc rowSpan="2"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омер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че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стато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 начало 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стато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 начало месяц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боро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за месяц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боро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 начала 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стато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 конец месяц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Ж/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5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 дебет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 кредит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 дебет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 кредит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 дебет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 кредит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 дебет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 кредит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 дебет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 кредит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5960"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00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53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53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7 7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4 66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7 7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4 66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844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5960"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0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5 4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5 4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9 08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0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9 08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0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444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5960"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1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</a:t>
                      </a: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5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 0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7 0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5960"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1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</a:t>
                      </a: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5</a:t>
                      </a: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 0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2 0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5960"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1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6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6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 6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5960"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1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6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5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 5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5960"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1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6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84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5 84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5960"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2013</a:t>
                      </a: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 5</a:t>
                      </a: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 0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7 0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5960"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3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6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 0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7 0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78" name="Text Box 457"/>
          <p:cNvSpPr/>
          <p:nvPr/>
        </p:nvSpPr>
        <p:spPr>
          <a:xfrm>
            <a:off x="5796000" y="1968480"/>
            <a:ext cx="792000" cy="164520"/>
          </a:xfrm>
          <a:prstGeom prst="rect">
            <a:avLst/>
          </a:prstGeom>
          <a:gradFill rotWithShape="0">
            <a:gsLst>
              <a:gs pos="0">
                <a:srgbClr val="faa906"/>
              </a:gs>
              <a:gs pos="50000">
                <a:srgbClr val="ffffff"/>
              </a:gs>
              <a:gs pos="100000">
                <a:srgbClr val="faa90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200" spc="-1" strike="noStrike">
                <a:solidFill>
                  <a:srgbClr val="800000"/>
                </a:solidFill>
                <a:latin typeface="Arial Cyr"/>
              </a:rPr>
              <a:t>892 2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Oval 458"/>
          <p:cNvSpPr/>
          <p:nvPr/>
        </p:nvSpPr>
        <p:spPr>
          <a:xfrm>
            <a:off x="5580000" y="3860640"/>
            <a:ext cx="1371600" cy="457200"/>
          </a:xfrm>
          <a:prstGeom prst="ellipse">
            <a:avLst/>
          </a:prstGeom>
          <a:noFill/>
          <a:ln w="28440">
            <a:solidFill>
              <a:srgbClr val="4880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460"/>
          <p:cNvSpPr/>
          <p:nvPr/>
        </p:nvSpPr>
        <p:spPr>
          <a:xfrm>
            <a:off x="552600" y="2786400"/>
            <a:ext cx="7619760" cy="462600"/>
          </a:xfrm>
          <a:prstGeom prst="rect">
            <a:avLst/>
          </a:prstGeom>
          <a:solidFill>
            <a:srgbClr val="ffffff"/>
          </a:solidFill>
          <a:ln w="12600">
            <a:solidFill>
              <a:srgbClr val="4880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Строка 411</a:t>
            </a:r>
            <a:r>
              <a:rPr b="1" lang="ru-RU" sz="1400" spc="-1" strike="noStrike">
                <a:solidFill>
                  <a:srgbClr val="4880dc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660066"/>
                </a:solidFill>
                <a:latin typeface="Arial"/>
              </a:rPr>
              <a:t>по</a:t>
            </a:r>
            <a:r>
              <a:rPr b="1" lang="ru-RU" sz="1400" spc="-1" strike="noStrike">
                <a:solidFill>
                  <a:srgbClr val="4880dc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КОСГУ 510</a:t>
            </a:r>
            <a:r>
              <a:rPr b="1" lang="ru-RU" sz="1400" spc="-1" strike="noStrike">
                <a:solidFill>
                  <a:srgbClr val="4880dc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660066"/>
                </a:solidFill>
                <a:latin typeface="Arial"/>
              </a:rPr>
              <a:t>=</a:t>
            </a:r>
            <a:r>
              <a:rPr b="1" lang="ru-RU" sz="1400" spc="-1" strike="noStrike">
                <a:solidFill>
                  <a:srgbClr val="4880dc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020100000</a:t>
            </a:r>
            <a:r>
              <a:rPr b="1" lang="ru-RU" sz="1400" spc="-1" strike="noStrike">
                <a:solidFill>
                  <a:srgbClr val="4880dc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+ 020431000 + 021002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461"/>
          <p:cNvSpPr/>
          <p:nvPr/>
        </p:nvSpPr>
        <p:spPr>
          <a:xfrm>
            <a:off x="466560" y="3351600"/>
            <a:ext cx="7620120" cy="462600"/>
          </a:xfrm>
          <a:prstGeom prst="rect">
            <a:avLst/>
          </a:prstGeom>
          <a:solidFill>
            <a:srgbClr val="ffffff"/>
          </a:solidFill>
          <a:ln w="12600">
            <a:solidFill>
              <a:srgbClr val="4880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Строка 412</a:t>
            </a:r>
            <a:r>
              <a:rPr b="1" lang="ru-RU" sz="1400" spc="-1" strike="noStrike">
                <a:solidFill>
                  <a:srgbClr val="4880dc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660066"/>
                </a:solidFill>
                <a:latin typeface="Arial"/>
              </a:rPr>
              <a:t>по</a:t>
            </a:r>
            <a:r>
              <a:rPr b="1" lang="ru-RU" sz="1400" spc="-1" strike="noStrike">
                <a:solidFill>
                  <a:srgbClr val="4880dc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КОСГУ 610</a:t>
            </a:r>
            <a:r>
              <a:rPr b="1" lang="ru-RU" sz="1400" spc="-1" strike="noStrike">
                <a:solidFill>
                  <a:srgbClr val="4880dc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660066"/>
                </a:solidFill>
                <a:latin typeface="Arial"/>
              </a:rPr>
              <a:t>=</a:t>
            </a:r>
            <a:r>
              <a:rPr b="1" lang="ru-RU" sz="1400" spc="-1" strike="noStrike">
                <a:solidFill>
                  <a:srgbClr val="4880dc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020100000</a:t>
            </a:r>
            <a:r>
              <a:rPr b="1" lang="ru-RU" sz="1400" spc="-1" strike="noStrike">
                <a:solidFill>
                  <a:srgbClr val="4880dc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+ 020431000 + 030405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465"/>
          <p:cNvSpPr/>
          <p:nvPr/>
        </p:nvSpPr>
        <p:spPr>
          <a:xfrm>
            <a:off x="592200" y="2253960"/>
            <a:ext cx="7696080" cy="448200"/>
          </a:xfrm>
          <a:prstGeom prst="rect">
            <a:avLst/>
          </a:prstGeom>
          <a:solidFill>
            <a:srgbClr val="ffffff"/>
          </a:solidFill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800000"/>
                </a:solidFill>
                <a:latin typeface="Arial"/>
              </a:rPr>
              <a:t>Чистое поступление средств на счета бюджета</a:t>
            </a:r>
            <a:r>
              <a:rPr b="1" lang="ru-RU" sz="14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(строка 410)</a:t>
            </a:r>
            <a:r>
              <a:rPr b="1" lang="ru-RU" sz="1400" spc="-1" strike="noStrike">
                <a:solidFill>
                  <a:srgbClr val="9900cc"/>
                </a:solidFill>
                <a:latin typeface="Arial"/>
              </a:rPr>
              <a:t>  =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800000"/>
                </a:solidFill>
                <a:latin typeface="Arial"/>
              </a:rPr>
              <a:t>Поступления средств</a:t>
            </a:r>
            <a:r>
              <a:rPr b="1" lang="ru-RU" sz="14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(строка 411)</a:t>
            </a:r>
            <a:r>
              <a:rPr b="1" lang="ru-RU" sz="1400" spc="-1" strike="noStrike">
                <a:solidFill>
                  <a:srgbClr val="9900cc"/>
                </a:solidFill>
                <a:latin typeface="Arial"/>
              </a:rPr>
              <a:t> – </a:t>
            </a:r>
            <a:r>
              <a:rPr b="1" lang="ru-RU" sz="1400" spc="-1" strike="noStrike">
                <a:solidFill>
                  <a:srgbClr val="800000"/>
                </a:solidFill>
                <a:latin typeface="Arial"/>
              </a:rPr>
              <a:t>Выбытия средств</a:t>
            </a:r>
            <a:r>
              <a:rPr b="1" lang="ru-RU" sz="14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(строка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412)</a:t>
            </a:r>
            <a:r>
              <a:rPr b="1" lang="ru-RU" sz="1400" spc="-1" strike="noStrike">
                <a:solidFill>
                  <a:srgbClr val="9900cc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467"/>
          <p:cNvSpPr/>
          <p:nvPr/>
        </p:nvSpPr>
        <p:spPr>
          <a:xfrm>
            <a:off x="7020000" y="1968480"/>
            <a:ext cx="792000" cy="164520"/>
          </a:xfrm>
          <a:prstGeom prst="rect">
            <a:avLst/>
          </a:prstGeom>
          <a:gradFill rotWithShape="0">
            <a:gsLst>
              <a:gs pos="0">
                <a:srgbClr val="faa906"/>
              </a:gs>
              <a:gs pos="50000">
                <a:srgbClr val="ffffff"/>
              </a:gs>
              <a:gs pos="100000">
                <a:srgbClr val="faa90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200" spc="-1" strike="noStrike">
                <a:solidFill>
                  <a:srgbClr val="800000"/>
                </a:solidFill>
                <a:latin typeface="Arial"/>
              </a:rPr>
              <a:t>47 0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470"/>
          <p:cNvSpPr/>
          <p:nvPr/>
        </p:nvSpPr>
        <p:spPr>
          <a:xfrm>
            <a:off x="8099280" y="1968480"/>
            <a:ext cx="792360" cy="164520"/>
          </a:xfrm>
          <a:prstGeom prst="rect">
            <a:avLst/>
          </a:prstGeom>
          <a:gradFill rotWithShape="0">
            <a:gsLst>
              <a:gs pos="0">
                <a:srgbClr val="faa906"/>
              </a:gs>
              <a:gs pos="50000">
                <a:srgbClr val="ffffff"/>
              </a:gs>
              <a:gs pos="100000">
                <a:srgbClr val="faa90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200" spc="-1" strike="noStrike">
                <a:solidFill>
                  <a:srgbClr val="800000"/>
                </a:solidFill>
                <a:latin typeface="Arial"/>
              </a:rPr>
              <a:t>939 29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471"/>
          <p:cNvSpPr/>
          <p:nvPr/>
        </p:nvSpPr>
        <p:spPr>
          <a:xfrm flipV="1">
            <a:off x="9180360" y="1483920"/>
            <a:ext cx="0" cy="576360"/>
          </a:xfrm>
          <a:prstGeom prst="line">
            <a:avLst/>
          </a:prstGeom>
          <a:ln cap="rnd" w="31680">
            <a:solidFill>
              <a:srgbClr val="003366"/>
            </a:solidFill>
            <a:custDash>
              <a:ds d="100000" sp="1000"/>
            </a:custDash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3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2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500"/>
                            </p:stCondLst>
                            <p:childTnLst>
                              <p:par>
                                <p:cTn id="27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1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6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500"/>
                            </p:stCondLst>
                            <p:childTnLst>
                              <p:par>
                                <p:cTn id="28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0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1000"/>
                            </p:stCondLst>
                            <p:childTnLst>
                              <p:par>
                                <p:cTn id="29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4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9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Номер слайда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EEEF0-17DF-438D-A059-D67B08C5787B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34920" y="-747720"/>
          <a:ext cx="9144000" cy="7738920"/>
        </p:xfrm>
        <a:graphic>
          <a:graphicData uri="http://schemas.openxmlformats.org/drawingml/2006/table">
            <a:tbl>
              <a:tblPr/>
              <a:tblGrid>
                <a:gridCol w="4330800"/>
                <a:gridCol w="438120"/>
                <a:gridCol w="525240"/>
                <a:gridCol w="1282680"/>
                <a:gridCol w="1284480"/>
                <a:gridCol w="1282680"/>
              </a:tblGrid>
              <a:tr h="65556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именование показател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д стро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д по КОСГ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юджетна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ятель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иносящая дох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ятель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редства во временном распоряжен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116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596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перации с финансовыми активами и обязательств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9720">
                <a:tc>
                  <a:txBody>
                    <a:bodyPr lIns="36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перации с финансовыми активам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6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- 85479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6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1130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52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Чистое поступление средств на счета бюдже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4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- 869 79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59 0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056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 том числе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ступления средств на счета бюдже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5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 4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6 09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948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ыбытия со счетов бюдже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6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2 2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 04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056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Чистое поступление ценных бумаг, кроме акций и иных форм участия в капитал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848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 том числе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величение стоимости ценных бумаг, кроме акций и иных форм участия в капитал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368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меньшение стоимости ценных бумаг, кроме акций и иных форм участия в капитал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596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Чистое поступление акций и иных форм участия в капитал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076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 том числе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величение стоимости акций и иных форм участия в капитал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596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меньшение стоимости акций и иных форм участия в капитал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4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596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Чистое предоставление бюджетных ссуд, бюджетных креди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076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 том числе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едоставление бюджетных ссуд, бюджетных креди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596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гашение бюджетных ссуд, бюджетных креди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6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6512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Чистое поступление депозитов, иных финансовых актив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4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</a:t>
                      </a: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5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</a:t>
                      </a: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6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7960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Чистое увеличение дебиторской задолженности (кроме</a:t>
                      </a: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юджетных ссуд, бюджетных кредитов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4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5 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54 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948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величение прочей дебиторской задолженно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8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5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 8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1 6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948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меньшение прочей дебиторской задолженно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8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6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 8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 6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06F70-7E9D-40C9-92AD-E47B61D65425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190440" y="228600"/>
          <a:ext cx="8774280" cy="6442200"/>
        </p:xfrm>
        <a:graphic>
          <a:graphicData uri="http://schemas.openxmlformats.org/drawingml/2006/table">
            <a:tbl>
              <a:tblPr/>
              <a:tblGrid>
                <a:gridCol w="4156200"/>
                <a:gridCol w="420480"/>
                <a:gridCol w="503280"/>
                <a:gridCol w="1231920"/>
                <a:gridCol w="1309680"/>
                <a:gridCol w="1152720"/>
              </a:tblGrid>
              <a:tr h="76068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именование показател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д стро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д по КОСГ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юджетна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ятель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небюджетна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ятель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редства во временном распоряжен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744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972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перации с обязательствам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= стр.520 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+стр. 5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+ стр. 5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056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Чистое увеличение задолженности по внутренним долговым обязательства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9272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 том числе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величение задолженности по внутренним долговым обязательства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Сч. 0301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1164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меньшение задолженности по внутренним долговым обязательства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Сч. 0301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056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Чистое увеличение задолженности по внешним долговым обязательства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9272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 том числе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величение задолженности по внешним долговым обязательства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Сч. 0301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1164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меньшение задолженности по внешним долговым обязательства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Сч. 0301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7960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Чистое увеличение кредиторской задолженности (кроме внутреннего и внешнего долга, обязательств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7960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 том числе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величение прочей кредиторской задолжен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4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Сч. 0302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0303, 03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кр.030401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30405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7960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меньшение прочей кредиторской задолжен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Сч. 0302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0303, 03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кр.030401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30405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Номер слайда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29F71-B2C6-492D-81E8-5382DFB6B063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0B0C0-907A-4310-8964-0F80C9B7149B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36360" y="476280"/>
            <a:ext cx="9144000" cy="648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5400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8497a"/>
                </a:solidFill>
                <a:latin typeface="Arial"/>
              </a:rPr>
              <a:t>Принцип заполнения строк остался прежни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5400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8497a"/>
                </a:solidFill>
                <a:latin typeface="Arial"/>
              </a:rPr>
              <a:t>Отдельные изменен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5400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ри</a:t>
            </a:r>
            <a:r>
              <a:rPr b="1" lang="ru-RU" sz="2000" spc="-1" strike="noStrike">
                <a:solidFill>
                  <a:srgbClr val="28497a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заполнении  строки 040 графы 5 </a:t>
            </a:r>
            <a:r>
              <a:rPr b="1" lang="ru-RU" sz="2000" spc="-1" strike="noStrike">
                <a:solidFill>
                  <a:srgbClr val="14253d"/>
                </a:solidFill>
                <a:latin typeface="Arial"/>
              </a:rPr>
              <a:t>по приносящей доход деятельности сумма начисленных доходов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о счету 2 401 10 130 </a:t>
            </a:r>
            <a:r>
              <a:rPr b="1" lang="ru-RU" sz="2000" spc="-1" strike="noStrike">
                <a:solidFill>
                  <a:srgbClr val="14253d"/>
                </a:solidFill>
                <a:latin typeface="Arial"/>
              </a:rPr>
              <a:t>«Доходы от платных услуг»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отражаются за минусом НД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5400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Графа 5 строк 050 </a:t>
            </a:r>
            <a:r>
              <a:rPr b="1" lang="ru-RU" sz="2000" spc="-1" strike="noStrike">
                <a:solidFill>
                  <a:srgbClr val="14253d"/>
                </a:solidFill>
                <a:latin typeface="Arial"/>
              </a:rPr>
              <a:t>«Суммы принудительного изъятия»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, 061 – 063 </a:t>
            </a:r>
            <a:r>
              <a:rPr b="1" lang="ru-RU" sz="2000" spc="-1" strike="noStrike">
                <a:solidFill>
                  <a:srgbClr val="14253d"/>
                </a:solidFill>
                <a:latin typeface="Arial"/>
              </a:rPr>
              <a:t>«Безвозмездные поступления от бюджетов»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, 080 </a:t>
            </a:r>
            <a:r>
              <a:rPr b="1" lang="ru-RU" sz="2000" spc="-1" strike="noStrike">
                <a:solidFill>
                  <a:srgbClr val="14253d"/>
                </a:solidFill>
                <a:latin typeface="Arial"/>
              </a:rPr>
              <a:t>«Взносы на социальные нужды»,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231 </a:t>
            </a:r>
            <a:r>
              <a:rPr b="1" lang="ru-RU" sz="2000" spc="-1" strike="noStrike">
                <a:solidFill>
                  <a:srgbClr val="14253d"/>
                </a:solidFill>
                <a:latin typeface="Arial"/>
              </a:rPr>
              <a:t>«Безвозмездные перечисления другим бюджетам бюджетной системы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» не заполняютс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5400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Графа 5 строк 092 </a:t>
            </a:r>
            <a:r>
              <a:rPr b="1" lang="ru-RU" sz="2000" spc="-1" strike="noStrike">
                <a:solidFill>
                  <a:srgbClr val="14253d"/>
                </a:solidFill>
                <a:latin typeface="Arial"/>
              </a:rPr>
              <a:t>«Доходы от реализации активов»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и стр.100 </a:t>
            </a:r>
            <a:r>
              <a:rPr b="1" lang="ru-RU" sz="2000" spc="-1" strike="noStrike">
                <a:solidFill>
                  <a:srgbClr val="14253d"/>
                </a:solidFill>
                <a:latin typeface="Arial"/>
              </a:rPr>
              <a:t>«Прочие доходы» отражаются по данным соответственно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счетов 2 401 10 172 и 2 401 10 180, увеличенные на сумму начисленного  за счет этих доходов налога на прибыл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5400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Графа 5 строки 110 «</a:t>
            </a:r>
            <a:r>
              <a:rPr b="1" lang="ru-RU" sz="2000" spc="-1" strike="noStrike">
                <a:solidFill>
                  <a:srgbClr val="14253d"/>
                </a:solidFill>
                <a:latin typeface="Arial"/>
              </a:rPr>
              <a:t>Доходы будущих периодов» отражается разница между кредитовым и дебетовым оборотом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о счету  2 401 40 130 </a:t>
            </a:r>
            <a:r>
              <a:rPr b="1" lang="ru-RU" sz="2000" spc="-1" strike="noStrike">
                <a:solidFill>
                  <a:srgbClr val="14253d"/>
                </a:solidFill>
                <a:latin typeface="Arial"/>
              </a:rPr>
              <a:t>«Доходы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14253d"/>
                </a:solidFill>
                <a:latin typeface="Arial"/>
              </a:rPr>
              <a:t>будущих периодов от рыночных  продаж  готовой продукции, работ, услуг»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сложившихся за отчетный период.</a:t>
            </a:r>
            <a:r>
              <a:rPr b="1" lang="ru-RU" sz="2000" spc="-1" strike="noStrike">
                <a:solidFill>
                  <a:srgbClr val="14253d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5400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4253d"/>
                </a:solidFill>
                <a:latin typeface="Arial"/>
              </a:rPr>
              <a:t>При заполнении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строк 160 – 280 в графе 5 </a:t>
            </a:r>
            <a:r>
              <a:rPr b="1" lang="ru-RU" sz="2000" spc="-1" strike="noStrike">
                <a:solidFill>
                  <a:srgbClr val="14253d"/>
                </a:solidFill>
                <a:latin typeface="Arial"/>
              </a:rPr>
              <a:t>по приносящей доход деятельности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данные отражаются с учетом дебетового оборота счета 2 401 10 130 </a:t>
            </a:r>
            <a:r>
              <a:rPr b="1" lang="ru-RU" sz="2000" spc="-1" strike="noStrike">
                <a:solidFill>
                  <a:srgbClr val="14253d"/>
                </a:solidFill>
                <a:latin typeface="Arial"/>
              </a:rPr>
              <a:t>«Доходы от платных услуг»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5400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8"/>
          <p:cNvSpPr/>
          <p:nvPr/>
        </p:nvSpPr>
        <p:spPr>
          <a:xfrm>
            <a:off x="0" y="44280"/>
            <a:ext cx="9144000" cy="406440"/>
          </a:xfrm>
          <a:prstGeom prst="rect">
            <a:avLst/>
          </a:prstGeom>
          <a:gradFill rotWithShape="0">
            <a:gsLst>
              <a:gs pos="0">
                <a:srgbClr val="ccff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9153b"/>
                </a:solidFill>
                <a:latin typeface="Arial"/>
              </a:rPr>
              <a:t>Отчет  (форма 0503121). Основные изме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Номер слайда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95B64-3F06-4CB0-8934-16F252640E72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34920" y="44280"/>
          <a:ext cx="8929800" cy="4137120"/>
        </p:xfrm>
        <a:graphic>
          <a:graphicData uri="http://schemas.openxmlformats.org/drawingml/2006/table">
            <a:tbl>
              <a:tblPr/>
              <a:tblGrid>
                <a:gridCol w="4229280"/>
                <a:gridCol w="668160"/>
                <a:gridCol w="576360"/>
                <a:gridCol w="1295280"/>
                <a:gridCol w="1268280"/>
                <a:gridCol w="892440"/>
              </a:tblGrid>
              <a:tr h="107172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20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Наименование показател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20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Код стро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20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Код по КОСГ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Бюджетна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деятель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Внебюджетна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деятель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редства во временном распоряжен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520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20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20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20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20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20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20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128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20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Операции с обязательствам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20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5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- 544 9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9 89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7172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20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Чистое увеличение кредиторской задолженности (кроме внутреннего и внешнего долга, обязательств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5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- 544 9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9 89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5896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20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                   </a:t>
                      </a:r>
                      <a:r>
                        <a:rPr b="1" lang="ru-RU" sz="20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в том числе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20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          </a:t>
                      </a:r>
                      <a:r>
                        <a:rPr b="1" lang="ru-RU" sz="20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увеличение прочей кредиторской задолженнос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20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54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7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20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333 78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20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16 12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0012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20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          </a:t>
                      </a:r>
                      <a:r>
                        <a:rPr b="1" lang="ru-RU" sz="20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уменьшение прочей кредиторской задолженнос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20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5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8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20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878 70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20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6 2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2" name="Rectangle 197"/>
          <p:cNvSpPr/>
          <p:nvPr/>
        </p:nvSpPr>
        <p:spPr>
          <a:xfrm>
            <a:off x="0" y="4011480"/>
            <a:ext cx="4348080" cy="85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4880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Cyr"/>
              </a:rPr>
              <a:t>Строка 541</a:t>
            </a:r>
            <a:r>
              <a:rPr b="1" lang="ru-RU" sz="1800" spc="-1" strike="noStrike">
                <a:solidFill>
                  <a:srgbClr val="4880dc"/>
                </a:solidFill>
                <a:latin typeface="Arial Cyr"/>
              </a:rPr>
              <a:t> </a:t>
            </a:r>
            <a:r>
              <a:rPr b="1" lang="ru-RU" sz="1800" spc="-1" strike="noStrike">
                <a:solidFill>
                  <a:srgbClr val="660066"/>
                </a:solidFill>
                <a:latin typeface="Arial Cyr"/>
              </a:rPr>
              <a:t>по</a:t>
            </a:r>
            <a:r>
              <a:rPr b="1" lang="ru-RU" sz="1800" spc="-1" strike="noStrike">
                <a:solidFill>
                  <a:srgbClr val="4880dc"/>
                </a:solidFill>
                <a:latin typeface="Arial Cyr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 Cyr"/>
              </a:rPr>
              <a:t>КОСГУ 730</a:t>
            </a:r>
            <a:r>
              <a:rPr b="1" lang="ru-RU" sz="1800" spc="-1" strike="noStrike">
                <a:solidFill>
                  <a:srgbClr val="4880dc"/>
                </a:solidFill>
                <a:latin typeface="Arial Cyr"/>
              </a:rPr>
              <a:t> </a:t>
            </a:r>
            <a:r>
              <a:rPr b="1" lang="ru-RU" sz="1800" spc="-1" strike="noStrike">
                <a:solidFill>
                  <a:srgbClr val="660066"/>
                </a:solidFill>
                <a:latin typeface="Arial Cyr"/>
              </a:rPr>
              <a:t>=</a:t>
            </a:r>
            <a:r>
              <a:rPr b="1" lang="ru-RU" sz="1800" spc="-1" strike="noStrike">
                <a:solidFill>
                  <a:srgbClr val="4880dc"/>
                </a:solidFill>
                <a:latin typeface="Arial Cyr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Cyr"/>
              </a:rPr>
              <a:t>030200000</a:t>
            </a:r>
            <a:r>
              <a:rPr b="1" lang="ru-RU" sz="1800" spc="-1" strike="noStrike">
                <a:solidFill>
                  <a:srgbClr val="4880dc"/>
                </a:solidFill>
                <a:latin typeface="Arial Cyr"/>
              </a:rPr>
              <a:t> </a:t>
            </a:r>
            <a:r>
              <a:rPr b="1" lang="ru-RU" sz="1800" spc="-1" strike="noStrike">
                <a:solidFill>
                  <a:srgbClr val="660066"/>
                </a:solidFill>
                <a:latin typeface="Arial Cyr"/>
              </a:rPr>
              <a:t>+ </a:t>
            </a:r>
            <a:r>
              <a:rPr b="1" lang="ru-RU" sz="1800" spc="-1" strike="noStrike">
                <a:solidFill>
                  <a:srgbClr val="ff0000"/>
                </a:solidFill>
                <a:latin typeface="Arial Cyr"/>
              </a:rPr>
              <a:t>030300000 </a:t>
            </a:r>
            <a:r>
              <a:rPr b="1" lang="ru-RU" sz="1800" spc="-1" strike="noStrike">
                <a:solidFill>
                  <a:srgbClr val="660066"/>
                </a:solidFill>
                <a:latin typeface="Arial Cyr"/>
              </a:rPr>
              <a:t>+ </a:t>
            </a:r>
            <a:r>
              <a:rPr b="1" lang="ru-RU" sz="1800" spc="-1" strike="noStrike">
                <a:solidFill>
                  <a:srgbClr val="ff0000"/>
                </a:solidFill>
                <a:latin typeface="Arial Cyr"/>
              </a:rPr>
              <a:t>30400000</a:t>
            </a:r>
            <a:r>
              <a:rPr b="1" lang="ru-RU" sz="1800" spc="-1" strike="noStrike">
                <a:solidFill>
                  <a:srgbClr val="660066"/>
                </a:solidFill>
                <a:latin typeface="Arial Cyr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Cyr"/>
              </a:rPr>
              <a:t>(кроме 030401000, 03040500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199"/>
          <p:cNvSpPr/>
          <p:nvPr/>
        </p:nvSpPr>
        <p:spPr>
          <a:xfrm>
            <a:off x="4643280" y="4011480"/>
            <a:ext cx="4168800" cy="85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4880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Cyr"/>
              </a:rPr>
              <a:t>Строка 542</a:t>
            </a:r>
            <a:r>
              <a:rPr b="1" lang="ru-RU" sz="1800" spc="-1" strike="noStrike">
                <a:solidFill>
                  <a:srgbClr val="4880dc"/>
                </a:solidFill>
                <a:latin typeface="Arial Cyr"/>
              </a:rPr>
              <a:t> </a:t>
            </a:r>
            <a:r>
              <a:rPr b="1" lang="ru-RU" sz="1800" spc="-1" strike="noStrike">
                <a:solidFill>
                  <a:srgbClr val="660066"/>
                </a:solidFill>
                <a:latin typeface="Arial Cyr"/>
              </a:rPr>
              <a:t>по</a:t>
            </a:r>
            <a:r>
              <a:rPr b="1" lang="ru-RU" sz="1800" spc="-1" strike="noStrike">
                <a:solidFill>
                  <a:srgbClr val="4880dc"/>
                </a:solidFill>
                <a:latin typeface="Arial Cyr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 Cyr"/>
              </a:rPr>
              <a:t>КОСГУ 830</a:t>
            </a:r>
            <a:r>
              <a:rPr b="1" lang="ru-RU" sz="1800" spc="-1" strike="noStrike">
                <a:solidFill>
                  <a:srgbClr val="4880dc"/>
                </a:solidFill>
                <a:latin typeface="Arial Cyr"/>
              </a:rPr>
              <a:t> </a:t>
            </a:r>
            <a:r>
              <a:rPr b="1" lang="ru-RU" sz="1800" spc="-1" strike="noStrike">
                <a:solidFill>
                  <a:srgbClr val="660066"/>
                </a:solidFill>
                <a:latin typeface="Arial Cyr"/>
              </a:rPr>
              <a:t>=</a:t>
            </a:r>
            <a:r>
              <a:rPr b="1" lang="ru-RU" sz="1800" spc="-1" strike="noStrike">
                <a:solidFill>
                  <a:srgbClr val="4880dc"/>
                </a:solidFill>
                <a:latin typeface="Arial Cyr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Cyr"/>
              </a:rPr>
              <a:t>030200000</a:t>
            </a:r>
            <a:r>
              <a:rPr b="1" lang="ru-RU" sz="1800" spc="-1" strike="noStrike">
                <a:solidFill>
                  <a:srgbClr val="4880dc"/>
                </a:solidFill>
                <a:latin typeface="Arial Cyr"/>
              </a:rPr>
              <a:t> </a:t>
            </a:r>
            <a:r>
              <a:rPr b="1" lang="ru-RU" sz="1800" spc="-1" strike="noStrike">
                <a:solidFill>
                  <a:srgbClr val="660066"/>
                </a:solidFill>
                <a:latin typeface="Arial Cyr"/>
              </a:rPr>
              <a:t>+ </a:t>
            </a:r>
            <a:r>
              <a:rPr b="1" lang="ru-RU" sz="1800" spc="-1" strike="noStrike">
                <a:solidFill>
                  <a:srgbClr val="ff0000"/>
                </a:solidFill>
                <a:latin typeface="Arial Cyr"/>
              </a:rPr>
              <a:t>030300000</a:t>
            </a:r>
            <a:r>
              <a:rPr b="1" lang="ru-RU" sz="1800" spc="-1" strike="noStrike">
                <a:solidFill>
                  <a:srgbClr val="4880dc"/>
                </a:solidFill>
                <a:latin typeface="Arial Cyr"/>
              </a:rPr>
              <a:t> </a:t>
            </a:r>
            <a:r>
              <a:rPr b="1" lang="ru-RU" sz="1800" spc="-1" strike="noStrike">
                <a:solidFill>
                  <a:srgbClr val="660066"/>
                </a:solidFill>
                <a:latin typeface="Arial Cyr"/>
              </a:rPr>
              <a:t>+ </a:t>
            </a:r>
            <a:r>
              <a:rPr b="1" lang="ru-RU" sz="1800" spc="-1" strike="noStrike">
                <a:solidFill>
                  <a:srgbClr val="ff0000"/>
                </a:solidFill>
                <a:latin typeface="Arial Cyr"/>
              </a:rPr>
              <a:t>3040000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Cyr"/>
              </a:rPr>
              <a:t>(кроме 030401000, 03040500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6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1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Номер слайда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99E40-16E4-4386-98B4-AC5DCA9B78A6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108000" y="476280"/>
          <a:ext cx="8929800" cy="5691240"/>
        </p:xfrm>
        <a:graphic>
          <a:graphicData uri="http://schemas.openxmlformats.org/drawingml/2006/table">
            <a:tbl>
              <a:tblPr/>
              <a:tblGrid>
                <a:gridCol w="4228920"/>
                <a:gridCol w="428760"/>
                <a:gridCol w="512640"/>
                <a:gridCol w="1252800"/>
                <a:gridCol w="1253880"/>
                <a:gridCol w="1252800"/>
              </a:tblGrid>
              <a:tr h="76068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Наименование показател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Код стро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Код по КОСГ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Бюджетна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деятель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Приносящая доход деятель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редства во временном распоряжен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744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52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Операции с обязательства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5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- 544 9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9 89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056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Чистое увеличение задолженности по внутренним долговым обязательства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5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400" spc="-1" strike="noStrike">
                          <a:solidFill>
                            <a:srgbClr val="4880dc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400" spc="-1" strike="noStrike">
                          <a:solidFill>
                            <a:srgbClr val="9933ff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1164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                     </a:t>
                      </a: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в том числе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          </a:t>
                      </a: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увеличение задолженности по внутренним долговым обязательства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5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7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056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          </a:t>
                      </a: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уменьшение задолженности по внутренним долговым обязательства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5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8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056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Чистое увеличение задолженности по внешним долговым обязательства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5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400" spc="-1" strike="noStrike">
                          <a:solidFill>
                            <a:srgbClr val="4880dc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400" spc="-1" strike="noStrike">
                          <a:solidFill>
                            <a:srgbClr val="9933ff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1164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                   </a:t>
                      </a: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в том числе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          </a:t>
                      </a: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увеличение задолженности по внешним долговым обязательства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5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7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056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          </a:t>
                      </a: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уменьшение задолженности по внешним долговым обязательства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5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8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7960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Чистое увеличение кредиторской задолженности (кроме внутреннего и внешнего долга, обязательств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5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- 544 9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9 89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7960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                   </a:t>
                      </a: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в том числе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          </a:t>
                      </a: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увеличение прочей кредиторской задолжен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54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7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333 7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16 1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52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          </a:t>
                      </a: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уменьшение прочей кредиторской задолжен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5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8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878 7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6 2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Номер слайда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CDA01-CD20-4920-90A8-5B1ED2C1C048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106200" y="44280"/>
          <a:ext cx="8929800" cy="1992600"/>
        </p:xfrm>
        <a:graphic>
          <a:graphicData uri="http://schemas.openxmlformats.org/drawingml/2006/table">
            <a:tbl>
              <a:tblPr/>
              <a:tblGrid>
                <a:gridCol w="4229280"/>
                <a:gridCol w="428760"/>
                <a:gridCol w="512640"/>
                <a:gridCol w="1252440"/>
                <a:gridCol w="1254240"/>
                <a:gridCol w="1252440"/>
              </a:tblGrid>
              <a:tr h="796680"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Наименование показател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Код стро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Код по КОСГ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Бюджетна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деятельн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Приносящая дох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деятельн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редства во временном распоряжен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3440"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4520"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Операции с финансовыми активами и обязательства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3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-30987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10314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5480">
                <a:tc>
                  <a:txBody>
                    <a:bodyPr lIns="18000" rIns="18000" tIns="36000" bIns="36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Операции с финансовыми актива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854 79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3 0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5480">
                <a:tc>
                  <a:txBody>
                    <a:bodyPr lIns="18000" rIns="18000" tIns="36000" bIns="36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Операции с обязательства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5</a:t>
                      </a: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- 544 9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9 89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8" name="Rectangle 70"/>
          <p:cNvSpPr/>
          <p:nvPr/>
        </p:nvSpPr>
        <p:spPr>
          <a:xfrm>
            <a:off x="260280" y="149040"/>
            <a:ext cx="7732800" cy="448200"/>
          </a:xfrm>
          <a:prstGeom prst="rect">
            <a:avLst/>
          </a:prstGeom>
          <a:solidFill>
            <a:srgbClr val="ffffff"/>
          </a:solidFill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800000"/>
                </a:solidFill>
                <a:latin typeface="Arial"/>
              </a:rPr>
              <a:t>Операции с финансовыми активами и обязательствами</a:t>
            </a:r>
            <a:r>
              <a:rPr b="1" lang="ru-RU" sz="12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(строка 380)  =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(строка 390) – (строка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510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106200" y="4076640"/>
          <a:ext cx="8929800" cy="1305000"/>
        </p:xfrm>
        <a:graphic>
          <a:graphicData uri="http://schemas.openxmlformats.org/drawingml/2006/table">
            <a:tbl>
              <a:tblPr/>
              <a:tblGrid>
                <a:gridCol w="4229280"/>
                <a:gridCol w="428760"/>
                <a:gridCol w="511200"/>
                <a:gridCol w="1255680"/>
                <a:gridCol w="1250640"/>
                <a:gridCol w="1254240"/>
              </a:tblGrid>
              <a:tr h="796680"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именование показател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д стро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д по КОСГ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юджетна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ятель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иносящая дох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ятель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редства во временном распоряжен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3440"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5480"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Операции с нефинансовыми актива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3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11 0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1 6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00" name=""/>
          <p:cNvGraphicFramePr/>
          <p:nvPr/>
        </p:nvGraphicFramePr>
        <p:xfrm>
          <a:off x="106200" y="5373720"/>
          <a:ext cx="8929800" cy="1485720"/>
        </p:xfrm>
        <a:graphic>
          <a:graphicData uri="http://schemas.openxmlformats.org/drawingml/2006/table">
            <a:tbl>
              <a:tblPr/>
              <a:tblGrid>
                <a:gridCol w="4229280"/>
                <a:gridCol w="428760"/>
                <a:gridCol w="512640"/>
                <a:gridCol w="1252440"/>
                <a:gridCol w="1254240"/>
                <a:gridCol w="1252440"/>
              </a:tblGrid>
              <a:tr h="797040"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именование показател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д стро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д по КОСГ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юджетна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ятельн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небюджетн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ятельн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3800"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4880"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Операции с финансовыми активами и обязательства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3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- 309 87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03 14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01" name=""/>
          <p:cNvGraphicFramePr/>
          <p:nvPr/>
        </p:nvGraphicFramePr>
        <p:xfrm>
          <a:off x="93600" y="3716280"/>
          <a:ext cx="8942400" cy="274680"/>
        </p:xfrm>
        <a:graphic>
          <a:graphicData uri="http://schemas.openxmlformats.org/drawingml/2006/table">
            <a:tbl>
              <a:tblPr/>
              <a:tblGrid>
                <a:gridCol w="4233960"/>
                <a:gridCol w="430200"/>
                <a:gridCol w="514440"/>
                <a:gridCol w="1253880"/>
                <a:gridCol w="1255680"/>
                <a:gridCol w="125424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Чистый операционный результа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2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- 198 8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24 79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02" name="Rectangle 159"/>
          <p:cNvSpPr/>
          <p:nvPr/>
        </p:nvSpPr>
        <p:spPr>
          <a:xfrm>
            <a:off x="900000" y="2570400"/>
            <a:ext cx="7608960" cy="462600"/>
          </a:xfrm>
          <a:prstGeom prst="rect">
            <a:avLst/>
          </a:prstGeom>
          <a:solidFill>
            <a:srgbClr val="ffffff"/>
          </a:solidFill>
          <a:ln w="12600">
            <a:solidFill>
              <a:srgbClr val="4880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400" spc="-1" strike="noStrike">
                <a:solidFill>
                  <a:srgbClr val="660066"/>
                </a:solidFill>
                <a:latin typeface="Arial"/>
              </a:rPr>
              <a:t>Контрольное соотношение: 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(строка 310) + (строка 390)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- (строка 510) = (строка 290)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160"/>
          <p:cNvSpPr/>
          <p:nvPr/>
        </p:nvSpPr>
        <p:spPr>
          <a:xfrm>
            <a:off x="934920" y="3146760"/>
            <a:ext cx="7608960" cy="462600"/>
          </a:xfrm>
          <a:prstGeom prst="rect">
            <a:avLst/>
          </a:prstGeom>
          <a:solidFill>
            <a:srgbClr val="ffffff"/>
          </a:solidFill>
          <a:ln w="12600">
            <a:solidFill>
              <a:srgbClr val="4880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400" spc="-1" strike="noStrike">
                <a:solidFill>
                  <a:srgbClr val="660066"/>
                </a:solidFill>
                <a:latin typeface="Arial"/>
              </a:rPr>
              <a:t>          </a:t>
            </a:r>
            <a:r>
              <a:rPr b="1" lang="ru-RU" sz="1400" spc="-1" strike="noStrike">
                <a:solidFill>
                  <a:srgbClr val="660066"/>
                </a:solidFill>
                <a:latin typeface="Arial"/>
              </a:rPr>
              <a:t>Контрольное соотношение: </a:t>
            </a:r>
            <a:r>
              <a:rPr b="1" lang="ru-RU" sz="1400" spc="-1" strike="noStrike">
                <a:solidFill>
                  <a:srgbClr val="4880dc"/>
                </a:solidFill>
                <a:latin typeface="Arial"/>
              </a:rPr>
              <a:t>(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строка 310) + (строка 38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= (строка  29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161"/>
          <p:cNvSpPr/>
          <p:nvPr/>
        </p:nvSpPr>
        <p:spPr>
          <a:xfrm>
            <a:off x="934920" y="2065680"/>
            <a:ext cx="7608960" cy="462600"/>
          </a:xfrm>
          <a:prstGeom prst="rect">
            <a:avLst/>
          </a:prstGeom>
          <a:solidFill>
            <a:srgbClr val="ffffff"/>
          </a:solidFill>
          <a:ln w="12600">
            <a:solidFill>
              <a:srgbClr val="4880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400" spc="-1" strike="noStrike">
                <a:solidFill>
                  <a:srgbClr val="660066"/>
                </a:solidFill>
                <a:latin typeface="Arial"/>
              </a:rPr>
              <a:t>Контрольное соотношение: 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(строка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291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)  - (строка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292)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= (строка 290)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8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3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500"/>
                            </p:stCondLst>
                            <p:childTnLst>
                              <p:par>
                                <p:cTn id="32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7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1000"/>
                            </p:stCondLst>
                            <p:childTnLst>
                              <p:par>
                                <p:cTn id="32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1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1500"/>
                            </p:stCondLst>
                            <p:childTnLst>
                              <p:par>
                                <p:cTn id="33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Номер слайда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5FAA5-C8F0-4566-95F8-4C80496B79CC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F8E64-841D-4784-BAD3-7362874B389F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36360" y="-27000"/>
            <a:ext cx="9144000" cy="527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5400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5400">
              <a:lnSpc>
                <a:spcPts val="2398"/>
              </a:lnSpc>
              <a:buClr>
                <a:srgbClr val="ff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Суммы расходов, сформировавших себестоимость </a:t>
            </a:r>
            <a:r>
              <a:rPr b="1" lang="ru-RU" sz="2000" spc="-1" strike="noStrike">
                <a:solidFill>
                  <a:srgbClr val="28497a"/>
                </a:solidFill>
                <a:latin typeface="Arial"/>
              </a:rPr>
              <a:t>выполненных работ, оказанных услуг на основании данных аналитического учета в разрезе соответствующих КОСГУ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о счету 2 106 34 440</a:t>
            </a:r>
            <a:r>
              <a:rPr b="1" lang="ru-RU" sz="2000" spc="-1" strike="noStrike">
                <a:solidFill>
                  <a:srgbClr val="28497a"/>
                </a:solidFill>
                <a:latin typeface="Arial"/>
              </a:rPr>
              <a:t> «Уменьшение вложений в материальные запасы – иное движимое имущество учреждения», 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2 106 44 440 </a:t>
            </a:r>
            <a:r>
              <a:rPr b="1" lang="ru-RU" sz="2000" spc="-1" strike="noStrike">
                <a:solidFill>
                  <a:srgbClr val="28497a"/>
                </a:solidFill>
                <a:latin typeface="Arial"/>
              </a:rPr>
              <a:t>«Уменьшение вложений в материальные запасы – предметы лизинга»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5400">
              <a:lnSpc>
                <a:spcPts val="2398"/>
              </a:lnSpc>
              <a:buClr>
                <a:srgbClr val="28497a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8497a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Сумма стоимости </a:t>
            </a:r>
            <a:r>
              <a:rPr b="1" lang="ru-RU" sz="2000" spc="-1" strike="noStrike">
                <a:solidFill>
                  <a:srgbClr val="28497a"/>
                </a:solidFill>
                <a:latin typeface="Arial"/>
              </a:rPr>
              <a:t>реализованной готовой продукции по счетам:  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2 105 31 440, 2 105 32 440, 2 105 33 440, 2 105 34 440, 2 105 35 440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5400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2 105 36 440, 2 105 37 440, 2 105 38 440, 2 105 44 440, 2 105 46 440 </a:t>
            </a:r>
            <a:r>
              <a:rPr b="1" lang="ru-RU" sz="2000" spc="-1" strike="noStrike">
                <a:solidFill>
                  <a:srgbClr val="14253d"/>
                </a:solidFill>
                <a:latin typeface="Arial"/>
              </a:rPr>
              <a:t>«Уменьшение стоимости прочих  материальных запасов  - предметов лизинга»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в части переданной заказчику готовой продукции (по статье 272 КОСГУ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5400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3) Суммы  расходов, </a:t>
            </a:r>
            <a:r>
              <a:rPr b="1" lang="ru-RU" sz="2000" spc="-1" strike="noStrike">
                <a:solidFill>
                  <a:srgbClr val="14253d"/>
                </a:solidFill>
                <a:latin typeface="Arial"/>
              </a:rPr>
              <a:t>связанных с реализацией готовой продукции по данным соответствующих счетов 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счета  2  401 20 200 </a:t>
            </a:r>
            <a:r>
              <a:rPr b="1" lang="ru-RU" sz="2000" spc="-1" strike="noStrike">
                <a:solidFill>
                  <a:srgbClr val="14253d"/>
                </a:solidFill>
                <a:latin typeface="Arial"/>
              </a:rPr>
              <a:t>«Расходы учреждения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5400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948F0-8017-4F6B-9FFE-C9C3FABA7877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6"/>
          <p:cNvSpPr/>
          <p:nvPr/>
        </p:nvSpPr>
        <p:spPr>
          <a:xfrm>
            <a:off x="228600" y="1143000"/>
            <a:ext cx="8763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7"/>
          <p:cNvSpPr/>
          <p:nvPr/>
        </p:nvSpPr>
        <p:spPr>
          <a:xfrm>
            <a:off x="108000" y="176760"/>
            <a:ext cx="8964720" cy="116928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тчет о финансовых результатах деятельност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ф. 050312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8"/>
          <p:cNvSpPr/>
          <p:nvPr/>
        </p:nvSpPr>
        <p:spPr>
          <a:xfrm>
            <a:off x="250920" y="1557360"/>
            <a:ext cx="8762760" cy="5580360"/>
          </a:xfrm>
          <a:prstGeom prst="rect">
            <a:avLst/>
          </a:prstGeom>
          <a:gradFill rotWithShape="0">
            <a:gsLst>
              <a:gs pos="0">
                <a:srgbClr val="3cc44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тчет по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КОСГ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 графе 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иводятся наименования показателе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 графе 2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иводятся коды строк отчет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 графе 3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иводятся коды Классификации операций сектора государственного управл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 графе 4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«Бюджетная деятельность» отражаются показатели финансового результата по операциям в рамках исполнения соответствующего бюджета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 графе 5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«Приносящая доход деятельность» отражаются показатели финансового результата деятельности в рамках предпринимательской и иной приносящей доход деятельности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 графе 6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«Средства во временном распоряжени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8920"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 графе 7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Итого» по всем строкам отражается сумма показателей по графам 4,5 и 6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64AB4-46E9-4261-A9FE-846A94001180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17"/>
          <p:cNvSpPr/>
          <p:nvPr/>
        </p:nvSpPr>
        <p:spPr>
          <a:xfrm>
            <a:off x="8478720" y="6465600"/>
            <a:ext cx="588960" cy="433800"/>
          </a:xfrm>
          <a:prstGeom prst="ellipse">
            <a:avLst/>
          </a:prstGeom>
          <a:gradFill rotWithShape="0">
            <a:gsLst>
              <a:gs pos="0">
                <a:srgbClr val="faa906"/>
              </a:gs>
              <a:gs pos="50000">
                <a:srgbClr val="ffffff"/>
              </a:gs>
              <a:gs pos="100000">
                <a:srgbClr val="faa906"/>
              </a:gs>
            </a:gsLst>
            <a:lin ang="5400000"/>
          </a:gradFill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400" spc="-1" strike="noStrike">
                <a:solidFill>
                  <a:srgbClr val="9900cc"/>
                </a:solidFill>
                <a:latin typeface="Arial Cyr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8"/>
          <p:cNvSpPr/>
          <p:nvPr/>
        </p:nvSpPr>
        <p:spPr>
          <a:xfrm>
            <a:off x="609480" y="457200"/>
            <a:ext cx="8305920" cy="173916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Чистый операционный результат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, как по бюджетным средствам, так и по внебюджетным средствам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отражается, как сумма изменения финансового результата за отчетный период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 и формируетс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9"/>
          <p:cNvSpPr/>
          <p:nvPr/>
        </p:nvSpPr>
        <p:spPr>
          <a:xfrm>
            <a:off x="539640" y="3357720"/>
            <a:ext cx="331308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Чистый операционный результа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21"/>
          <p:cNvSpPr/>
          <p:nvPr/>
        </p:nvSpPr>
        <p:spPr>
          <a:xfrm>
            <a:off x="4788000" y="4331520"/>
            <a:ext cx="4105080" cy="912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600" spc="-1" strike="noStrike">
                <a:solidFill>
                  <a:srgbClr val="cc3300"/>
                </a:solidFill>
                <a:latin typeface="Arial Cyr"/>
              </a:rPr>
              <a:t>Операции с нефинансовыми </a:t>
            </a:r>
            <a:r>
              <a:rPr b="1" lang="ru-RU" sz="1600" spc="-1" strike="noStrike">
                <a:solidFill>
                  <a:srgbClr val="ff0000"/>
                </a:solidFill>
                <a:latin typeface="Arial Cyr"/>
              </a:rPr>
              <a:t>плюс </a:t>
            </a:r>
            <a:r>
              <a:rPr b="1" lang="ru-RU" sz="1600" spc="-1" strike="noStrike">
                <a:solidFill>
                  <a:srgbClr val="cc3300"/>
                </a:solidFill>
                <a:latin typeface="Arial Cyr"/>
              </a:rPr>
              <a:t>операции с </a:t>
            </a:r>
            <a:r>
              <a:rPr b="1" lang="ru-RU" sz="1600" spc="-1" strike="noStrike">
                <a:solidFill>
                  <a:srgbClr val="000000"/>
                </a:solidFill>
                <a:latin typeface="Arial Cyr"/>
              </a:rPr>
              <a:t>финансовыми</a:t>
            </a:r>
            <a:r>
              <a:rPr b="1" lang="ru-RU" sz="1600" spc="-1" strike="noStrike">
                <a:solidFill>
                  <a:srgbClr val="ff0000"/>
                </a:solidFill>
                <a:latin typeface="Arial Cyr"/>
              </a:rPr>
              <a:t> </a:t>
            </a:r>
            <a:r>
              <a:rPr b="1" lang="ru-RU" sz="1600" spc="-1" strike="noStrike">
                <a:solidFill>
                  <a:srgbClr val="cc3300"/>
                </a:solidFill>
                <a:latin typeface="Arial Cyr"/>
              </a:rPr>
              <a:t>активами  </a:t>
            </a:r>
            <a:r>
              <a:rPr b="1" lang="ru-RU" sz="1600" spc="-1" strike="noStrike">
                <a:solidFill>
                  <a:srgbClr val="ff0000"/>
                </a:solidFill>
                <a:latin typeface="Arial Cyr"/>
              </a:rPr>
              <a:t>минус</a:t>
            </a:r>
            <a:r>
              <a:rPr b="1" lang="ru-RU" sz="1600" spc="-1" strike="noStrike">
                <a:solidFill>
                  <a:srgbClr val="cc3300"/>
                </a:solidFill>
                <a:latin typeface="Arial Cyr"/>
              </a:rPr>
              <a:t> операции с </a:t>
            </a:r>
            <a:r>
              <a:rPr b="1" lang="ru-RU" sz="1600" spc="-1" strike="noStrike">
                <a:solidFill>
                  <a:srgbClr val="28497a"/>
                </a:solidFill>
                <a:latin typeface="Arial Cyr"/>
              </a:rPr>
              <a:t>обязательства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22"/>
          <p:cNvSpPr/>
          <p:nvPr/>
        </p:nvSpPr>
        <p:spPr>
          <a:xfrm>
            <a:off x="6012000" y="3716280"/>
            <a:ext cx="1439640" cy="5205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23"/>
          <p:cNvSpPr/>
          <p:nvPr/>
        </p:nvSpPr>
        <p:spPr>
          <a:xfrm rot="213000">
            <a:off x="3492000" y="5084280"/>
            <a:ext cx="1657440" cy="1381320"/>
          </a:xfrm>
          <a:custGeom>
            <a:avLst/>
            <a:gdLst>
              <a:gd name="textAreaLeft" fmla="*/ 289800 w 1657440"/>
              <a:gd name="textAreaRight" fmla="*/ 1201680 w 1657440"/>
              <a:gd name="textAreaTop" fmla="*/ 185040 h 1381320"/>
              <a:gd name="textAreaBottom" fmla="*/ 1196280 h 1381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edf808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24"/>
          <p:cNvSpPr/>
          <p:nvPr/>
        </p:nvSpPr>
        <p:spPr>
          <a:xfrm>
            <a:off x="3564000" y="2349360"/>
            <a:ext cx="1584360" cy="1020960"/>
          </a:xfrm>
          <a:custGeom>
            <a:avLst/>
            <a:gdLst>
              <a:gd name="textAreaLeft" fmla="*/ 277200 w 1584360"/>
              <a:gd name="textAreaRight" fmla="*/ 1148760 w 1584360"/>
              <a:gd name="textAreaTop" fmla="*/ 136800 h 1020960"/>
              <a:gd name="textAreaBottom" fmla="*/ 884160 h 10209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edf808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25"/>
          <p:cNvSpPr/>
          <p:nvPr/>
        </p:nvSpPr>
        <p:spPr>
          <a:xfrm>
            <a:off x="5364000" y="2658240"/>
            <a:ext cx="3313440" cy="912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3300"/>
                </a:solidFill>
                <a:latin typeface="Arial"/>
              </a:rPr>
              <a:t>Операционный доход до налогообложения минус налог на прибыл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Номер слайда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9D858-5859-42A4-ADFC-DEFDF5CE87A4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0" y="0"/>
          <a:ext cx="9144000" cy="7024680"/>
        </p:xfrm>
        <a:graphic>
          <a:graphicData uri="http://schemas.openxmlformats.org/drawingml/2006/table">
            <a:tbl>
              <a:tblPr/>
              <a:tblGrid>
                <a:gridCol w="4195080"/>
                <a:gridCol w="338040"/>
                <a:gridCol w="473040"/>
                <a:gridCol w="1084320"/>
                <a:gridCol w="811080"/>
                <a:gridCol w="72000"/>
                <a:gridCol w="303120"/>
                <a:gridCol w="455400"/>
                <a:gridCol w="706680"/>
                <a:gridCol w="705240"/>
              </a:tblGrid>
              <a:tr h="258480">
                <a:tc gridSpan="8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000" spc="-1" strike="noStrike">
                          <a:solidFill>
                            <a:srgbClr val="eb1d0d"/>
                          </a:solidFill>
                          <a:latin typeface="Arial"/>
                        </a:rPr>
                        <a:t>ОТЧЕТ О ФИНАНСОВЫХ РЕЗУЛЬТАТАХ ДЕЯТЕЛЬНОСТ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Д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294840">
                <a:tc gridSpan="5"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18000" rIns="18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Форма по ОКУ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eb1d0d"/>
                          </a:solidFill>
                          <a:latin typeface="Arial"/>
                          <a:ea typeface="Times New Roman"/>
                        </a:rPr>
                        <a:t>05031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282240">
                <a:tc gridSpan="5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                     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 1 _______января________ 2012_ г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18000" rIns="18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ат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294840">
                <a:tc gridSpan="5">
                  <a:txBody>
                    <a:bodyPr lIns="18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чреждение (главный распорядитель (распорядитель), получатель,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дминистратор ___________________________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18000" rIns="18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 ОКП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294840">
                <a:tc gridSpan="8">
                  <a:txBody>
                    <a:bodyPr lIns="18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именование бюджета ____________________________________________________________________________________________________________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214200">
                <a:tc gridSpan="8">
                  <a:txBody>
                    <a:bodyPr lIns="18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ериодичность:  годова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213840">
                <a:tc gridSpan="6">
                  <a:txBody>
                    <a:bodyPr lIns="18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Единица измерения: руб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8000" rIns="18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 ОКЕИ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8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188640">
                <a:tc gridSpan="9"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46260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именование показател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д стро-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 КОСГ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юджетная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ятельност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gridSpan="3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иносящая доход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ятельност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редства во временном рапоряжен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то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21384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gridSpan="3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22824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Доход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gridSpan="3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228240">
                <a:tc>
                  <a:txBody>
                    <a:bodyPr lIns="36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логовые доход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gridSpan="3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295200">
                <a:tc>
                  <a:txBody>
                    <a:bodyPr lIns="36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…………………………………………………………………………………………………</a:t>
                      </a: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gridSpan="3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22824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Расход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gridSpan="3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22824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плата труда и начисления на оплату труд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gridSpan="3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29484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……………………………………………………………………………………………………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gridSpan="3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25524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Чистый операционный результа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2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gridSpan="3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22824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Операции с нефинансовыми актив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gridSpan="3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22824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Чистое поступление основных средст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gridSpan="3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29484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…………………………………………………………………………………………………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gridSpan="3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22824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перации с финансовыми активами и обязательствам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gridSpan="3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22320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Операции с финансовыми актив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gridSpan="3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228240">
                <a:tc>
                  <a:txBody>
                    <a:bodyPr lIns="36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Чистое поступление средств на счета бюджет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gridSpan="3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29520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……………………………………………………………………………………………………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gridSpan="3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22824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Операции с обязательств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gridSpan="3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29484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истое увеличение задолженности по внутренним долговым обязательства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gridSpan="3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29484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…………………………………………………………………………………………………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gridSpan="3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</a:tbl>
          </a:graphicData>
        </a:graphic>
      </p:graphicFrame>
      <p:sp>
        <p:nvSpPr>
          <p:cNvPr id="113" name="Line 225"/>
          <p:cNvSpPr/>
          <p:nvPr/>
        </p:nvSpPr>
        <p:spPr>
          <a:xfrm>
            <a:off x="990720" y="1424160"/>
            <a:ext cx="380880" cy="0"/>
          </a:xfrm>
          <a:prstGeom prst="line">
            <a:avLst/>
          </a:prstGeom>
          <a:ln w="28440">
            <a:solidFill>
              <a:srgbClr val="4880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226"/>
          <p:cNvSpPr/>
          <p:nvPr/>
        </p:nvSpPr>
        <p:spPr>
          <a:xfrm>
            <a:off x="1447920" y="1424160"/>
            <a:ext cx="380880" cy="0"/>
          </a:xfrm>
          <a:prstGeom prst="line">
            <a:avLst/>
          </a:prstGeom>
          <a:ln w="28440">
            <a:solidFill>
              <a:srgbClr val="4880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227"/>
          <p:cNvSpPr/>
          <p:nvPr/>
        </p:nvSpPr>
        <p:spPr>
          <a:xfrm>
            <a:off x="1905120" y="1424160"/>
            <a:ext cx="380880" cy="0"/>
          </a:xfrm>
          <a:prstGeom prst="line">
            <a:avLst/>
          </a:prstGeom>
          <a:ln w="28440">
            <a:solidFill>
              <a:srgbClr val="4880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228"/>
          <p:cNvSpPr/>
          <p:nvPr/>
        </p:nvSpPr>
        <p:spPr>
          <a:xfrm>
            <a:off x="2362320" y="1424160"/>
            <a:ext cx="380880" cy="0"/>
          </a:xfrm>
          <a:prstGeom prst="line">
            <a:avLst/>
          </a:prstGeom>
          <a:ln w="28440">
            <a:solidFill>
              <a:srgbClr val="4880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000"/>
                            </p:stCondLst>
                            <p:childTnLst>
                              <p:par>
                                <p:cTn id="5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500"/>
                            </p:stCondLst>
                            <p:childTnLst>
                              <p:par>
                                <p:cTn id="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Номер слайда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46492-70BD-44ED-83CD-9FD8C65B2936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84240" y="87480"/>
          <a:ext cx="8977320" cy="4300200"/>
        </p:xfrm>
        <a:graphic>
          <a:graphicData uri="http://schemas.openxmlformats.org/drawingml/2006/table">
            <a:tbl>
              <a:tblPr/>
              <a:tblGrid>
                <a:gridCol w="4464000"/>
                <a:gridCol w="360360"/>
                <a:gridCol w="503280"/>
                <a:gridCol w="1152360"/>
                <a:gridCol w="1297080"/>
                <a:gridCol w="1200240"/>
              </a:tblGrid>
              <a:tr h="71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именование показател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д стро-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 КОСГ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юджетна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ятель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иносяща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ох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ятель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редства во временном распоряжен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248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ход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ходы от собственно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оходы от рыночных продаж товаров, работ, услу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403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езвозмездные и безвозвратные поступления от бюдже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558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 том числе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ступления от других бюджетов бюджетной системы Российской федер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оходы от операций с актив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431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 том числе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оходы от переоценки актив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9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оходы от реализации актив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9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очие доход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оходы будущих период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</a:tbl>
          </a:graphicData>
        </a:graphic>
      </p:graphicFrame>
      <p:sp>
        <p:nvSpPr>
          <p:cNvPr id="119" name="Rectangle 233"/>
          <p:cNvSpPr/>
          <p:nvPr/>
        </p:nvSpPr>
        <p:spPr>
          <a:xfrm>
            <a:off x="71280" y="4373280"/>
            <a:ext cx="6372360" cy="417600"/>
          </a:xfrm>
          <a:prstGeom prst="rect">
            <a:avLst/>
          </a:prstGeom>
          <a:solidFill>
            <a:srgbClr val="ffffff"/>
          </a:solidFill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Cyr"/>
              </a:rPr>
              <a:t>строка</a:t>
            </a:r>
            <a:r>
              <a:rPr b="1" lang="ru-RU" sz="1200" spc="-1" strike="noStrike">
                <a:solidFill>
                  <a:srgbClr val="9900cc"/>
                </a:solidFill>
                <a:latin typeface="Arial Cyr"/>
              </a:rPr>
              <a:t> </a:t>
            </a:r>
            <a:r>
              <a:rPr b="1" i="1" lang="ru-RU" sz="1400" spc="-1" strike="noStrike" u="sng">
                <a:solidFill>
                  <a:srgbClr val="ff0000"/>
                </a:solidFill>
                <a:uFillTx/>
                <a:latin typeface="Arial Cyr"/>
              </a:rPr>
              <a:t>010</a:t>
            </a:r>
            <a:r>
              <a:rPr b="1" i="1" lang="ru-RU" sz="1200" spc="-1" strike="noStrike" u="sng">
                <a:solidFill>
                  <a:srgbClr val="ff0000"/>
                </a:solidFill>
                <a:uFillTx/>
                <a:latin typeface="Arial Cyr"/>
              </a:rPr>
              <a:t> (Доходы)</a:t>
            </a:r>
            <a:r>
              <a:rPr b="1" lang="ru-RU" sz="1200" spc="-1" strike="noStrike">
                <a:solidFill>
                  <a:srgbClr val="ff0000"/>
                </a:solidFill>
                <a:latin typeface="Arial Cyr"/>
              </a:rPr>
              <a:t> =</a:t>
            </a:r>
            <a:r>
              <a:rPr b="1" lang="ru-RU" sz="1200" spc="-1" strike="noStrike">
                <a:solidFill>
                  <a:srgbClr val="9900cc"/>
                </a:solidFill>
                <a:latin typeface="Arial Cyr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Cyr"/>
              </a:rPr>
              <a:t>стр</a:t>
            </a:r>
            <a:r>
              <a:rPr b="1" lang="ru-RU" sz="1200" spc="-1" strike="noStrike">
                <a:solidFill>
                  <a:srgbClr val="ff0000"/>
                </a:solidFill>
                <a:latin typeface="Arial Cyr"/>
              </a:rPr>
              <a:t>.020+</a:t>
            </a:r>
            <a:r>
              <a:rPr b="1" lang="ru-RU" sz="1200" spc="-1" strike="noStrike">
                <a:solidFill>
                  <a:srgbClr val="000000"/>
                </a:solidFill>
                <a:latin typeface="Arial Cyr"/>
              </a:rPr>
              <a:t>стр.</a:t>
            </a:r>
            <a:r>
              <a:rPr b="1" lang="ru-RU" sz="1200" spc="-1" strike="noStrike">
                <a:solidFill>
                  <a:srgbClr val="ff0000"/>
                </a:solidFill>
                <a:latin typeface="Arial Cyr"/>
              </a:rPr>
              <a:t>030+</a:t>
            </a:r>
            <a:r>
              <a:rPr b="1" lang="ru-RU" sz="1200" spc="-1" strike="noStrike">
                <a:solidFill>
                  <a:srgbClr val="9900cc"/>
                </a:solidFill>
                <a:latin typeface="Arial Cyr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 Cyr"/>
              </a:rPr>
              <a:t>стр</a:t>
            </a:r>
            <a:r>
              <a:rPr b="1" lang="ru-RU" sz="1200" spc="-1" strike="noStrike">
                <a:solidFill>
                  <a:srgbClr val="9900cc"/>
                </a:solidFill>
                <a:latin typeface="Arial Cyr"/>
              </a:rPr>
              <a:t>.</a:t>
            </a:r>
            <a:r>
              <a:rPr b="1" lang="ru-RU" sz="1200" spc="-1" strike="noStrike">
                <a:solidFill>
                  <a:srgbClr val="ff0000"/>
                </a:solidFill>
                <a:latin typeface="Arial Cyr"/>
              </a:rPr>
              <a:t>040+</a:t>
            </a:r>
            <a:r>
              <a:rPr b="1" lang="ru-RU" sz="1200" spc="-1" strike="noStrike">
                <a:solidFill>
                  <a:srgbClr val="000000"/>
                </a:solidFill>
                <a:latin typeface="Arial Cyr"/>
              </a:rPr>
              <a:t>стр.</a:t>
            </a:r>
            <a:r>
              <a:rPr b="1" lang="ru-RU" sz="1200" spc="-1" strike="noStrike">
                <a:solidFill>
                  <a:srgbClr val="ff0000"/>
                </a:solidFill>
                <a:latin typeface="Arial Cyr"/>
              </a:rPr>
              <a:t>050+</a:t>
            </a:r>
            <a:r>
              <a:rPr b="1" lang="ru-RU" sz="1200" spc="-1" strike="noStrike">
                <a:solidFill>
                  <a:srgbClr val="000000"/>
                </a:solidFill>
                <a:latin typeface="Arial Cyr"/>
              </a:rPr>
              <a:t>стр</a:t>
            </a:r>
            <a:r>
              <a:rPr b="1" lang="ru-RU" sz="1200" spc="-1" strike="noStrike">
                <a:solidFill>
                  <a:srgbClr val="9900cc"/>
                </a:solidFill>
                <a:latin typeface="Arial Cyr"/>
              </a:rPr>
              <a:t>.</a:t>
            </a:r>
            <a:r>
              <a:rPr b="1" lang="ru-RU" sz="1200" spc="-1" strike="noStrike">
                <a:solidFill>
                  <a:srgbClr val="ff0000"/>
                </a:solidFill>
                <a:latin typeface="Arial Cyr"/>
              </a:rPr>
              <a:t>060+</a:t>
            </a:r>
            <a:r>
              <a:rPr b="1" lang="ru-RU" sz="1200" spc="-1" strike="noStrike">
                <a:solidFill>
                  <a:srgbClr val="000000"/>
                </a:solidFill>
                <a:latin typeface="Arial Cyr"/>
              </a:rPr>
              <a:t>стр</a:t>
            </a:r>
            <a:r>
              <a:rPr b="1" lang="ru-RU" sz="1200" spc="-1" strike="noStrike">
                <a:solidFill>
                  <a:srgbClr val="9900cc"/>
                </a:solidFill>
                <a:latin typeface="Arial Cyr"/>
              </a:rPr>
              <a:t>.</a:t>
            </a:r>
            <a:r>
              <a:rPr b="1" lang="ru-RU" sz="1200" spc="-1" strike="noStrike">
                <a:solidFill>
                  <a:srgbClr val="ff0000"/>
                </a:solidFill>
                <a:latin typeface="Arial Cyr"/>
              </a:rPr>
              <a:t>080+</a:t>
            </a:r>
            <a:r>
              <a:rPr b="1" lang="ru-RU" sz="1200" spc="-1" strike="noStrike">
                <a:solidFill>
                  <a:srgbClr val="000000"/>
                </a:solidFill>
                <a:latin typeface="Arial Cyr"/>
              </a:rPr>
              <a:t>стр.</a:t>
            </a:r>
            <a:r>
              <a:rPr b="1" lang="ru-RU" sz="1200" spc="-1" strike="noStrike">
                <a:solidFill>
                  <a:srgbClr val="ff0000"/>
                </a:solidFill>
                <a:latin typeface="Arial Cyr"/>
              </a:rPr>
              <a:t>090+</a:t>
            </a:r>
            <a:r>
              <a:rPr b="1" lang="ru-RU" sz="1200" spc="-1" strike="noStrike">
                <a:solidFill>
                  <a:srgbClr val="000000"/>
                </a:solidFill>
                <a:latin typeface="Arial Cyr"/>
              </a:rPr>
              <a:t>стр.</a:t>
            </a:r>
            <a:r>
              <a:rPr b="1" lang="ru-RU" sz="1200" spc="-1" strike="noStrike">
                <a:solidFill>
                  <a:srgbClr val="ff0000"/>
                </a:solidFill>
                <a:latin typeface="Arial Cyr"/>
              </a:rPr>
              <a:t>100+</a:t>
            </a:r>
            <a:r>
              <a:rPr b="1" lang="ru-RU" sz="1200" spc="-1" strike="noStrike">
                <a:solidFill>
                  <a:srgbClr val="000000"/>
                </a:solidFill>
                <a:latin typeface="Arial Cyr"/>
              </a:rPr>
              <a:t>стр</a:t>
            </a:r>
            <a:r>
              <a:rPr b="1" lang="ru-RU" sz="1200" spc="-1" strike="noStrike">
                <a:solidFill>
                  <a:srgbClr val="9900cc"/>
                </a:solidFill>
                <a:latin typeface="Arial Cyr"/>
              </a:rPr>
              <a:t>.</a:t>
            </a:r>
            <a:r>
              <a:rPr b="1" lang="ru-RU" sz="1200" spc="-1" strike="noStrike">
                <a:solidFill>
                  <a:srgbClr val="ff0000"/>
                </a:solidFill>
                <a:latin typeface="Arial Cyr"/>
              </a:rPr>
              <a:t>11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58E65-46BC-4020-85A0-D37E595A96A1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58680" y="22320"/>
          <a:ext cx="8977320" cy="3835440"/>
        </p:xfrm>
        <a:graphic>
          <a:graphicData uri="http://schemas.openxmlformats.org/drawingml/2006/table">
            <a:tbl>
              <a:tblPr/>
              <a:tblGrid>
                <a:gridCol w="4464000"/>
                <a:gridCol w="360360"/>
                <a:gridCol w="503280"/>
                <a:gridCol w="1297080"/>
                <a:gridCol w="1152360"/>
                <a:gridCol w="1200240"/>
              </a:tblGrid>
              <a:tr h="71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именование показател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д стро-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 КОСГ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юджетна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ятель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иносящая дох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ятель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редства во временном распоряжен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19116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285480">
                <a:tc>
                  <a:txBody>
                    <a:bodyPr lIns="18000" rIns="18000" tIns="36000" bIns="36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ход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- 7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14</a:t>
                      </a: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5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254880">
                <a:tc>
                  <a:txBody>
                    <a:bodyPr lIns="18000" rIns="18000" tIns="36000" bIns="36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ходы от собственно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254880">
                <a:tc>
                  <a:txBody>
                    <a:bodyPr lIns="18000" rIns="18000" tIns="36000" bIns="36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оходы от рыночных продаж товаров, работ, услу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7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381960">
                <a:tc>
                  <a:txBody>
                    <a:bodyPr lIns="18000" rIns="18000" tIns="36000" bIns="36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езвозмездные и безвозвратные поступления от бюдже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564480">
                <a:tc>
                  <a:txBody>
                    <a:bodyPr lIns="18000" rIns="18000" tIns="36000" bIns="36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 том числе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ступления от других бюджетов бюджетной системы Российской федер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254880">
                <a:tc>
                  <a:txBody>
                    <a:bodyPr lIns="18000" rIns="18000" tIns="36000" bIns="36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оходы от операций с актив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7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409680">
                <a:tc>
                  <a:txBody>
                    <a:bodyPr lIns="18000" rIns="18000" tIns="36000" bIns="36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 том числе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оходы от переоценки актив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9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254880">
                <a:tc>
                  <a:txBody>
                    <a:bodyPr lIns="18000" rIns="18000" tIns="36000" bIns="36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оходы от реализации актив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9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7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254880">
                <a:tc>
                  <a:txBody>
                    <a:bodyPr lIns="18000" rIns="18000" tIns="36000" bIns="36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очие доход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5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254880">
                <a:tc>
                  <a:txBody>
                    <a:bodyPr lIns="18000" rIns="18000" tIns="36000" bIns="36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оходы будущих период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9 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</a:tbl>
          </a:graphicData>
        </a:graphic>
      </p:graphicFrame>
      <p:sp>
        <p:nvSpPr>
          <p:cNvPr id="122" name="Oval 448"/>
          <p:cNvSpPr/>
          <p:nvPr/>
        </p:nvSpPr>
        <p:spPr>
          <a:xfrm>
            <a:off x="8483760" y="6541200"/>
            <a:ext cx="588960" cy="326160"/>
          </a:xfrm>
          <a:prstGeom prst="ellipse">
            <a:avLst/>
          </a:prstGeom>
          <a:gradFill rotWithShape="0">
            <a:gsLst>
              <a:gs pos="0">
                <a:srgbClr val="faa906"/>
              </a:gs>
              <a:gs pos="50000">
                <a:srgbClr val="ffffff"/>
              </a:gs>
              <a:gs pos="100000">
                <a:srgbClr val="faa906"/>
              </a:gs>
            </a:gsLst>
            <a:lin ang="5400000"/>
          </a:gradFill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900" spc="-1" strike="noStrike">
                <a:solidFill>
                  <a:srgbClr val="9900cc"/>
                </a:solidFill>
                <a:latin typeface="Arial Cyr"/>
              </a:rPr>
              <a:t>68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216000" y="5062680"/>
          <a:ext cx="8928000" cy="1795320"/>
        </p:xfrm>
        <a:graphic>
          <a:graphicData uri="http://schemas.openxmlformats.org/drawingml/2006/table">
            <a:tbl>
              <a:tblPr/>
              <a:tblGrid>
                <a:gridCol w="828720"/>
                <a:gridCol w="761760"/>
                <a:gridCol w="763560"/>
                <a:gridCol w="763560"/>
                <a:gridCol w="762120"/>
                <a:gridCol w="763560"/>
                <a:gridCol w="762120"/>
                <a:gridCol w="763560"/>
                <a:gridCol w="763560"/>
                <a:gridCol w="762120"/>
                <a:gridCol w="849240"/>
                <a:gridCol w="384120"/>
              </a:tblGrid>
              <a:tr h="356400">
                <a:tc rowSpan="2"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омер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четов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 gridSpan="2"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статок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 начало год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статок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 начало месяц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борот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за месяц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борот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 начала год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статок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 конец месяц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Ж/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268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 дебету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 кредиту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 дебету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 кредиту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 дебету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 кредиту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 дебету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 кредиту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 дебету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 кредиту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5480"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01101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</a:t>
                      </a:r>
                      <a:r>
                        <a:rPr b="0" i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i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8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</a:t>
                      </a:r>
                      <a:r>
                        <a:rPr b="0" i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i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8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</a:t>
                      </a:r>
                      <a:r>
                        <a:rPr b="0" i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i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8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</a:t>
                      </a:r>
                      <a:r>
                        <a:rPr b="0" i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i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8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r>
                        <a:rPr b="0" lang="ru-RU" sz="9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79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3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195120"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01101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38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 08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38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 08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8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08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195480"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011013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 903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 903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0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195120"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01101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0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0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 000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195480"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01401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i="1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0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9 0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i="1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0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9 0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99</a:t>
                      </a:r>
                      <a:r>
                        <a:rPr b="0" lang="ru-RU" sz="9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 000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193320"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014013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0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9 00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0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9 00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0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9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000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Segoe Semibold"/>
                        </a:rPr>
                        <a:t>5,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graphicFrame>
        <p:nvGraphicFramePr>
          <p:cNvPr id="124" name=""/>
          <p:cNvGraphicFramePr/>
          <p:nvPr/>
        </p:nvGraphicFramePr>
        <p:xfrm>
          <a:off x="266760" y="4149720"/>
          <a:ext cx="8913600" cy="1238400"/>
        </p:xfrm>
        <a:graphic>
          <a:graphicData uri="http://schemas.openxmlformats.org/drawingml/2006/table">
            <a:tbl>
              <a:tblPr/>
              <a:tblGrid>
                <a:gridCol w="826920"/>
                <a:gridCol w="762120"/>
                <a:gridCol w="762120"/>
                <a:gridCol w="761760"/>
                <a:gridCol w="762120"/>
                <a:gridCol w="760320"/>
                <a:gridCol w="762120"/>
                <a:gridCol w="762120"/>
                <a:gridCol w="761760"/>
                <a:gridCol w="762120"/>
                <a:gridCol w="846000"/>
                <a:gridCol w="384120"/>
              </a:tblGrid>
              <a:tr h="351000">
                <a:tc rowSpan="2"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Номер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счетов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gridSpan="2"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Остаток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на начало год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Остаток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на начало месяц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Оборот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за месяц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Оборот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с начала год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Остаток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на конец месяц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Ж/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268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По дебету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По кредиту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По дебету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По кредиту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По дебету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По кредиту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По дебету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По кредиту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По дебету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По кредиту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8960"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2401101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9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28 50</a:t>
                      </a:r>
                      <a:r>
                        <a:rPr b="1" i="1" lang="ru-RU" sz="9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9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28 5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28 5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3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194400"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24011015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21 00</a:t>
                      </a:r>
                      <a:r>
                        <a:rPr b="1" lang="ru-RU" sz="9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21 0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21 0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195120"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24011018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7 50</a:t>
                      </a:r>
                      <a:r>
                        <a:rPr b="1" lang="ru-RU" sz="9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7 5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7 5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</a:tbl>
          </a:graphicData>
        </a:graphic>
      </p:graphicFrame>
      <p:sp>
        <p:nvSpPr>
          <p:cNvPr id="125" name="Text Box 686"/>
          <p:cNvSpPr/>
          <p:nvPr/>
        </p:nvSpPr>
        <p:spPr>
          <a:xfrm>
            <a:off x="539640" y="3932280"/>
            <a:ext cx="8386920" cy="2044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В течении отчетного периода были совершены следующие операции по счету 2106044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324000" y="4149720"/>
          <a:ext cx="8280360" cy="2430360"/>
        </p:xfrm>
        <a:graphic>
          <a:graphicData uri="http://schemas.openxmlformats.org/drawingml/2006/table">
            <a:tbl>
              <a:tblPr/>
              <a:tblGrid>
                <a:gridCol w="4302000"/>
                <a:gridCol w="1149480"/>
                <a:gridCol w="1434960"/>
                <a:gridCol w="1393920"/>
              </a:tblGrid>
              <a:tr h="2750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именование операц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мма, ру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рреспонденция сче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6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б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еди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исаны фактические расходы по оказанным услугам, в том числе на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 38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401101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06044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плату труд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01012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числения на оплату тру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3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01012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чие услуг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2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01012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мортизация основного средст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010127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сходование материальных запас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8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010127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27" name="Text Box 791"/>
          <p:cNvSpPr/>
          <p:nvPr/>
        </p:nvSpPr>
        <p:spPr>
          <a:xfrm>
            <a:off x="468360" y="6605640"/>
            <a:ext cx="8386560" cy="2653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Дебет 240101130    Кредит 230303730            1515 рубл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39185-FA6A-48FC-AD41-F42A0EF22463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0" y="115920"/>
          <a:ext cx="9144000" cy="6850080"/>
        </p:xfrm>
        <a:graphic>
          <a:graphicData uri="http://schemas.openxmlformats.org/drawingml/2006/table">
            <a:tbl>
              <a:tblPr/>
              <a:tblGrid>
                <a:gridCol w="4330800"/>
                <a:gridCol w="439560"/>
                <a:gridCol w="523800"/>
                <a:gridCol w="1284480"/>
                <a:gridCol w="1281240"/>
                <a:gridCol w="1284120"/>
              </a:tblGrid>
              <a:tr h="76068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именование показател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д стро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д по КОСГ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юджетна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ятельн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иносящая дох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ятельн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редства во временном распоряжен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744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948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асход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98</a:t>
                      </a: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08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8 88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948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плата труда и начисления на оплату тру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2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056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 том числе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заработная пла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6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52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числения на выплаты по оплате тру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948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иобретение услу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056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 том числе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слуги связ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948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транспортные услуг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948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ммунальные услуг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52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рендная плата за пользование имущество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948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слуги по содержанию имущест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948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очие услуг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948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бслуживание долговых обязательст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7960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 том числе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бслуживание внутренних долговых обязательст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52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бслуживание внешних долговых обязательст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52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езвозмездные и безвозвратные перечисления организация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6068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 том числе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езвозмездные и безвозвратные перечисления государственным и муниципальных организация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52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езвозвратные и безвозмездные перечисления бюджета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>
    <p:zoom dir="out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8T13:03:43Z</dcterms:created>
  <dc:creator>PETROV</dc:creator>
  <dc:description/>
  <dc:language>en-US</dc:language>
  <cp:lastModifiedBy>Валентина</cp:lastModifiedBy>
  <cp:lastPrinted>2003-10-16T11:02:04Z</cp:lastPrinted>
  <dcterms:modified xsi:type="dcterms:W3CDTF">2011-11-30T08:48:56Z</dcterms:modified>
  <cp:revision>1651</cp:revision>
  <dc:subject/>
  <dc:title>Заголовок слайда отсутствует</dc:title>
</cp:coreProperties>
</file>