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-360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781440" y="-360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9640" y="742680"/>
            <a:ext cx="487044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move the slide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_FuturaOrt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1800" y="928476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781440" y="92847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ru-RU" sz="1000" spc="-1" strike="noStrike">
                <a:solidFill>
                  <a:srgbClr val="000000"/>
                </a:solidFill>
                <a:latin typeface="a_FuturaOr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EA73A90-04A0-4653-AD02-D24E0D90B316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61F9D3BA-DCF9-478E-8D3F-F1029962D04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C809FF2-CDBC-4B0C-A39D-BA795DD318D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405D066-CE28-4DE4-B116-86554AAE00E3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7812E8B-0687-46EF-9D48-85E35E2C04F8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DFAA5E9-0F96-4C63-94DD-3E74669F5787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8C6E7B2-61E7-4548-A0B6-38F5621F6D4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6B69FA70-3199-4FED-9327-95B11A5A5716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4836ED2-5742-4BF2-964E-0563AD532C1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6F0105E-7D4D-4619-9B6A-23A70582432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267B11C3-28FF-4257-98D7-7C6E5163A9C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16780A7-37C0-4BB4-89EB-7775AAD5DD9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E3A00D3-A518-4689-8228-F6DED63128B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52C3D12-C3A1-4D97-BDDB-FDE50AA0B63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95388C7-63C6-41CD-A3A5-661BFEFE2BD8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46015A0-489A-4F86-8E0E-06DC4137290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B4DBFAF-DBCA-49D8-8A4C-F5631FBEF2E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6B0347DE-CC05-4A02-9472-CE8DFE303E0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62222E8-9924-483F-A8F3-59BC8983686F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14347B7-9447-4911-B4DA-7772AF373E0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6F9719F-7FC7-43DC-B3A1-D90C1CB5F1D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5E2A-81F7-4B9C-B6BA-43396DE516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C1B0-DEDC-4B23-87BF-74800A144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84AC-BA2E-4945-A8E4-A3AAAA150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B40F-8461-45D3-88E8-DBE0D5BF8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B71-39F4-4B43-806C-6F717F5830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41AC-642A-44CD-AB16-B7AA5DCD1B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188-695B-44D6-A563-5EC2F0B4E8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25E-C126-4616-A827-D3CEC9110F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E95-31AD-4CF6-B645-640DEB1C55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8E48-23A5-4721-9761-514F7DB9BB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051-0AE2-4EFD-BD95-0BE601C3B6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BF39-C28A-4FB5-964C-B2B88E369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834-0B3A-450A-85A0-4B0D7D2C40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A52-80FF-40F2-920A-E5A2855FFE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774-944D-4413-849B-1DF4B157EF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E84F-F103-485A-89E8-599AF61AD6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5DC-36B9-4187-B38B-6BBBF8FC3D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8655-964C-442B-BD26-5C2CE4B2B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17F1-5F1D-4FDC-9680-C46FF10AB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FCAE-4373-4E22-A84E-4A8B8925C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741F-A868-4C97-B6B8-22AAE8E72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269E-6223-49B6-8B6B-6AFFE94CE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4A01-9A26-4523-9CA6-5293FEE6D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5068-E473-4712-9776-0E56F23F2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33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4949-13CA-424C-B061-2FBBCB99055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9"/>
          <p:cNvGrpSpPr/>
          <p:nvPr/>
        </p:nvGrpSpPr>
        <p:grpSpPr>
          <a:xfrm>
            <a:off x="7667640" y="333360"/>
            <a:ext cx="898560" cy="1278000"/>
            <a:chOff x="7667640" y="333360"/>
            <a:chExt cx="898560" cy="1278000"/>
          </a:xfrm>
        </p:grpSpPr>
        <p:sp>
          <p:nvSpPr>
            <p:cNvPr id="41" name="Freeform 7"/>
            <p:cNvSpPr/>
            <p:nvPr/>
          </p:nvSpPr>
          <p:spPr>
            <a:xfrm>
              <a:off x="7667640" y="333360"/>
              <a:ext cx="898560" cy="12780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414" h="2013">
                  <a:moveTo>
                    <a:pt x="440" y="1445"/>
                  </a:moveTo>
                  <a:lnTo>
                    <a:pt x="415" y="1404"/>
                  </a:lnTo>
                  <a:lnTo>
                    <a:pt x="393" y="1363"/>
                  </a:lnTo>
                  <a:lnTo>
                    <a:pt x="371" y="1321"/>
                  </a:lnTo>
                  <a:lnTo>
                    <a:pt x="352" y="1279"/>
                  </a:lnTo>
                  <a:lnTo>
                    <a:pt x="334" y="1236"/>
                  </a:lnTo>
                  <a:lnTo>
                    <a:pt x="317" y="1193"/>
                  </a:lnTo>
                  <a:lnTo>
                    <a:pt x="301" y="1149"/>
                  </a:lnTo>
                  <a:lnTo>
                    <a:pt x="287" y="1105"/>
                  </a:lnTo>
                  <a:lnTo>
                    <a:pt x="275" y="1061"/>
                  </a:lnTo>
                  <a:lnTo>
                    <a:pt x="263" y="1017"/>
                  </a:lnTo>
                  <a:lnTo>
                    <a:pt x="252" y="972"/>
                  </a:lnTo>
                  <a:lnTo>
                    <a:pt x="243" y="927"/>
                  </a:lnTo>
                  <a:lnTo>
                    <a:pt x="234" y="881"/>
                  </a:lnTo>
                  <a:lnTo>
                    <a:pt x="227" y="836"/>
                  </a:lnTo>
                  <a:lnTo>
                    <a:pt x="220" y="790"/>
                  </a:lnTo>
                  <a:lnTo>
                    <a:pt x="214" y="744"/>
                  </a:lnTo>
                  <a:lnTo>
                    <a:pt x="208" y="698"/>
                  </a:lnTo>
                  <a:lnTo>
                    <a:pt x="203" y="652"/>
                  </a:lnTo>
                  <a:lnTo>
                    <a:pt x="200" y="605"/>
                  </a:lnTo>
                  <a:lnTo>
                    <a:pt x="196" y="559"/>
                  </a:lnTo>
                  <a:lnTo>
                    <a:pt x="193" y="512"/>
                  </a:lnTo>
                  <a:lnTo>
                    <a:pt x="191" y="466"/>
                  </a:lnTo>
                  <a:lnTo>
                    <a:pt x="188" y="419"/>
                  </a:lnTo>
                  <a:lnTo>
                    <a:pt x="186" y="372"/>
                  </a:lnTo>
                  <a:lnTo>
                    <a:pt x="185" y="325"/>
                  </a:lnTo>
                  <a:lnTo>
                    <a:pt x="183" y="278"/>
                  </a:lnTo>
                  <a:lnTo>
                    <a:pt x="182" y="232"/>
                  </a:lnTo>
                  <a:lnTo>
                    <a:pt x="181" y="185"/>
                  </a:lnTo>
                  <a:lnTo>
                    <a:pt x="179" y="139"/>
                  </a:lnTo>
                  <a:lnTo>
                    <a:pt x="178" y="92"/>
                  </a:lnTo>
                  <a:lnTo>
                    <a:pt x="177" y="46"/>
                  </a:lnTo>
                  <a:lnTo>
                    <a:pt x="175" y="0"/>
                  </a:lnTo>
                  <a:lnTo>
                    <a:pt x="837" y="652"/>
                  </a:lnTo>
                  <a:lnTo>
                    <a:pt x="1370" y="1026"/>
                  </a:lnTo>
                  <a:lnTo>
                    <a:pt x="1294" y="1116"/>
                  </a:lnTo>
                  <a:lnTo>
                    <a:pt x="1414" y="1234"/>
                  </a:lnTo>
                  <a:lnTo>
                    <a:pt x="688" y="1725"/>
                  </a:lnTo>
                  <a:lnTo>
                    <a:pt x="673" y="1711"/>
                  </a:lnTo>
                  <a:lnTo>
                    <a:pt x="657" y="1697"/>
                  </a:lnTo>
                  <a:lnTo>
                    <a:pt x="641" y="1682"/>
                  </a:lnTo>
                  <a:lnTo>
                    <a:pt x="625" y="1667"/>
                  </a:lnTo>
                  <a:lnTo>
                    <a:pt x="609" y="1652"/>
                  </a:lnTo>
                  <a:lnTo>
                    <a:pt x="593" y="1636"/>
                  </a:lnTo>
                  <a:lnTo>
                    <a:pt x="577" y="1619"/>
                  </a:lnTo>
                  <a:lnTo>
                    <a:pt x="561" y="1602"/>
                  </a:lnTo>
                  <a:lnTo>
                    <a:pt x="545" y="1585"/>
                  </a:lnTo>
                  <a:lnTo>
                    <a:pt x="529" y="1567"/>
                  </a:lnTo>
                  <a:lnTo>
                    <a:pt x="513" y="1548"/>
                  </a:lnTo>
                  <a:lnTo>
                    <a:pt x="498" y="1529"/>
                  </a:lnTo>
                  <a:lnTo>
                    <a:pt x="483" y="1509"/>
                  </a:lnTo>
                  <a:lnTo>
                    <a:pt x="468" y="1488"/>
                  </a:lnTo>
                  <a:lnTo>
                    <a:pt x="454" y="1467"/>
                  </a:lnTo>
                  <a:lnTo>
                    <a:pt x="440" y="1445"/>
                  </a:lnTo>
                  <a:close/>
                  <a:moveTo>
                    <a:pt x="0" y="2012"/>
                  </a:moveTo>
                  <a:lnTo>
                    <a:pt x="153" y="1854"/>
                  </a:lnTo>
                  <a:lnTo>
                    <a:pt x="117" y="1854"/>
                  </a:lnTo>
                  <a:lnTo>
                    <a:pt x="132" y="1833"/>
                  </a:lnTo>
                  <a:lnTo>
                    <a:pt x="147" y="1816"/>
                  </a:lnTo>
                  <a:lnTo>
                    <a:pt x="162" y="1801"/>
                  </a:lnTo>
                  <a:lnTo>
                    <a:pt x="177" y="1788"/>
                  </a:lnTo>
                  <a:lnTo>
                    <a:pt x="193" y="1777"/>
                  </a:lnTo>
                  <a:lnTo>
                    <a:pt x="209" y="1769"/>
                  </a:lnTo>
                  <a:lnTo>
                    <a:pt x="225" y="1763"/>
                  </a:lnTo>
                  <a:lnTo>
                    <a:pt x="241" y="1758"/>
                  </a:lnTo>
                  <a:lnTo>
                    <a:pt x="256" y="1754"/>
                  </a:lnTo>
                  <a:lnTo>
                    <a:pt x="273" y="1752"/>
                  </a:lnTo>
                  <a:lnTo>
                    <a:pt x="289" y="1751"/>
                  </a:lnTo>
                  <a:lnTo>
                    <a:pt x="306" y="1751"/>
                  </a:lnTo>
                  <a:lnTo>
                    <a:pt x="322" y="1752"/>
                  </a:lnTo>
                  <a:lnTo>
                    <a:pt x="339" y="1754"/>
                  </a:lnTo>
                  <a:lnTo>
                    <a:pt x="355" y="1755"/>
                  </a:lnTo>
                  <a:lnTo>
                    <a:pt x="372" y="1757"/>
                  </a:lnTo>
                  <a:lnTo>
                    <a:pt x="412" y="1775"/>
                  </a:lnTo>
                  <a:lnTo>
                    <a:pt x="423" y="1794"/>
                  </a:lnTo>
                  <a:lnTo>
                    <a:pt x="423" y="1811"/>
                  </a:lnTo>
                  <a:lnTo>
                    <a:pt x="227" y="2012"/>
                  </a:lnTo>
                  <a:lnTo>
                    <a:pt x="132" y="2012"/>
                  </a:lnTo>
                  <a:lnTo>
                    <a:pt x="284" y="1855"/>
                  </a:lnTo>
                  <a:lnTo>
                    <a:pt x="244" y="1855"/>
                  </a:lnTo>
                  <a:lnTo>
                    <a:pt x="93" y="2012"/>
                  </a:lnTo>
                  <a:lnTo>
                    <a:pt x="0" y="2012"/>
                  </a:lnTo>
                  <a:close/>
                  <a:moveTo>
                    <a:pt x="270" y="2009"/>
                  </a:moveTo>
                  <a:lnTo>
                    <a:pt x="452" y="1819"/>
                  </a:lnTo>
                  <a:lnTo>
                    <a:pt x="458" y="1804"/>
                  </a:lnTo>
                  <a:lnTo>
                    <a:pt x="457" y="1789"/>
                  </a:lnTo>
                  <a:lnTo>
                    <a:pt x="447" y="1779"/>
                  </a:lnTo>
                  <a:lnTo>
                    <a:pt x="468" y="1762"/>
                  </a:lnTo>
                  <a:lnTo>
                    <a:pt x="479" y="1759"/>
                  </a:lnTo>
                  <a:lnTo>
                    <a:pt x="490" y="1757"/>
                  </a:lnTo>
                  <a:lnTo>
                    <a:pt x="501" y="1754"/>
                  </a:lnTo>
                  <a:lnTo>
                    <a:pt x="512" y="1752"/>
                  </a:lnTo>
                  <a:lnTo>
                    <a:pt x="522" y="1750"/>
                  </a:lnTo>
                  <a:lnTo>
                    <a:pt x="533" y="1749"/>
                  </a:lnTo>
                  <a:lnTo>
                    <a:pt x="544" y="1748"/>
                  </a:lnTo>
                  <a:lnTo>
                    <a:pt x="555" y="1747"/>
                  </a:lnTo>
                  <a:lnTo>
                    <a:pt x="566" y="1748"/>
                  </a:lnTo>
                  <a:lnTo>
                    <a:pt x="577" y="1749"/>
                  </a:lnTo>
                  <a:lnTo>
                    <a:pt x="587" y="1751"/>
                  </a:lnTo>
                  <a:lnTo>
                    <a:pt x="598" y="1752"/>
                  </a:lnTo>
                  <a:lnTo>
                    <a:pt x="609" y="1755"/>
                  </a:lnTo>
                  <a:lnTo>
                    <a:pt x="619" y="1759"/>
                  </a:lnTo>
                  <a:lnTo>
                    <a:pt x="630" y="1764"/>
                  </a:lnTo>
                  <a:lnTo>
                    <a:pt x="640" y="1769"/>
                  </a:lnTo>
                  <a:lnTo>
                    <a:pt x="656" y="1789"/>
                  </a:lnTo>
                  <a:lnTo>
                    <a:pt x="656" y="1807"/>
                  </a:lnTo>
                  <a:lnTo>
                    <a:pt x="644" y="1824"/>
                  </a:lnTo>
                  <a:lnTo>
                    <a:pt x="460" y="2012"/>
                  </a:lnTo>
                  <a:lnTo>
                    <a:pt x="364" y="2012"/>
                  </a:lnTo>
                  <a:lnTo>
                    <a:pt x="425" y="1949"/>
                  </a:lnTo>
                  <a:lnTo>
                    <a:pt x="385" y="1949"/>
                  </a:lnTo>
                  <a:lnTo>
                    <a:pt x="326" y="2009"/>
                  </a:lnTo>
                  <a:lnTo>
                    <a:pt x="270" y="2009"/>
                  </a:lnTo>
                  <a:close/>
                  <a:moveTo>
                    <a:pt x="427" y="1900"/>
                  </a:moveTo>
                  <a:lnTo>
                    <a:pt x="472" y="1856"/>
                  </a:lnTo>
                  <a:lnTo>
                    <a:pt x="486" y="1851"/>
                  </a:lnTo>
                  <a:lnTo>
                    <a:pt x="502" y="1851"/>
                  </a:lnTo>
                  <a:lnTo>
                    <a:pt x="503" y="1863"/>
                  </a:lnTo>
                  <a:lnTo>
                    <a:pt x="463" y="1900"/>
                  </a:lnTo>
                  <a:lnTo>
                    <a:pt x="427" y="1900"/>
                  </a:lnTo>
                  <a:close/>
                  <a:moveTo>
                    <a:pt x="745" y="1999"/>
                  </a:moveTo>
                  <a:lnTo>
                    <a:pt x="711" y="1979"/>
                  </a:lnTo>
                  <a:lnTo>
                    <a:pt x="737" y="1973"/>
                  </a:lnTo>
                  <a:lnTo>
                    <a:pt x="763" y="1964"/>
                  </a:lnTo>
                  <a:lnTo>
                    <a:pt x="783" y="1950"/>
                  </a:lnTo>
                  <a:lnTo>
                    <a:pt x="792" y="1954"/>
                  </a:lnTo>
                  <a:lnTo>
                    <a:pt x="801" y="1957"/>
                  </a:lnTo>
                  <a:lnTo>
                    <a:pt x="808" y="1960"/>
                  </a:lnTo>
                  <a:lnTo>
                    <a:pt x="815" y="1962"/>
                  </a:lnTo>
                  <a:lnTo>
                    <a:pt x="823" y="1962"/>
                  </a:lnTo>
                  <a:lnTo>
                    <a:pt x="830" y="1963"/>
                  </a:lnTo>
                  <a:lnTo>
                    <a:pt x="838" y="1963"/>
                  </a:lnTo>
                  <a:lnTo>
                    <a:pt x="847" y="1962"/>
                  </a:lnTo>
                  <a:lnTo>
                    <a:pt x="864" y="1954"/>
                  </a:lnTo>
                  <a:lnTo>
                    <a:pt x="878" y="1940"/>
                  </a:lnTo>
                  <a:lnTo>
                    <a:pt x="851" y="1939"/>
                  </a:lnTo>
                  <a:lnTo>
                    <a:pt x="829" y="1934"/>
                  </a:lnTo>
                  <a:lnTo>
                    <a:pt x="810" y="1926"/>
                  </a:lnTo>
                  <a:lnTo>
                    <a:pt x="910" y="1811"/>
                  </a:lnTo>
                  <a:lnTo>
                    <a:pt x="918" y="1797"/>
                  </a:lnTo>
                  <a:lnTo>
                    <a:pt x="913" y="1780"/>
                  </a:lnTo>
                  <a:lnTo>
                    <a:pt x="900" y="1767"/>
                  </a:lnTo>
                  <a:lnTo>
                    <a:pt x="907" y="1757"/>
                  </a:lnTo>
                  <a:lnTo>
                    <a:pt x="924" y="1751"/>
                  </a:lnTo>
                  <a:lnTo>
                    <a:pt x="946" y="1747"/>
                  </a:lnTo>
                  <a:lnTo>
                    <a:pt x="972" y="1751"/>
                  </a:lnTo>
                  <a:lnTo>
                    <a:pt x="986" y="1762"/>
                  </a:lnTo>
                  <a:lnTo>
                    <a:pt x="987" y="1779"/>
                  </a:lnTo>
                  <a:lnTo>
                    <a:pt x="984" y="1789"/>
                  </a:lnTo>
                  <a:lnTo>
                    <a:pt x="887" y="1890"/>
                  </a:lnTo>
                  <a:lnTo>
                    <a:pt x="901" y="1892"/>
                  </a:lnTo>
                  <a:lnTo>
                    <a:pt x="919" y="1890"/>
                  </a:lnTo>
                  <a:lnTo>
                    <a:pt x="1046" y="1762"/>
                  </a:lnTo>
                  <a:lnTo>
                    <a:pt x="1062" y="1752"/>
                  </a:lnTo>
                  <a:lnTo>
                    <a:pt x="1091" y="1749"/>
                  </a:lnTo>
                  <a:lnTo>
                    <a:pt x="1114" y="1763"/>
                  </a:lnTo>
                  <a:lnTo>
                    <a:pt x="1121" y="1782"/>
                  </a:lnTo>
                  <a:lnTo>
                    <a:pt x="1119" y="1794"/>
                  </a:lnTo>
                  <a:lnTo>
                    <a:pt x="931" y="1991"/>
                  </a:lnTo>
                  <a:lnTo>
                    <a:pt x="921" y="1994"/>
                  </a:lnTo>
                  <a:lnTo>
                    <a:pt x="911" y="1998"/>
                  </a:lnTo>
                  <a:lnTo>
                    <a:pt x="902" y="2001"/>
                  </a:lnTo>
                  <a:lnTo>
                    <a:pt x="893" y="2004"/>
                  </a:lnTo>
                  <a:lnTo>
                    <a:pt x="883" y="2005"/>
                  </a:lnTo>
                  <a:lnTo>
                    <a:pt x="874" y="2007"/>
                  </a:lnTo>
                  <a:lnTo>
                    <a:pt x="865" y="2009"/>
                  </a:lnTo>
                  <a:lnTo>
                    <a:pt x="856" y="2010"/>
                  </a:lnTo>
                  <a:lnTo>
                    <a:pt x="847" y="2011"/>
                  </a:lnTo>
                  <a:lnTo>
                    <a:pt x="838" y="2012"/>
                  </a:lnTo>
                  <a:lnTo>
                    <a:pt x="829" y="2012"/>
                  </a:lnTo>
                  <a:lnTo>
                    <a:pt x="819" y="2012"/>
                  </a:lnTo>
                  <a:lnTo>
                    <a:pt x="810" y="2012"/>
                  </a:lnTo>
                  <a:lnTo>
                    <a:pt x="801" y="2012"/>
                  </a:lnTo>
                  <a:lnTo>
                    <a:pt x="792" y="2012"/>
                  </a:lnTo>
                  <a:lnTo>
                    <a:pt x="783" y="2012"/>
                  </a:lnTo>
                  <a:lnTo>
                    <a:pt x="745" y="1999"/>
                  </a:lnTo>
                  <a:close/>
                  <a:moveTo>
                    <a:pt x="1059" y="2012"/>
                  </a:moveTo>
                  <a:lnTo>
                    <a:pt x="1017" y="1998"/>
                  </a:lnTo>
                  <a:lnTo>
                    <a:pt x="992" y="1986"/>
                  </a:lnTo>
                  <a:lnTo>
                    <a:pt x="987" y="1973"/>
                  </a:lnTo>
                  <a:lnTo>
                    <a:pt x="1145" y="1804"/>
                  </a:lnTo>
                  <a:lnTo>
                    <a:pt x="1150" y="1782"/>
                  </a:lnTo>
                  <a:lnTo>
                    <a:pt x="1141" y="1767"/>
                  </a:lnTo>
                  <a:lnTo>
                    <a:pt x="1152" y="1763"/>
                  </a:lnTo>
                  <a:lnTo>
                    <a:pt x="1163" y="1760"/>
                  </a:lnTo>
                  <a:lnTo>
                    <a:pt x="1175" y="1757"/>
                  </a:lnTo>
                  <a:lnTo>
                    <a:pt x="1186" y="1754"/>
                  </a:lnTo>
                  <a:lnTo>
                    <a:pt x="1197" y="1752"/>
                  </a:lnTo>
                  <a:lnTo>
                    <a:pt x="1208" y="1750"/>
                  </a:lnTo>
                  <a:lnTo>
                    <a:pt x="1220" y="1749"/>
                  </a:lnTo>
                  <a:lnTo>
                    <a:pt x="1231" y="1748"/>
                  </a:lnTo>
                  <a:lnTo>
                    <a:pt x="1243" y="1748"/>
                  </a:lnTo>
                  <a:lnTo>
                    <a:pt x="1253" y="1748"/>
                  </a:lnTo>
                  <a:lnTo>
                    <a:pt x="1265" y="1749"/>
                  </a:lnTo>
                  <a:lnTo>
                    <a:pt x="1277" y="1751"/>
                  </a:lnTo>
                  <a:lnTo>
                    <a:pt x="1288" y="1754"/>
                  </a:lnTo>
                  <a:lnTo>
                    <a:pt x="1300" y="1757"/>
                  </a:lnTo>
                  <a:lnTo>
                    <a:pt x="1312" y="1762"/>
                  </a:lnTo>
                  <a:lnTo>
                    <a:pt x="1324" y="1767"/>
                  </a:lnTo>
                  <a:lnTo>
                    <a:pt x="1338" y="1782"/>
                  </a:lnTo>
                  <a:lnTo>
                    <a:pt x="1340" y="1802"/>
                  </a:lnTo>
                  <a:lnTo>
                    <a:pt x="1332" y="1818"/>
                  </a:lnTo>
                  <a:lnTo>
                    <a:pt x="1244" y="1905"/>
                  </a:lnTo>
                  <a:lnTo>
                    <a:pt x="1238" y="1868"/>
                  </a:lnTo>
                  <a:lnTo>
                    <a:pt x="1217" y="1854"/>
                  </a:lnTo>
                  <a:lnTo>
                    <a:pt x="1173" y="1847"/>
                  </a:lnTo>
                  <a:lnTo>
                    <a:pt x="1149" y="1858"/>
                  </a:lnTo>
                  <a:lnTo>
                    <a:pt x="1121" y="1882"/>
                  </a:lnTo>
                  <a:lnTo>
                    <a:pt x="1105" y="1914"/>
                  </a:lnTo>
                  <a:lnTo>
                    <a:pt x="1101" y="1949"/>
                  </a:lnTo>
                  <a:lnTo>
                    <a:pt x="1123" y="1964"/>
                  </a:lnTo>
                  <a:lnTo>
                    <a:pt x="1159" y="1977"/>
                  </a:lnTo>
                  <a:lnTo>
                    <a:pt x="1200" y="1973"/>
                  </a:lnTo>
                  <a:lnTo>
                    <a:pt x="1166" y="2001"/>
                  </a:lnTo>
                  <a:lnTo>
                    <a:pt x="1118" y="2013"/>
                  </a:lnTo>
                  <a:lnTo>
                    <a:pt x="1059" y="2012"/>
                  </a:lnTo>
                  <a:close/>
                  <a:moveTo>
                    <a:pt x="700" y="1904"/>
                  </a:moveTo>
                  <a:lnTo>
                    <a:pt x="682" y="1892"/>
                  </a:lnTo>
                  <a:lnTo>
                    <a:pt x="687" y="1870"/>
                  </a:lnTo>
                  <a:lnTo>
                    <a:pt x="700" y="1856"/>
                  </a:lnTo>
                  <a:lnTo>
                    <a:pt x="723" y="1846"/>
                  </a:lnTo>
                  <a:lnTo>
                    <a:pt x="745" y="1856"/>
                  </a:lnTo>
                  <a:lnTo>
                    <a:pt x="745" y="1874"/>
                  </a:lnTo>
                  <a:lnTo>
                    <a:pt x="725" y="1897"/>
                  </a:lnTo>
                  <a:lnTo>
                    <a:pt x="700" y="1904"/>
                  </a:lnTo>
                  <a:close/>
                  <a:moveTo>
                    <a:pt x="497" y="2012"/>
                  </a:moveTo>
                  <a:lnTo>
                    <a:pt x="678" y="1826"/>
                  </a:lnTo>
                  <a:lnTo>
                    <a:pt x="687" y="1811"/>
                  </a:lnTo>
                  <a:lnTo>
                    <a:pt x="688" y="1793"/>
                  </a:lnTo>
                  <a:lnTo>
                    <a:pt x="674" y="1775"/>
                  </a:lnTo>
                  <a:lnTo>
                    <a:pt x="697" y="1762"/>
                  </a:lnTo>
                  <a:lnTo>
                    <a:pt x="707" y="1759"/>
                  </a:lnTo>
                  <a:lnTo>
                    <a:pt x="718" y="1757"/>
                  </a:lnTo>
                  <a:lnTo>
                    <a:pt x="729" y="1754"/>
                  </a:lnTo>
                  <a:lnTo>
                    <a:pt x="739" y="1752"/>
                  </a:lnTo>
                  <a:lnTo>
                    <a:pt x="749" y="1750"/>
                  </a:lnTo>
                  <a:lnTo>
                    <a:pt x="760" y="1749"/>
                  </a:lnTo>
                  <a:lnTo>
                    <a:pt x="771" y="1748"/>
                  </a:lnTo>
                  <a:lnTo>
                    <a:pt x="781" y="1747"/>
                  </a:lnTo>
                  <a:lnTo>
                    <a:pt x="792" y="1748"/>
                  </a:lnTo>
                  <a:lnTo>
                    <a:pt x="802" y="1749"/>
                  </a:lnTo>
                  <a:lnTo>
                    <a:pt x="813" y="1751"/>
                  </a:lnTo>
                  <a:lnTo>
                    <a:pt x="823" y="1752"/>
                  </a:lnTo>
                  <a:lnTo>
                    <a:pt x="834" y="1755"/>
                  </a:lnTo>
                  <a:lnTo>
                    <a:pt x="844" y="1759"/>
                  </a:lnTo>
                  <a:lnTo>
                    <a:pt x="855" y="1764"/>
                  </a:lnTo>
                  <a:lnTo>
                    <a:pt x="865" y="1769"/>
                  </a:lnTo>
                  <a:lnTo>
                    <a:pt x="879" y="1787"/>
                  </a:lnTo>
                  <a:lnTo>
                    <a:pt x="883" y="1802"/>
                  </a:lnTo>
                  <a:lnTo>
                    <a:pt x="878" y="1811"/>
                  </a:lnTo>
                  <a:lnTo>
                    <a:pt x="760" y="1941"/>
                  </a:lnTo>
                  <a:lnTo>
                    <a:pt x="747" y="1948"/>
                  </a:lnTo>
                  <a:lnTo>
                    <a:pt x="735" y="1953"/>
                  </a:lnTo>
                  <a:lnTo>
                    <a:pt x="724" y="1957"/>
                  </a:lnTo>
                  <a:lnTo>
                    <a:pt x="714" y="1960"/>
                  </a:lnTo>
                  <a:lnTo>
                    <a:pt x="704" y="1962"/>
                  </a:lnTo>
                  <a:lnTo>
                    <a:pt x="694" y="1962"/>
                  </a:lnTo>
                  <a:lnTo>
                    <a:pt x="684" y="1963"/>
                  </a:lnTo>
                  <a:lnTo>
                    <a:pt x="675" y="1963"/>
                  </a:lnTo>
                  <a:lnTo>
                    <a:pt x="644" y="1952"/>
                  </a:lnTo>
                  <a:lnTo>
                    <a:pt x="633" y="1941"/>
                  </a:lnTo>
                  <a:lnTo>
                    <a:pt x="561" y="2012"/>
                  </a:lnTo>
                  <a:lnTo>
                    <a:pt x="497" y="2012"/>
                  </a:lnTo>
                  <a:close/>
                </a:path>
              </a:pathLst>
            </a:custGeom>
            <a:solidFill>
              <a:srgbClr val="28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7821720" y="517680"/>
              <a:ext cx="669960" cy="815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1053" h="1287">
                  <a:moveTo>
                    <a:pt x="0" y="0"/>
                  </a:moveTo>
                  <a:lnTo>
                    <a:pt x="2" y="55"/>
                  </a:lnTo>
                  <a:lnTo>
                    <a:pt x="4" y="109"/>
                  </a:lnTo>
                  <a:lnTo>
                    <a:pt x="7" y="162"/>
                  </a:lnTo>
                  <a:lnTo>
                    <a:pt x="12" y="214"/>
                  </a:lnTo>
                  <a:lnTo>
                    <a:pt x="16" y="265"/>
                  </a:lnTo>
                  <a:lnTo>
                    <a:pt x="23" y="315"/>
                  </a:lnTo>
                  <a:lnTo>
                    <a:pt x="29" y="364"/>
                  </a:lnTo>
                  <a:lnTo>
                    <a:pt x="37" y="413"/>
                  </a:lnTo>
                  <a:lnTo>
                    <a:pt x="46" y="461"/>
                  </a:lnTo>
                  <a:lnTo>
                    <a:pt x="55" y="507"/>
                  </a:lnTo>
                  <a:lnTo>
                    <a:pt x="66" y="553"/>
                  </a:lnTo>
                  <a:lnTo>
                    <a:pt x="78" y="597"/>
                  </a:lnTo>
                  <a:lnTo>
                    <a:pt x="91" y="641"/>
                  </a:lnTo>
                  <a:lnTo>
                    <a:pt x="104" y="685"/>
                  </a:lnTo>
                  <a:lnTo>
                    <a:pt x="119" y="727"/>
                  </a:lnTo>
                  <a:lnTo>
                    <a:pt x="135" y="768"/>
                  </a:lnTo>
                  <a:lnTo>
                    <a:pt x="152" y="807"/>
                  </a:lnTo>
                  <a:lnTo>
                    <a:pt x="170" y="846"/>
                  </a:lnTo>
                  <a:lnTo>
                    <a:pt x="190" y="885"/>
                  </a:lnTo>
                  <a:lnTo>
                    <a:pt x="210" y="922"/>
                  </a:lnTo>
                  <a:lnTo>
                    <a:pt x="232" y="958"/>
                  </a:lnTo>
                  <a:lnTo>
                    <a:pt x="255" y="993"/>
                  </a:lnTo>
                  <a:lnTo>
                    <a:pt x="279" y="1027"/>
                  </a:lnTo>
                  <a:lnTo>
                    <a:pt x="304" y="1060"/>
                  </a:lnTo>
                  <a:lnTo>
                    <a:pt x="331" y="1092"/>
                  </a:lnTo>
                  <a:lnTo>
                    <a:pt x="360" y="1123"/>
                  </a:lnTo>
                  <a:lnTo>
                    <a:pt x="389" y="1153"/>
                  </a:lnTo>
                  <a:lnTo>
                    <a:pt x="419" y="1182"/>
                  </a:lnTo>
                  <a:lnTo>
                    <a:pt x="452" y="1210"/>
                  </a:lnTo>
                  <a:lnTo>
                    <a:pt x="485" y="1237"/>
                  </a:lnTo>
                  <a:lnTo>
                    <a:pt x="520" y="1262"/>
                  </a:lnTo>
                  <a:lnTo>
                    <a:pt x="556" y="1287"/>
                  </a:lnTo>
                  <a:lnTo>
                    <a:pt x="1053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5e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D15A-46FC-468A-88F4-1080683944A9}" type="slidenum">
              <a:rPr b="0" lang="en-US" sz="1400" spc="-1" strike="noStrike">
                <a:solidFill>
                  <a:srgbClr val="bc5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E4C7-1920-4578-9F7E-A379A34A6A2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1405080" y="1973160"/>
            <a:ext cx="6622920" cy="2151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Форм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eb1d0d"/>
                </a:solidFill>
                <a:latin typeface="Arial"/>
              </a:rPr>
              <a:t>Отчета о финансовых результатах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(форма </a:t>
            </a:r>
            <a:r>
              <a:rPr b="1" lang="ru-RU" sz="2800" spc="-1" strike="noStrike">
                <a:solidFill>
                  <a:srgbClr val="eb1d0d"/>
                </a:solidFill>
                <a:latin typeface="Arial"/>
              </a:rPr>
              <a:t>0503121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2F4A-22B1-41EA-8672-2952485022E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71280"/>
          <a:ext cx="8943840" cy="6656400"/>
        </p:xfrm>
        <a:graphic>
          <a:graphicData uri="http://schemas.openxmlformats.org/drawingml/2006/table">
            <a:tbl>
              <a:tblPr/>
              <a:tblGrid>
                <a:gridCol w="4235400"/>
                <a:gridCol w="430200"/>
                <a:gridCol w="512640"/>
                <a:gridCol w="1255680"/>
                <a:gridCol w="1254240"/>
                <a:gridCol w="1255680"/>
              </a:tblGrid>
              <a:tr h="5533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65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сления на выплаты по оплате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обретение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связ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альны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дная плата за пользование имуществ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по содержанию имуще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утренних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ешних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28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государственным и муниципальных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240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организациям, за исключением государственных и муниципальны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бюджет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47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другим бюджетам бюджетной системы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17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наднациональным организациям и правительствам иностранных государ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88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международным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08000" y="714240"/>
          <a:ext cx="7961400" cy="2355840"/>
        </p:xfrm>
        <a:graphic>
          <a:graphicData uri="http://schemas.openxmlformats.org/drawingml/2006/table">
            <a:tbl>
              <a:tblPr/>
              <a:tblGrid>
                <a:gridCol w="4081320"/>
                <a:gridCol w="1089000"/>
                <a:gridCol w="1362240"/>
                <a:gridCol w="1428840"/>
              </a:tblGrid>
              <a:tr h="248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опе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спонденция 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ы фактические расходы по оказанным услугам, в том числе н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3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06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ту тру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ия на оплату тру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 основного 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ова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Text Box 262"/>
          <p:cNvSpPr/>
          <p:nvPr/>
        </p:nvSpPr>
        <p:spPr>
          <a:xfrm>
            <a:off x="108000" y="285840"/>
            <a:ext cx="7559640" cy="2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В течении года были следующие операции по счету 2106044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9423-69BC-4AA7-A8BE-B7BECD9301F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34920"/>
          <a:ext cx="9144000" cy="4537080"/>
        </p:xfrm>
        <a:graphic>
          <a:graphicData uri="http://schemas.openxmlformats.org/drawingml/2006/table">
            <a:tbl>
              <a:tblPr/>
              <a:tblGrid>
                <a:gridCol w="4329000"/>
                <a:gridCol w="441360"/>
                <a:gridCol w="525600"/>
                <a:gridCol w="1282680"/>
                <a:gridCol w="1282680"/>
                <a:gridCol w="128268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я по социальному страхованию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я по социальной помощи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ые пособия, выплачиваемые организациями сектора государственного у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по операциям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мортизация основных средств и 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ова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резвычайные расходы по операциям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72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стр291 –сьр.29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198 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4 7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8636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онный результа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налогооблож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стр.010 – стр. 1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198 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63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лог на прибы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08000" y="4543560"/>
          <a:ext cx="8856720" cy="1100160"/>
        </p:xfrm>
        <a:graphic>
          <a:graphicData uri="http://schemas.openxmlformats.org/drawingml/2006/table">
            <a:tbl>
              <a:tblPr/>
              <a:tblGrid>
                <a:gridCol w="4403520"/>
                <a:gridCol w="355680"/>
                <a:gridCol w="496800"/>
                <a:gridCol w="1163880"/>
                <a:gridCol w="1252440"/>
                <a:gridCol w="11844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249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06200" y="5670720"/>
          <a:ext cx="8872560" cy="1116000"/>
        </p:xfrm>
        <a:graphic>
          <a:graphicData uri="http://schemas.openxmlformats.org/drawingml/2006/table">
            <a:tbl>
              <a:tblPr/>
              <a:tblGrid>
                <a:gridCol w="4249800"/>
                <a:gridCol w="503280"/>
                <a:gridCol w="504720"/>
                <a:gridCol w="1167120"/>
                <a:gridCol w="1250640"/>
                <a:gridCol w="11970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97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0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38" name="Rectangle 195"/>
          <p:cNvSpPr/>
          <p:nvPr/>
        </p:nvSpPr>
        <p:spPr>
          <a:xfrm>
            <a:off x="71280" y="4784400"/>
            <a:ext cx="8964720" cy="508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b601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Cyr"/>
              </a:rPr>
              <a:t>Чистый операционный результат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 290)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 291)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</a:t>
            </a: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29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5AE9-BCB5-48B8-89CC-7420DD4D42E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6200" y="220680"/>
          <a:ext cx="8964720" cy="4894200"/>
        </p:xfrm>
        <a:graphic>
          <a:graphicData uri="http://schemas.openxmlformats.org/drawingml/2006/table">
            <a:tbl>
              <a:tblPr/>
              <a:tblGrid>
                <a:gridCol w="4246560"/>
                <a:gridCol w="430200"/>
                <a:gridCol w="511200"/>
                <a:gridCol w="1262160"/>
                <a:gridCol w="1254240"/>
                <a:gridCol w="126036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337"/>
          <p:cNvSpPr/>
          <p:nvPr/>
        </p:nvSpPr>
        <p:spPr>
          <a:xfrm>
            <a:off x="106200" y="4660920"/>
            <a:ext cx="8964720" cy="2274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2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=  сч. 0101 + сч. 010601  + сч. 010701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32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0101 + сч. 0104 + сч. 010601 + сч. 0107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3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 сч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 10602 + 10702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33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=  сч.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104 +  сч.10602 + сч. 10702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5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010603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5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01060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6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5 + сч.010604 + 010703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6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5 + сч.010604 + сч. 01070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38"/>
          <p:cNvSpPr/>
          <p:nvPr/>
        </p:nvSpPr>
        <p:spPr>
          <a:xfrm>
            <a:off x="365040" y="220680"/>
            <a:ext cx="7921800" cy="569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290 «Чистый операционный результат»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9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9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трока 290 «Чистый операционный результат»: =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стр.310 + стр.390 – стр.510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тр.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10 +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тр.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39"/>
          <p:cNvSpPr/>
          <p:nvPr/>
        </p:nvSpPr>
        <p:spPr>
          <a:xfrm>
            <a:off x="5075280" y="120204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2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2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40"/>
          <p:cNvSpPr/>
          <p:nvPr/>
        </p:nvSpPr>
        <p:spPr>
          <a:xfrm>
            <a:off x="4930920" y="914400"/>
            <a:ext cx="381780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тр.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310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: =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стр.3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+ стр.3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0+c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р.350+стр.3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3"/>
          <p:cNvSpPr/>
          <p:nvPr/>
        </p:nvSpPr>
        <p:spPr>
          <a:xfrm>
            <a:off x="5435640" y="206712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44"/>
          <p:cNvSpPr/>
          <p:nvPr/>
        </p:nvSpPr>
        <p:spPr>
          <a:xfrm>
            <a:off x="5435640" y="293076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45"/>
          <p:cNvSpPr/>
          <p:nvPr/>
        </p:nvSpPr>
        <p:spPr>
          <a:xfrm>
            <a:off x="5506920" y="386568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A325-9AF2-4528-9580-7A233581A33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44280"/>
          <a:ext cx="8832960" cy="2017800"/>
        </p:xfrm>
        <a:graphic>
          <a:graphicData uri="http://schemas.openxmlformats.org/drawingml/2006/table">
            <a:tbl>
              <a:tblPr/>
              <a:tblGrid>
                <a:gridCol w="4183200"/>
                <a:gridCol w="423720"/>
                <a:gridCol w="506520"/>
                <a:gridCol w="1241280"/>
                <a:gridCol w="1238400"/>
                <a:gridCol w="123984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 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5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79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1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6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0760" y="2654280"/>
          <a:ext cx="8913960" cy="4173480"/>
        </p:xfrm>
        <a:graphic>
          <a:graphicData uri="http://schemas.openxmlformats.org/drawingml/2006/table">
            <a:tbl>
              <a:tblPr/>
              <a:tblGrid>
                <a:gridCol w="849240"/>
                <a:gridCol w="741600"/>
                <a:gridCol w="760320"/>
                <a:gridCol w="762120"/>
                <a:gridCol w="760320"/>
                <a:gridCol w="762120"/>
                <a:gridCol w="763560"/>
                <a:gridCol w="760320"/>
                <a:gridCol w="762120"/>
                <a:gridCol w="760320"/>
                <a:gridCol w="871560"/>
                <a:gridCol w="360360"/>
              </a:tblGrid>
              <a:tr h="309960">
                <a:tc row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96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9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3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896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4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5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51" name="Oval 386"/>
          <p:cNvSpPr/>
          <p:nvPr/>
        </p:nvSpPr>
        <p:spPr>
          <a:xfrm>
            <a:off x="5580000" y="2637000"/>
            <a:ext cx="1371600" cy="38088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93"/>
          <p:cNvSpPr/>
          <p:nvPr/>
        </p:nvSpPr>
        <p:spPr>
          <a:xfrm>
            <a:off x="1206360" y="3898800"/>
            <a:ext cx="6248520" cy="0"/>
          </a:xfrm>
          <a:prstGeom prst="line">
            <a:avLst/>
          </a:prstGeom>
          <a:ln w="1260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94"/>
          <p:cNvSpPr/>
          <p:nvPr/>
        </p:nvSpPr>
        <p:spPr>
          <a:xfrm>
            <a:off x="1206360" y="4406760"/>
            <a:ext cx="6248520" cy="0"/>
          </a:xfrm>
          <a:prstGeom prst="line">
            <a:avLst/>
          </a:prstGeom>
          <a:ln w="1260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10"/>
          <p:cNvSpPr/>
          <p:nvPr/>
        </p:nvSpPr>
        <p:spPr>
          <a:xfrm>
            <a:off x="1187280" y="4076640"/>
            <a:ext cx="7010640" cy="0"/>
          </a:xfrm>
          <a:prstGeom prst="line">
            <a:avLst/>
          </a:prstGeom>
          <a:ln w="19080">
            <a:solidFill>
              <a:srgbClr val="9933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24"/>
          <p:cNvSpPr/>
          <p:nvPr/>
        </p:nvSpPr>
        <p:spPr>
          <a:xfrm>
            <a:off x="5580000" y="5805360"/>
            <a:ext cx="685800" cy="28764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26"/>
          <p:cNvSpPr/>
          <p:nvPr/>
        </p:nvSpPr>
        <p:spPr>
          <a:xfrm>
            <a:off x="3924360" y="5400720"/>
            <a:ext cx="1828800" cy="32652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Cyr"/>
              </a:rPr>
              <a:t>Сумма берется со знаком «минус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30"/>
          <p:cNvSpPr/>
          <p:nvPr/>
        </p:nvSpPr>
        <p:spPr>
          <a:xfrm>
            <a:off x="395280" y="2111040"/>
            <a:ext cx="7696080" cy="4482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Чистое поступление основных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20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Увеличение стоимости ОС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21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Уменьшение стоимости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32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3F30-91C8-4273-A65B-9B5660543E4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2920" y="442800"/>
          <a:ext cx="8929800" cy="662940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1200"/>
                <a:gridCol w="1255680"/>
                <a:gridCol w="1424160"/>
                <a:gridCol w="1081080"/>
              </a:tblGrid>
              <a:tr h="9417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 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9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1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6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1 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 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 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0 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3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 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3 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0" name="Rectangle 161"/>
          <p:cNvSpPr/>
          <p:nvPr/>
        </p:nvSpPr>
        <p:spPr>
          <a:xfrm>
            <a:off x="1044720" y="76680"/>
            <a:ext cx="7619760" cy="24948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Аналогично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 заносится информация по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строкам 330 – 3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4BF7-9DA4-4453-99C5-862EDFB66E0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4920" y="-819000"/>
          <a:ext cx="9036000" cy="7611840"/>
        </p:xfrm>
        <a:graphic>
          <a:graphicData uri="http://schemas.openxmlformats.org/drawingml/2006/table">
            <a:tbl>
              <a:tblPr/>
              <a:tblGrid>
                <a:gridCol w="4319640"/>
                <a:gridCol w="407880"/>
                <a:gridCol w="457200"/>
                <a:gridCol w="135000"/>
                <a:gridCol w="1195560"/>
                <a:gridCol w="1099800"/>
                <a:gridCol w="142092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=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тр.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 Стр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  410 +420 +440 + 460 +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 +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0201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21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020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030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ценных бумаг, кроме акций и иных форм участия в капита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020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204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акций и иных форм участия в кап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аш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депозитов, иных финансов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401Депо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увеличение дебиторской задолженности (кроме бюджетных ссуд, бюджет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5, 0206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208, 0209, 221001, 021003, 021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5, 0206, 0208, 0209, 221001, 021003, 021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A053-CB10-434F-8441-2902FEC27D0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99"/>
          <p:cNvSpPr/>
          <p:nvPr/>
        </p:nvSpPr>
        <p:spPr>
          <a:xfrm>
            <a:off x="8478720" y="646632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8000" y="115920"/>
          <a:ext cx="8929800" cy="215568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2640"/>
                <a:gridCol w="1252800"/>
                <a:gridCol w="1253880"/>
                <a:gridCol w="12528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869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9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2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060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922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7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-36360" y="4176720"/>
          <a:ext cx="9144000" cy="1990800"/>
        </p:xfrm>
        <a:graphic>
          <a:graphicData uri="http://schemas.openxmlformats.org/drawingml/2006/table">
            <a:tbl>
              <a:tblPr/>
              <a:tblGrid>
                <a:gridCol w="900000"/>
                <a:gridCol w="669960"/>
                <a:gridCol w="788760"/>
                <a:gridCol w="784440"/>
                <a:gridCol w="788760"/>
                <a:gridCol w="787680"/>
                <a:gridCol w="787320"/>
                <a:gridCol w="789120"/>
                <a:gridCol w="787320"/>
                <a:gridCol w="796680"/>
                <a:gridCol w="866880"/>
                <a:gridCol w="397080"/>
              </a:tblGrid>
              <a:tr h="34596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8 6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48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8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 8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2 84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Line 379"/>
          <p:cNvSpPr/>
          <p:nvPr/>
        </p:nvSpPr>
        <p:spPr>
          <a:xfrm>
            <a:off x="1206360" y="5092560"/>
            <a:ext cx="6172200" cy="0"/>
          </a:xfrm>
          <a:prstGeom prst="line">
            <a:avLst/>
          </a:prstGeom>
          <a:ln w="1908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81"/>
          <p:cNvSpPr/>
          <p:nvPr/>
        </p:nvSpPr>
        <p:spPr>
          <a:xfrm>
            <a:off x="407880" y="2961000"/>
            <a:ext cx="7620120" cy="46260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1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510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оме 020102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)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+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401000 + 02100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82"/>
          <p:cNvSpPr/>
          <p:nvPr/>
        </p:nvSpPr>
        <p:spPr>
          <a:xfrm>
            <a:off x="368280" y="3608640"/>
            <a:ext cx="7620120" cy="46260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Строка 412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КОСГУ 610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020100000 (</a:t>
            </a:r>
            <a:r>
              <a:rPr b="1" lang="ru-RU" sz="1400" spc="-1" strike="noStrike">
                <a:solidFill>
                  <a:srgbClr val="000000"/>
                </a:solidFill>
                <a:latin typeface="Arial Cyr"/>
              </a:rPr>
              <a:t>кроме 020102000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)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+ 020401000 + 03040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89"/>
          <p:cNvSpPr/>
          <p:nvPr/>
        </p:nvSpPr>
        <p:spPr>
          <a:xfrm>
            <a:off x="5651640" y="5805360"/>
            <a:ext cx="761760" cy="45720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91"/>
          <p:cNvSpPr/>
          <p:nvPr/>
        </p:nvSpPr>
        <p:spPr>
          <a:xfrm>
            <a:off x="4863960" y="6275520"/>
            <a:ext cx="2032200" cy="3870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Сумма берется со знаком «мину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3"/>
          <p:cNvSpPr/>
          <p:nvPr/>
        </p:nvSpPr>
        <p:spPr>
          <a:xfrm>
            <a:off x="520560" y="2398320"/>
            <a:ext cx="7696440" cy="4482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Чистое поступление средств на счета бюджета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 410)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Поступлен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 411)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Выбыт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41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99"/>
          <p:cNvSpPr/>
          <p:nvPr/>
        </p:nvSpPr>
        <p:spPr>
          <a:xfrm flipV="1">
            <a:off x="9109080" y="1413000"/>
            <a:ext cx="0" cy="576000"/>
          </a:xfrm>
          <a:prstGeom prst="line">
            <a:avLst/>
          </a:prstGeom>
          <a:ln cap="rnd" w="31680">
            <a:solidFill>
              <a:srgbClr val="003366"/>
            </a:solidFill>
            <a:custDash>
              <a:ds d="100000" sp="1000"/>
            </a:custDash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4F21-9939-40FE-8046-71810247CAF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41"/>
          <p:cNvSpPr/>
          <p:nvPr/>
        </p:nvSpPr>
        <p:spPr>
          <a:xfrm>
            <a:off x="8478720" y="646632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79280" y="115920"/>
          <a:ext cx="8929800" cy="2052720"/>
        </p:xfrm>
        <a:graphic>
          <a:graphicData uri="http://schemas.openxmlformats.org/drawingml/2006/table">
            <a:tbl>
              <a:tblPr/>
              <a:tblGrid>
                <a:gridCol w="4229280"/>
                <a:gridCol w="428400"/>
                <a:gridCol w="513000"/>
                <a:gridCol w="1252440"/>
                <a:gridCol w="1254240"/>
                <a:gridCol w="125244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869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9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810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2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6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28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79280" y="3932280"/>
          <a:ext cx="8929800" cy="2935080"/>
        </p:xfrm>
        <a:graphic>
          <a:graphicData uri="http://schemas.openxmlformats.org/drawingml/2006/table">
            <a:tbl>
              <a:tblPr/>
              <a:tblGrid>
                <a:gridCol w="863640"/>
                <a:gridCol w="669960"/>
                <a:gridCol w="770040"/>
                <a:gridCol w="765000"/>
                <a:gridCol w="771480"/>
                <a:gridCol w="770040"/>
                <a:gridCol w="768240"/>
                <a:gridCol w="770040"/>
                <a:gridCol w="768240"/>
                <a:gridCol w="779760"/>
                <a:gridCol w="846000"/>
                <a:gridCol w="387360"/>
              </a:tblGrid>
              <a:tr h="34596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 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 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84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5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Text Box 457"/>
          <p:cNvSpPr/>
          <p:nvPr/>
        </p:nvSpPr>
        <p:spPr>
          <a:xfrm>
            <a:off x="5796000" y="1968480"/>
            <a:ext cx="79200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 Cyr"/>
              </a:rPr>
              <a:t>892 2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58"/>
          <p:cNvSpPr/>
          <p:nvPr/>
        </p:nvSpPr>
        <p:spPr>
          <a:xfrm>
            <a:off x="5580000" y="3860640"/>
            <a:ext cx="1371600" cy="45720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60"/>
          <p:cNvSpPr/>
          <p:nvPr/>
        </p:nvSpPr>
        <p:spPr>
          <a:xfrm>
            <a:off x="552600" y="2786400"/>
            <a:ext cx="76197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1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51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+ 020431000 + 02100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1"/>
          <p:cNvSpPr/>
          <p:nvPr/>
        </p:nvSpPr>
        <p:spPr>
          <a:xfrm>
            <a:off x="466560" y="3351600"/>
            <a:ext cx="762012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2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61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+ 020431000 + 03040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65"/>
          <p:cNvSpPr/>
          <p:nvPr/>
        </p:nvSpPr>
        <p:spPr>
          <a:xfrm>
            <a:off x="592200" y="2253960"/>
            <a:ext cx="7696080" cy="44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Чистое поступление средств на счета бюджета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410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оступлен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411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Выбыт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412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67"/>
          <p:cNvSpPr/>
          <p:nvPr/>
        </p:nvSpPr>
        <p:spPr>
          <a:xfrm>
            <a:off x="7020000" y="1968480"/>
            <a:ext cx="79200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47 0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70"/>
          <p:cNvSpPr/>
          <p:nvPr/>
        </p:nvSpPr>
        <p:spPr>
          <a:xfrm>
            <a:off x="8099280" y="1968480"/>
            <a:ext cx="79236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939 2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71"/>
          <p:cNvSpPr/>
          <p:nvPr/>
        </p:nvSpPr>
        <p:spPr>
          <a:xfrm flipV="1">
            <a:off x="9180360" y="1483920"/>
            <a:ext cx="0" cy="576360"/>
          </a:xfrm>
          <a:prstGeom prst="line">
            <a:avLst/>
          </a:prstGeom>
          <a:ln cap="rnd" w="31680">
            <a:solidFill>
              <a:srgbClr val="003366"/>
            </a:solidFill>
            <a:custDash>
              <a:ds d="100000" sp="1000"/>
            </a:custDash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CC43-1AC5-45E3-9756-7EADB10C0DE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4920" y="-747720"/>
          <a:ext cx="9144000" cy="7738920"/>
        </p:xfrm>
        <a:graphic>
          <a:graphicData uri="http://schemas.openxmlformats.org/drawingml/2006/table">
            <a:tbl>
              <a:tblPr/>
              <a:tblGrid>
                <a:gridCol w="4330800"/>
                <a:gridCol w="438120"/>
                <a:gridCol w="525240"/>
                <a:gridCol w="1282680"/>
                <a:gridCol w="1284480"/>
                <a:gridCol w="128268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 854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13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869 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9 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 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2 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аш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депозитов, иных финансов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дебиторской задолженности (кроме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ых ссуд, бюджетных кредит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4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 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 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EAA0-066B-4CD8-B5E1-C6B30AFC06D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90440" y="228600"/>
          <a:ext cx="8774280" cy="6442200"/>
        </p:xfrm>
        <a:graphic>
          <a:graphicData uri="http://schemas.openxmlformats.org/drawingml/2006/table">
            <a:tbl>
              <a:tblPr/>
              <a:tblGrid>
                <a:gridCol w="4156200"/>
                <a:gridCol w="420480"/>
                <a:gridCol w="503280"/>
                <a:gridCol w="1231920"/>
                <a:gridCol w="1309680"/>
                <a:gridCol w="115272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стр.520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стр. 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 стр. 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 030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303, 0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.03040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4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 030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303, 0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.03040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4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7AF8-B045-4086-AF13-440F38D1F68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F088-656A-4574-A206-E1983367F4C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6360" y="476280"/>
            <a:ext cx="9144000" cy="64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Принцип заполнения строк остался преж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Отдельные изме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заполнении  строки 040 графы 5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о приносящей доход деятельности сумма начисленных доходо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2 401 1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платных услуг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ражаются за минусом НД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 05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Суммы принудительного изъятия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061 – 063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Безвозмездные поступления от бюджетов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08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Взносы на социальные нужды»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31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Безвозмездные перечисления другим бюджетам бюджетной системы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» не заполня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 092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реализации активов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стр.10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Прочие доходы» отражаются по данным соответственн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четов 2 401 10 172 и 2 401 10 180, увеличенные на сумму начисленного  за счет этих доходов налога на прибы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и 110 «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Доходы будущих периодов» отражается разница между кредитовым и дебетовым оборот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 2 401 4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будущих периодов от рыночных  продаж  готовой продукции, работ, услуг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жившихся за отчетный период.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ри заполнени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 160 – 280 в графе 5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о приносящей доход деятельност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анные отражаются с учетом дебетового оборота счета 2 401 1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платных услуг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44280"/>
            <a:ext cx="9144000" cy="4064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9153b"/>
                </a:solidFill>
                <a:latin typeface="Arial"/>
              </a:rPr>
              <a:t>Отчет  (форма 0503121). Основные из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715A-5AC6-4739-86E1-F4DCB206532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4920" y="44280"/>
          <a:ext cx="8929800" cy="4137120"/>
        </p:xfrm>
        <a:graphic>
          <a:graphicData uri="http://schemas.openxmlformats.org/drawingml/2006/table">
            <a:tbl>
              <a:tblPr/>
              <a:tblGrid>
                <a:gridCol w="4229280"/>
                <a:gridCol w="668160"/>
                <a:gridCol w="576360"/>
                <a:gridCol w="1295280"/>
                <a:gridCol w="1268280"/>
                <a:gridCol w="892440"/>
              </a:tblGrid>
              <a:tr h="1071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544 9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 8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1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544 9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 8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8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33 7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6 1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78 7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 2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2" name="Rectangle 197"/>
          <p:cNvSpPr/>
          <p:nvPr/>
        </p:nvSpPr>
        <p:spPr>
          <a:xfrm>
            <a:off x="0" y="4011480"/>
            <a:ext cx="4348080" cy="8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Строка 541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КОСГУ 73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2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300000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30400000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(кроме 030401000, 030405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9"/>
          <p:cNvSpPr/>
          <p:nvPr/>
        </p:nvSpPr>
        <p:spPr>
          <a:xfrm>
            <a:off x="4643280" y="4011480"/>
            <a:ext cx="4168800" cy="8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Строка 542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КОСГУ 83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2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3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30400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(кроме 030401000, 030405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D7AB-6721-4DD3-960F-6289CF821D0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476280"/>
          <a:ext cx="8929800" cy="569124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2640"/>
                <a:gridCol w="1252800"/>
                <a:gridCol w="1253880"/>
                <a:gridCol w="125280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4880dc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4880dc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33 7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6 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878 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 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0B49-E8CA-4547-856F-9645B799C93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06200" y="44280"/>
          <a:ext cx="8929800" cy="199260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2640"/>
                <a:gridCol w="1252440"/>
                <a:gridCol w="1254240"/>
                <a:gridCol w="1252440"/>
              </a:tblGrid>
              <a:tr h="796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4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309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3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54 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 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70"/>
          <p:cNvSpPr/>
          <p:nvPr/>
        </p:nvSpPr>
        <p:spPr>
          <a:xfrm>
            <a:off x="260280" y="149040"/>
            <a:ext cx="7732800" cy="44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Операции с финансовыми активами и обязательствами</a:t>
            </a:r>
            <a:r>
              <a:rPr b="1" lang="ru-RU" sz="1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80)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90) – 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5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6200" y="4076640"/>
          <a:ext cx="8929800" cy="130500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1200"/>
                <a:gridCol w="1255680"/>
                <a:gridCol w="1250640"/>
                <a:gridCol w="1254240"/>
              </a:tblGrid>
              <a:tr h="796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4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06200" y="5373720"/>
          <a:ext cx="8929800" cy="148572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2640"/>
                <a:gridCol w="1252440"/>
                <a:gridCol w="1254240"/>
                <a:gridCol w="1252440"/>
              </a:tblGrid>
              <a:tr h="7970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309 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3 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93600" y="3716280"/>
          <a:ext cx="8942400" cy="274680"/>
        </p:xfrm>
        <a:graphic>
          <a:graphicData uri="http://schemas.openxmlformats.org/drawingml/2006/table">
            <a:tbl>
              <a:tblPr/>
              <a:tblGrid>
                <a:gridCol w="4233960"/>
                <a:gridCol w="430200"/>
                <a:gridCol w="514440"/>
                <a:gridCol w="1253880"/>
                <a:gridCol w="1255680"/>
                <a:gridCol w="1254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198 8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4 7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2" name="Rectangle 159"/>
          <p:cNvSpPr/>
          <p:nvPr/>
        </p:nvSpPr>
        <p:spPr>
          <a:xfrm>
            <a:off x="900000" y="257040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10) + (строка 3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- (строка 510) = (строка 2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0"/>
          <p:cNvSpPr/>
          <p:nvPr/>
        </p:nvSpPr>
        <p:spPr>
          <a:xfrm>
            <a:off x="934920" y="314676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310) + (строка 3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 (строка  2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1"/>
          <p:cNvSpPr/>
          <p:nvPr/>
        </p:nvSpPr>
        <p:spPr>
          <a:xfrm>
            <a:off x="934920" y="206568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91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)  - (строка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92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 (строка 2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02FB-4DFA-4F03-80BA-A163EA1D158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DBA1-7C20-44AA-A82D-94A1BA60655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6360" y="-27000"/>
            <a:ext cx="9144000" cy="52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ммы расходов, сформировавших себестоимость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выполненных работ, оказанных услуг на основании данных аналитического учета в разрезе соответствующих КОСГ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2 106 34 440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«Уменьшение вложений в материальные запасы – иное движимое имущество учреждения»,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6 44 440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«Уменьшение вложений в материальные запасы – предметы лизинг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buClr>
                <a:srgbClr val="28497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мма стоимости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реализованной готовой продукции по счетам: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5 31 440, 2 105 32 440, 2 105 33 440, 2 105 34 440, 2 105 35 44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5 36 440, 2 105 37 440, 2 105 38 440, 2 105 44 440, 2 105 46 44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Уменьшение стоимости прочих  материальных запасов  - предметов лизинга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и переданной заказчику готовой продукции (по статье 272 КОСГ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) Суммы  расходов,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связанных с реализацией готовой продукции по данным соответствующих счетов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чета  2  401 20 20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Расходы учрежд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2EF6-F674-48DB-9ECF-F79F6785E7A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228600" y="11430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08000" y="176760"/>
            <a:ext cx="8964720" cy="1169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чет о финансовых результатах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ф. 05031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50920" y="1557360"/>
            <a:ext cx="8762760" cy="5580360"/>
          </a:xfrm>
          <a:prstGeom prst="rect">
            <a:avLst/>
          </a:prstGeom>
          <a:gradFill rotWithShape="0">
            <a:gsLst>
              <a:gs pos="0">
                <a:srgbClr val="3cc44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чет по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ОС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наименования показа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коды строк отч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коды Классификации операций сектора государственного 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Бюджетная деятельность» отражаются показатели финансового результата по операциям в рамках исполнения соответствующего бюдже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иносящая доход деятельность» отражаются показатели финансового результата деятельности в рамках предпринимательской и иной приносящей доход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редства во временном распоряжен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92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7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того» по всем строкам отражается сумма показателей по графам 4,5 и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FC92-FE5F-4CD0-B1F1-3E2FB652AAE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7"/>
          <p:cNvSpPr/>
          <p:nvPr/>
        </p:nvSpPr>
        <p:spPr>
          <a:xfrm>
            <a:off x="8478720" y="646560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609480" y="457200"/>
            <a:ext cx="8305920" cy="1739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истый операционный результат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, как по бюджетным средствам, так и по внебюджетным средства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ражается, как сумма изменения финансового результата за отчетный период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и формиру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539640" y="3357720"/>
            <a:ext cx="331308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Чистый операционный результ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4788000" y="4331520"/>
            <a:ext cx="410508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Операции с нефинансовыми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плюс 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операции с </a:t>
            </a:r>
            <a:r>
              <a:rPr b="1" lang="ru-RU" sz="1600" spc="-1" strike="noStrike">
                <a:solidFill>
                  <a:srgbClr val="000000"/>
                </a:solidFill>
                <a:latin typeface="Arial Cyr"/>
              </a:rPr>
              <a:t>финансовыми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активами 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минус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 операции с </a:t>
            </a:r>
            <a:r>
              <a:rPr b="1" lang="ru-RU" sz="1600" spc="-1" strike="noStrike">
                <a:solidFill>
                  <a:srgbClr val="28497a"/>
                </a:solidFill>
                <a:latin typeface="Arial Cyr"/>
              </a:rPr>
              <a:t>обязатель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012000" y="3716280"/>
            <a:ext cx="143964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3"/>
          <p:cNvSpPr/>
          <p:nvPr/>
        </p:nvSpPr>
        <p:spPr>
          <a:xfrm rot="213000">
            <a:off x="3492000" y="5084280"/>
            <a:ext cx="1657440" cy="1381320"/>
          </a:xfrm>
          <a:custGeom>
            <a:avLst/>
            <a:gdLst>
              <a:gd name="textAreaLeft" fmla="*/ 289800 w 1657440"/>
              <a:gd name="textAreaRight" fmla="*/ 1201680 w 1657440"/>
              <a:gd name="textAreaTop" fmla="*/ 185040 h 1381320"/>
              <a:gd name="textAreaBottom" fmla="*/ 1196280 h 138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edf80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4"/>
          <p:cNvSpPr/>
          <p:nvPr/>
        </p:nvSpPr>
        <p:spPr>
          <a:xfrm>
            <a:off x="3564000" y="2349360"/>
            <a:ext cx="1584360" cy="102096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36800 h 1020960"/>
              <a:gd name="textAreaBottom" fmla="*/ 884160 h 1020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df80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5"/>
          <p:cNvSpPr/>
          <p:nvPr/>
        </p:nvSpPr>
        <p:spPr>
          <a:xfrm>
            <a:off x="5364000" y="2658240"/>
            <a:ext cx="331344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Операционный доход до налогообложения минус налог на прибы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A772-068F-42F2-984E-0D425843845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9144000" cy="7024680"/>
        </p:xfrm>
        <a:graphic>
          <a:graphicData uri="http://schemas.openxmlformats.org/drawingml/2006/table">
            <a:tbl>
              <a:tblPr/>
              <a:tblGrid>
                <a:gridCol w="4195080"/>
                <a:gridCol w="338040"/>
                <a:gridCol w="473040"/>
                <a:gridCol w="1084320"/>
                <a:gridCol w="811080"/>
                <a:gridCol w="72000"/>
                <a:gridCol w="303120"/>
                <a:gridCol w="455400"/>
                <a:gridCol w="706680"/>
                <a:gridCol w="705240"/>
              </a:tblGrid>
              <a:tr h="25848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eb1d0d"/>
                          </a:solidFill>
                          <a:latin typeface="Arial"/>
                        </a:rPr>
                        <a:t>ОТЧЕТ О ФИНАНСОВЫХ РЕЗУЛЬТАТАХ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eb1d0d"/>
                          </a:solidFill>
                          <a:latin typeface="Arial"/>
                          <a:ea typeface="Times New Roman"/>
                        </a:rPr>
                        <a:t>0503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822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1 _______января________ 2012_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реждение (главный распорядитель (распорядитель), получатель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министратор 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ОК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бюджета ________________________________________________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420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иодичность:  год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3840">
                <a:tc gridSpan="6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а измерения: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ОКЕ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8640">
                <a:tc gridSpan="9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62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поряж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38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520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5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32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52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13" name="Line 225"/>
          <p:cNvSpPr/>
          <p:nvPr/>
        </p:nvSpPr>
        <p:spPr>
          <a:xfrm>
            <a:off x="9907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6"/>
          <p:cNvSpPr/>
          <p:nvPr/>
        </p:nvSpPr>
        <p:spPr>
          <a:xfrm>
            <a:off x="14479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7"/>
          <p:cNvSpPr/>
          <p:nvPr/>
        </p:nvSpPr>
        <p:spPr>
          <a:xfrm>
            <a:off x="19051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8"/>
          <p:cNvSpPr/>
          <p:nvPr/>
        </p:nvSpPr>
        <p:spPr>
          <a:xfrm>
            <a:off x="23623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D4D0-52FF-496D-B34D-9531151FA46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4240" y="87480"/>
          <a:ext cx="8977320" cy="430020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503280"/>
                <a:gridCol w="1152360"/>
                <a:gridCol w="1297080"/>
                <a:gridCol w="120024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ыночных продаж товаров, работ,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оступления от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операций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переоценк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еализаци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будущих пери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233"/>
          <p:cNvSpPr/>
          <p:nvPr/>
        </p:nvSpPr>
        <p:spPr>
          <a:xfrm>
            <a:off x="71280" y="4373280"/>
            <a:ext cx="6372360" cy="41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ока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 Cyr"/>
              </a:rPr>
              <a:t>010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 Cyr"/>
              </a:rPr>
              <a:t> (Доходы)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=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.02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30+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4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5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6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8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9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10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1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554D-8786-49D6-BC49-4A2914B8FA3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8680" y="22320"/>
          <a:ext cx="8977320" cy="383544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503280"/>
                <a:gridCol w="1297080"/>
                <a:gridCol w="1152360"/>
                <a:gridCol w="120024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ыночных продаж товаров, работ,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8196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оступления от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64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операций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09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переоценк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еализаци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будущих пери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22" name="Oval 448"/>
          <p:cNvSpPr/>
          <p:nvPr/>
        </p:nvSpPr>
        <p:spPr>
          <a:xfrm>
            <a:off x="8483760" y="6541200"/>
            <a:ext cx="588960" cy="32616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900" spc="-1" strike="noStrike">
                <a:solidFill>
                  <a:srgbClr val="9900cc"/>
                </a:solidFill>
                <a:latin typeface="Arial Cyr"/>
              </a:rPr>
              <a:t>6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16000" y="5062680"/>
          <a:ext cx="8928000" cy="1795320"/>
        </p:xfrm>
        <a:graphic>
          <a:graphicData uri="http://schemas.openxmlformats.org/drawingml/2006/table">
            <a:tbl>
              <a:tblPr/>
              <a:tblGrid>
                <a:gridCol w="828720"/>
                <a:gridCol w="761760"/>
                <a:gridCol w="763560"/>
                <a:gridCol w="763560"/>
                <a:gridCol w="762120"/>
                <a:gridCol w="763560"/>
                <a:gridCol w="762120"/>
                <a:gridCol w="763560"/>
                <a:gridCol w="763560"/>
                <a:gridCol w="762120"/>
                <a:gridCol w="849240"/>
                <a:gridCol w="384120"/>
              </a:tblGrid>
              <a:tr h="35640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9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9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4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33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401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 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 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66760" y="4149720"/>
          <a:ext cx="8913600" cy="1238400"/>
        </p:xfrm>
        <a:graphic>
          <a:graphicData uri="http://schemas.openxmlformats.org/drawingml/2006/table">
            <a:tbl>
              <a:tblPr/>
              <a:tblGrid>
                <a:gridCol w="826920"/>
                <a:gridCol w="762120"/>
                <a:gridCol w="762120"/>
                <a:gridCol w="761760"/>
                <a:gridCol w="762120"/>
                <a:gridCol w="760320"/>
                <a:gridCol w="762120"/>
                <a:gridCol w="762120"/>
                <a:gridCol w="761760"/>
                <a:gridCol w="762120"/>
                <a:gridCol w="846000"/>
                <a:gridCol w="384120"/>
              </a:tblGrid>
              <a:tr h="35100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</a:t>
                      </a:r>
                      <a:r>
                        <a:rPr b="1" i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44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1 00</a:t>
                      </a: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1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1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 50</a:t>
                      </a: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25" name="Text Box 686"/>
          <p:cNvSpPr/>
          <p:nvPr/>
        </p:nvSpPr>
        <p:spPr>
          <a:xfrm>
            <a:off x="539640" y="3932280"/>
            <a:ext cx="8386920" cy="20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течении отчетного периода были совершены следующие операции по счету 210604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4149720"/>
          <a:ext cx="8280360" cy="2430360"/>
        </p:xfrm>
        <a:graphic>
          <a:graphicData uri="http://schemas.openxmlformats.org/drawingml/2006/table">
            <a:tbl>
              <a:tblPr/>
              <a:tblGrid>
                <a:gridCol w="4302000"/>
                <a:gridCol w="1149480"/>
                <a:gridCol w="1434960"/>
                <a:gridCol w="1393920"/>
              </a:tblGrid>
              <a:tr h="275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опе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спонденция сч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ы фактические расходы по оказанным услугам, в том числе н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0110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604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ту тру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ия на оплату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 основного 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ование 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791"/>
          <p:cNvSpPr/>
          <p:nvPr/>
        </p:nvSpPr>
        <p:spPr>
          <a:xfrm>
            <a:off x="468360" y="6605640"/>
            <a:ext cx="8386560" cy="2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ебет 240101130    Кредит 230303730            1515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8065-A08B-4901-832A-EFEF9BDCA79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15920"/>
          <a:ext cx="9144000" cy="6850080"/>
        </p:xfrm>
        <a:graphic>
          <a:graphicData uri="http://schemas.openxmlformats.org/drawingml/2006/table">
            <a:tbl>
              <a:tblPr/>
              <a:tblGrid>
                <a:gridCol w="4330800"/>
                <a:gridCol w="439560"/>
                <a:gridCol w="523800"/>
                <a:gridCol w="1284480"/>
                <a:gridCol w="1281240"/>
                <a:gridCol w="128412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сления на выплаты по оплате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обретение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аль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дная плата за пользование имущест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по содержанию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утренних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ешних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организ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0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государственным и муниципальных организ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бюджет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03:43Z</dcterms:created>
  <dc:creator>PETROV</dc:creator>
  <dc:description/>
  <dc:language>en-US</dc:language>
  <cp:lastModifiedBy>Валентина</cp:lastModifiedBy>
  <cp:lastPrinted>2003-10-16T11:02:04Z</cp:lastPrinted>
  <dcterms:modified xsi:type="dcterms:W3CDTF">2011-11-30T08:48:56Z</dcterms:modified>
  <cp:revision>1651</cp:revision>
  <dc:subject/>
  <dc:title>Заголовок слайда отсутствует</dc:title>
</cp:coreProperties>
</file>