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7E34F54-8528-46BB-8E77-38CF153112A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4F5F620-EA78-451C-AADA-B96B7E71983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FA69DE4-6593-47F4-82F1-435F4580873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0C60928-58B5-40AF-9979-026A15E2C69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21EB146-2DC2-4D4F-8A28-2A713C37E39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44DDE4F-DF1F-43CF-8223-34842EE776B5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C324DDA-0670-446D-8F67-48FB4757974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C2B3EF97-DD4E-4E10-8154-568E04DCD14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D2A60AF-7062-4873-9466-55EA80E8D57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C9EE1E5-E149-4A0F-9410-2E9C4CDBC108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8766D78-DAEA-45B2-9FF3-3D1B1AB49DDC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9662B04-3926-4F50-92B0-6210A09303BE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5D9CC568-DB3C-453B-81ED-353C58733E0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723337C-6472-4809-9900-3C69FEEDA51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00DE8EBD-20DC-43E2-8DD0-8041CEC7312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E9ED5AE4-23B8-4479-9186-B15433444DC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0D45D44-F792-42CD-9775-68AA38D930A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B4007B80-44FB-4AD2-A1E0-9751A33EFF9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28FF9B1A-D1DB-4B3A-BCEF-1708FEE93351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EC31F12-3C8F-4892-BF55-60737DFF903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666D71F-63AD-4E1A-8389-1DE380D7575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E26B-8F28-4BA3-AE6F-B22A42777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66FC-BE1C-47AE-B17D-39E078731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62F06-D371-4F82-9D57-EFCDF6161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6370-B091-457C-B2B1-2280F2021A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1D52-F859-4717-A8A2-CA0245A036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E2BD-A11E-4257-A095-740C9FA0EB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1351-9BF3-4A46-8302-7496552DDC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331-DAF4-4B1D-9887-4B38C0773E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3E2-B950-4C09-86F1-3670907B2A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7D7-CAEB-414E-B176-F12AFEC45A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8E3-1997-49BC-9C15-DE66B71F8E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77C2-8CA2-405A-8DAB-90B254677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7A6-6E37-4075-87A3-3E8A123CDE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A37-187B-4333-8372-8519D7B445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92F-6A47-4E6F-832D-30CF3DFC13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3EB-147B-4C01-A39D-99679075AA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4059-9D02-4669-8AF6-3ACD7DF878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FB2F-484E-4269-A5D9-AE66EF971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CF497-7B11-44FF-B82A-D364742A8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328C-E64F-44BE-92AD-2F5E51AF1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FAFD-FCB2-4B37-86F7-6D092514B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3882-3F98-4BEA-98F4-15C927AC2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00BA-8FCC-47B2-9D1B-9A55AB3293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3D97-32CD-4403-AD12-57FBD6C76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F7AB-CB1D-450F-9D61-E7A0DF65221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D463-BFF4-4656-B5A0-52B176AE0CA5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C65C-7A0E-4AE9-9D2A-4CDBE8123EE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1405080" y="1973160"/>
            <a:ext cx="6622920" cy="2151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Фор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Отчета о финансовых результатах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(форма </a:t>
            </a:r>
            <a:r>
              <a:rPr b="1" lang="ru-RU" sz="2800" spc="-1" strike="noStrike">
                <a:solidFill>
                  <a:srgbClr val="eb1d0d"/>
                </a:solidFill>
                <a:latin typeface="Arial"/>
              </a:rPr>
              <a:t>0503121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9382-03B3-448F-A33D-29A01D7B9DA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71280"/>
          <a:ext cx="8943840" cy="6656400"/>
        </p:xfrm>
        <a:graphic>
          <a:graphicData uri="http://schemas.openxmlformats.org/drawingml/2006/table">
            <a:tbl>
              <a:tblPr/>
              <a:tblGrid>
                <a:gridCol w="4235400"/>
                <a:gridCol w="430200"/>
                <a:gridCol w="512640"/>
                <a:gridCol w="1255680"/>
                <a:gridCol w="1254240"/>
                <a:gridCol w="1255680"/>
              </a:tblGrid>
              <a:tr h="5533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65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240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организациям, за исключением государственных и муниципальных организ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47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другим бюджетам бюджетной системы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317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наднациональным организациям и правительствам иностранных государ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88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числения международным организ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08000" y="714240"/>
          <a:ext cx="7961400" cy="2355840"/>
        </p:xfrm>
        <a:graphic>
          <a:graphicData uri="http://schemas.openxmlformats.org/drawingml/2006/table">
            <a:tbl>
              <a:tblPr/>
              <a:tblGrid>
                <a:gridCol w="4081320"/>
                <a:gridCol w="1089000"/>
                <a:gridCol w="1362240"/>
                <a:gridCol w="1428840"/>
              </a:tblGrid>
              <a:tr h="248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06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3" name="Text Box 262"/>
          <p:cNvSpPr/>
          <p:nvPr/>
        </p:nvSpPr>
        <p:spPr>
          <a:xfrm>
            <a:off x="108000" y="285840"/>
            <a:ext cx="755964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В течении года были следующие операции по счету 2106044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CA1D-3597-4E8F-937E-640F93C1EA3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0" y="34920"/>
          <a:ext cx="9144000" cy="4537080"/>
        </p:xfrm>
        <a:graphic>
          <a:graphicData uri="http://schemas.openxmlformats.org/drawingml/2006/table">
            <a:tbl>
              <a:tblPr/>
              <a:tblGrid>
                <a:gridCol w="4329000"/>
                <a:gridCol w="441360"/>
                <a:gridCol w="525600"/>
                <a:gridCol w="1282680"/>
                <a:gridCol w="12826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му страхованию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я по социальной помощи населе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ые пособия, выплачиваемые организациями сектора государственного 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мортизация основных средств и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ова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резвычайные расходы по операциям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88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72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стр291 –сьр.2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4 7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8636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онный результат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 налогооблож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стр.010 – стр. 15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198 8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26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лог на прибы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08000" y="4543560"/>
          <a:ext cx="8856720" cy="1100160"/>
        </p:xfrm>
        <a:graphic>
          <a:graphicData uri="http://schemas.openxmlformats.org/drawingml/2006/table">
            <a:tbl>
              <a:tblPr/>
              <a:tblGrid>
                <a:gridCol w="4403520"/>
                <a:gridCol w="355680"/>
                <a:gridCol w="496800"/>
                <a:gridCol w="1163880"/>
                <a:gridCol w="1252440"/>
                <a:gridCol w="11844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249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06200" y="5670720"/>
          <a:ext cx="8872560" cy="1116000"/>
        </p:xfrm>
        <a:graphic>
          <a:graphicData uri="http://schemas.openxmlformats.org/drawingml/2006/table">
            <a:tbl>
              <a:tblPr/>
              <a:tblGrid>
                <a:gridCol w="4249800"/>
                <a:gridCol w="503280"/>
                <a:gridCol w="504720"/>
                <a:gridCol w="1167120"/>
                <a:gridCol w="1250640"/>
                <a:gridCol w="11970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97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8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38" name="Rectangle 195"/>
          <p:cNvSpPr/>
          <p:nvPr/>
        </p:nvSpPr>
        <p:spPr>
          <a:xfrm>
            <a:off x="71280" y="4784400"/>
            <a:ext cx="8964720" cy="508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b601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Arial Cyr"/>
              </a:rPr>
              <a:t>Чистый операционный результат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0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 291)</a:t>
            </a:r>
            <a:r>
              <a:rPr b="1" lang="ru-RU" sz="16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29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4CE9-37A5-4347-BE49-EDC53479CEC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200" y="220680"/>
          <a:ext cx="8964720" cy="4894200"/>
        </p:xfrm>
        <a:graphic>
          <a:graphicData uri="http://schemas.openxmlformats.org/drawingml/2006/table">
            <a:tbl>
              <a:tblPr/>
              <a:tblGrid>
                <a:gridCol w="4246560"/>
                <a:gridCol w="430200"/>
                <a:gridCol w="511200"/>
                <a:gridCol w="1262160"/>
                <a:gridCol w="1254240"/>
                <a:gridCol w="126036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9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337"/>
          <p:cNvSpPr/>
          <p:nvPr/>
        </p:nvSpPr>
        <p:spPr>
          <a:xfrm>
            <a:off x="106200" y="4660920"/>
            <a:ext cx="8964720" cy="2274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2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 0101 + сч. 010601  + сч. 010701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2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0101 + сч. 0104 + сч. 010601 + сч. 0107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3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 сч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 10602 + 10702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33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=  сч.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104 +  сч.10602 + сч. 10702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5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+ сч.0106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010703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. 3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 сч. 0105 + сч.010604 + сч. 01070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38"/>
          <p:cNvSpPr/>
          <p:nvPr/>
        </p:nvSpPr>
        <p:spPr>
          <a:xfrm>
            <a:off x="365040" y="220680"/>
            <a:ext cx="7921800" cy="569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9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ока 290 «Чистый операционный результат»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10 + стр.390 – стр.510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10 +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тр.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39"/>
          <p:cNvSpPr/>
          <p:nvPr/>
        </p:nvSpPr>
        <p:spPr>
          <a:xfrm>
            <a:off x="5075280" y="120204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2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0"/>
          <p:cNvSpPr/>
          <p:nvPr/>
        </p:nvSpPr>
        <p:spPr>
          <a:xfrm>
            <a:off x="4930920" y="914400"/>
            <a:ext cx="381780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Стр. 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310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: =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+ стр.3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0+c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.350+стр.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3"/>
          <p:cNvSpPr/>
          <p:nvPr/>
        </p:nvSpPr>
        <p:spPr>
          <a:xfrm>
            <a:off x="5435640" y="206712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44"/>
          <p:cNvSpPr/>
          <p:nvPr/>
        </p:nvSpPr>
        <p:spPr>
          <a:xfrm>
            <a:off x="5435640" y="293076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5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45"/>
          <p:cNvSpPr/>
          <p:nvPr/>
        </p:nvSpPr>
        <p:spPr>
          <a:xfrm>
            <a:off x="5506920" y="3865680"/>
            <a:ext cx="2952720" cy="204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    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Строка 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i="1" lang="en-US" sz="1200" spc="-1" strike="noStrike">
                <a:solidFill>
                  <a:srgbClr val="ff0000"/>
                </a:solidFill>
                <a:latin typeface="Arial Cyr"/>
              </a:rPr>
              <a:t>0</a:t>
            </a:r>
            <a:r>
              <a:rPr b="1" i="1" lang="ru-RU" sz="1200" spc="-1" strike="noStrike">
                <a:solidFill>
                  <a:srgbClr val="ff0000"/>
                </a:solidFill>
                <a:latin typeface="Arial Cyr"/>
              </a:rPr>
              <a:t> : =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1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– стр.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3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6</a:t>
            </a:r>
            <a:r>
              <a:rPr b="1" lang="en-US" sz="1200" spc="-1" strike="noStrike">
                <a:solidFill>
                  <a:srgbClr val="ff0000"/>
                </a:solidFill>
                <a:latin typeface="Arial Cyr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3CD6-8E1B-48F2-A1AA-829B0451F43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9280" y="44280"/>
          <a:ext cx="8832960" cy="2017800"/>
        </p:xfrm>
        <a:graphic>
          <a:graphicData uri="http://schemas.openxmlformats.org/drawingml/2006/table">
            <a:tbl>
              <a:tblPr/>
              <a:tblGrid>
                <a:gridCol w="4183200"/>
                <a:gridCol w="423720"/>
                <a:gridCol w="506520"/>
                <a:gridCol w="1241280"/>
                <a:gridCol w="1238400"/>
                <a:gridCol w="12398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48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656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0760" y="2654280"/>
          <a:ext cx="8913960" cy="4173480"/>
        </p:xfrm>
        <a:graphic>
          <a:graphicData uri="http://schemas.openxmlformats.org/drawingml/2006/table">
            <a:tbl>
              <a:tblPr/>
              <a:tblGrid>
                <a:gridCol w="849240"/>
                <a:gridCol w="741600"/>
                <a:gridCol w="760320"/>
                <a:gridCol w="762120"/>
                <a:gridCol w="760320"/>
                <a:gridCol w="762120"/>
                <a:gridCol w="763560"/>
                <a:gridCol w="760320"/>
                <a:gridCol w="762120"/>
                <a:gridCol w="760320"/>
                <a:gridCol w="871560"/>
                <a:gridCol w="360360"/>
              </a:tblGrid>
              <a:tr h="309960"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96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 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3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9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7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106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896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2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4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405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2880"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01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0" bIns="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51" name="Oval 386"/>
          <p:cNvSpPr/>
          <p:nvPr/>
        </p:nvSpPr>
        <p:spPr>
          <a:xfrm>
            <a:off x="5580000" y="2637000"/>
            <a:ext cx="1371600" cy="38088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93"/>
          <p:cNvSpPr/>
          <p:nvPr/>
        </p:nvSpPr>
        <p:spPr>
          <a:xfrm>
            <a:off x="1206360" y="389880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94"/>
          <p:cNvSpPr/>
          <p:nvPr/>
        </p:nvSpPr>
        <p:spPr>
          <a:xfrm>
            <a:off x="1206360" y="4406760"/>
            <a:ext cx="6248520" cy="0"/>
          </a:xfrm>
          <a:prstGeom prst="line">
            <a:avLst/>
          </a:prstGeom>
          <a:ln w="1260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10"/>
          <p:cNvSpPr/>
          <p:nvPr/>
        </p:nvSpPr>
        <p:spPr>
          <a:xfrm>
            <a:off x="1187280" y="4076640"/>
            <a:ext cx="7010640" cy="0"/>
          </a:xfrm>
          <a:prstGeom prst="line">
            <a:avLst/>
          </a:prstGeom>
          <a:ln w="19080">
            <a:solidFill>
              <a:srgbClr val="9933ff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24"/>
          <p:cNvSpPr/>
          <p:nvPr/>
        </p:nvSpPr>
        <p:spPr>
          <a:xfrm>
            <a:off x="5580000" y="5805360"/>
            <a:ext cx="685800" cy="28764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26"/>
          <p:cNvSpPr/>
          <p:nvPr/>
        </p:nvSpPr>
        <p:spPr>
          <a:xfrm>
            <a:off x="3924360" y="5400720"/>
            <a:ext cx="1828800" cy="32652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30"/>
          <p:cNvSpPr/>
          <p:nvPr/>
        </p:nvSpPr>
        <p:spPr>
          <a:xfrm>
            <a:off x="395280" y="2111040"/>
            <a:ext cx="769608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основных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величение стоимости ОС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2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Уменьшение стоимости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32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5407-948A-47FF-A329-B9A40D1C633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2920" y="442800"/>
          <a:ext cx="8929800" cy="662940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1200"/>
                <a:gridCol w="1255680"/>
                <a:gridCol w="1424160"/>
                <a:gridCol w="1081080"/>
              </a:tblGrid>
              <a:tr h="9417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 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9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основ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1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6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 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епроизведен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60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0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36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стоимости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3 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Rectangle 161"/>
          <p:cNvSpPr/>
          <p:nvPr/>
        </p:nvSpPr>
        <p:spPr>
          <a:xfrm>
            <a:off x="1044720" y="76680"/>
            <a:ext cx="7619760" cy="24948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Аналогично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 заносится информация по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м 330 – 3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CD3B-D33B-4F91-BA6A-6EC8F7B294A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4920" y="-819000"/>
          <a:ext cx="9036000" cy="7611840"/>
        </p:xfrm>
        <a:graphic>
          <a:graphicData uri="http://schemas.openxmlformats.org/drawingml/2006/table">
            <a:tbl>
              <a:tblPr/>
              <a:tblGrid>
                <a:gridCol w="4319640"/>
                <a:gridCol w="407880"/>
                <a:gridCol w="457200"/>
                <a:gridCol w="135000"/>
                <a:gridCol w="1195560"/>
                <a:gridCol w="1099800"/>
                <a:gridCol w="142092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=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тр.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 Стр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  410 +420 +440 + 460 +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 +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21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020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030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020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4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401Депоз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 бюджетных ссуд, бюджет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0205, 0206, 0208, 0209, 221001, 021003, 021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7A53-E2C6-4CA1-883D-7EFD16FAF20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99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115920"/>
          <a:ext cx="8929800" cy="215568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69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922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470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-36360" y="4176720"/>
          <a:ext cx="9144000" cy="1990800"/>
        </p:xfrm>
        <a:graphic>
          <a:graphicData uri="http://schemas.openxmlformats.org/drawingml/2006/table">
            <a:tbl>
              <a:tblPr/>
              <a:tblGrid>
                <a:gridCol w="900000"/>
                <a:gridCol w="669960"/>
                <a:gridCol w="788760"/>
                <a:gridCol w="784440"/>
                <a:gridCol w="788760"/>
                <a:gridCol w="787680"/>
                <a:gridCol w="787320"/>
                <a:gridCol w="789120"/>
                <a:gridCol w="787320"/>
                <a:gridCol w="796680"/>
                <a:gridCol w="866880"/>
                <a:gridCol w="39708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104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8 6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8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40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 8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2 84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Line 379"/>
          <p:cNvSpPr/>
          <p:nvPr/>
        </p:nvSpPr>
        <p:spPr>
          <a:xfrm>
            <a:off x="1206360" y="5092560"/>
            <a:ext cx="6172200" cy="0"/>
          </a:xfrm>
          <a:prstGeom prst="line">
            <a:avLst/>
          </a:prstGeom>
          <a:ln w="19080">
            <a:solidFill>
              <a:srgbClr val="4880dc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81"/>
          <p:cNvSpPr/>
          <p:nvPr/>
        </p:nvSpPr>
        <p:spPr>
          <a:xfrm>
            <a:off x="407880" y="296100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)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+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40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82"/>
          <p:cNvSpPr/>
          <p:nvPr/>
        </p:nvSpPr>
        <p:spPr>
          <a:xfrm>
            <a:off x="368280" y="3608640"/>
            <a:ext cx="7620120" cy="46260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020100000 (</a:t>
            </a:r>
            <a:r>
              <a:rPr b="1" lang="ru-RU" sz="1400" spc="-1" strike="noStrike">
                <a:solidFill>
                  <a:srgbClr val="000000"/>
                </a:solidFill>
                <a:latin typeface="Arial Cyr"/>
              </a:rPr>
              <a:t>кроме 020102000</a:t>
            </a:r>
            <a:r>
              <a:rPr b="1" lang="ru-RU" sz="1400" spc="-1" strike="noStrike">
                <a:solidFill>
                  <a:srgbClr val="4880dc"/>
                </a:solidFill>
                <a:latin typeface="Arial Cyr"/>
              </a:rPr>
              <a:t>)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+ 02040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89"/>
          <p:cNvSpPr/>
          <p:nvPr/>
        </p:nvSpPr>
        <p:spPr>
          <a:xfrm>
            <a:off x="5651640" y="5805360"/>
            <a:ext cx="76176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91"/>
          <p:cNvSpPr/>
          <p:nvPr/>
        </p:nvSpPr>
        <p:spPr>
          <a:xfrm>
            <a:off x="4863960" y="6275520"/>
            <a:ext cx="2032200" cy="3870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Сумма берется со знаком «мину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3"/>
          <p:cNvSpPr/>
          <p:nvPr/>
        </p:nvSpPr>
        <p:spPr>
          <a:xfrm>
            <a:off x="520560" y="2398320"/>
            <a:ext cx="7696440" cy="448200"/>
          </a:xfrm>
          <a:prstGeom prst="rect">
            <a:avLst/>
          </a:prstGeom>
          <a:solidFill>
            <a:srgbClr val="99ffcc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 Cyr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 Cyr"/>
              </a:rPr>
              <a:t>41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99"/>
          <p:cNvSpPr/>
          <p:nvPr/>
        </p:nvSpPr>
        <p:spPr>
          <a:xfrm flipV="1">
            <a:off x="9109080" y="1413000"/>
            <a:ext cx="0" cy="57600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3768-8E5C-40D3-81E6-C4D65FA0CD2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41"/>
          <p:cNvSpPr/>
          <p:nvPr/>
        </p:nvSpPr>
        <p:spPr>
          <a:xfrm>
            <a:off x="8478720" y="646632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79280" y="115920"/>
          <a:ext cx="8929800" cy="2052720"/>
        </p:xfrm>
        <a:graphic>
          <a:graphicData uri="http://schemas.openxmlformats.org/drawingml/2006/table">
            <a:tbl>
              <a:tblPr/>
              <a:tblGrid>
                <a:gridCol w="4229280"/>
                <a:gridCol w="428400"/>
                <a:gridCol w="513000"/>
                <a:gridCol w="1252440"/>
                <a:gridCol w="1254240"/>
                <a:gridCol w="1252440"/>
              </a:tblGrid>
              <a:tr h="6555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869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9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810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2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06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28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79280" y="3932280"/>
          <a:ext cx="8929800" cy="2935080"/>
        </p:xfrm>
        <a:graphic>
          <a:graphicData uri="http://schemas.openxmlformats.org/drawingml/2006/table">
            <a:tbl>
              <a:tblPr/>
              <a:tblGrid>
                <a:gridCol w="863640"/>
                <a:gridCol w="669960"/>
                <a:gridCol w="770040"/>
                <a:gridCol w="765000"/>
                <a:gridCol w="771480"/>
                <a:gridCol w="770040"/>
                <a:gridCol w="768240"/>
                <a:gridCol w="770040"/>
                <a:gridCol w="768240"/>
                <a:gridCol w="779760"/>
                <a:gridCol w="846000"/>
                <a:gridCol w="387360"/>
              </a:tblGrid>
              <a:tr h="34596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3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 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6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84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8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5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Text Box 457"/>
          <p:cNvSpPr/>
          <p:nvPr/>
        </p:nvSpPr>
        <p:spPr>
          <a:xfrm>
            <a:off x="5796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 Cyr"/>
              </a:rPr>
              <a:t>892 2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458"/>
          <p:cNvSpPr/>
          <p:nvPr/>
        </p:nvSpPr>
        <p:spPr>
          <a:xfrm>
            <a:off x="5580000" y="3860640"/>
            <a:ext cx="1371600" cy="457200"/>
          </a:xfrm>
          <a:prstGeom prst="ellipse">
            <a:avLst/>
          </a:prstGeom>
          <a:noFill/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60"/>
          <p:cNvSpPr/>
          <p:nvPr/>
        </p:nvSpPr>
        <p:spPr>
          <a:xfrm>
            <a:off x="552600" y="2786400"/>
            <a:ext cx="76197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1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5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2100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61"/>
          <p:cNvSpPr/>
          <p:nvPr/>
        </p:nvSpPr>
        <p:spPr>
          <a:xfrm>
            <a:off x="466560" y="3351600"/>
            <a:ext cx="762012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412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по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СГУ 61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=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020100000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+ 020431000 + 03040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65"/>
          <p:cNvSpPr/>
          <p:nvPr/>
        </p:nvSpPr>
        <p:spPr>
          <a:xfrm>
            <a:off x="592200" y="2253960"/>
            <a:ext cx="769608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Чистое поступление средств на счета бюджета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0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Поступлен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411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Выбытия средств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12)</a:t>
            </a:r>
            <a:r>
              <a:rPr b="1" lang="ru-RU" sz="1400" spc="-1" strike="noStrike">
                <a:solidFill>
                  <a:srgbClr val="9900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67"/>
          <p:cNvSpPr/>
          <p:nvPr/>
        </p:nvSpPr>
        <p:spPr>
          <a:xfrm>
            <a:off x="7020000" y="1968480"/>
            <a:ext cx="79200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47 0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70"/>
          <p:cNvSpPr/>
          <p:nvPr/>
        </p:nvSpPr>
        <p:spPr>
          <a:xfrm>
            <a:off x="8099280" y="1968480"/>
            <a:ext cx="792360" cy="164520"/>
          </a:xfrm>
          <a:prstGeom prst="rect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939 2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71"/>
          <p:cNvSpPr/>
          <p:nvPr/>
        </p:nvSpPr>
        <p:spPr>
          <a:xfrm flipV="1">
            <a:off x="9180360" y="1483920"/>
            <a:ext cx="0" cy="576360"/>
          </a:xfrm>
          <a:prstGeom prst="line">
            <a:avLst/>
          </a:prstGeom>
          <a:ln cap="rnd" w="31680">
            <a:solidFill>
              <a:srgbClr val="003366"/>
            </a:solidFill>
            <a:custDash>
              <a:ds d="100000" sp="1000"/>
            </a:custDash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DA38-3BE9-4212-BC29-51DA05521D8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4920" y="-747720"/>
          <a:ext cx="9144000" cy="7738920"/>
        </p:xfrm>
        <a:graphic>
          <a:graphicData uri="http://schemas.openxmlformats.org/drawingml/2006/table">
            <a:tbl>
              <a:tblPr/>
              <a:tblGrid>
                <a:gridCol w="4330800"/>
                <a:gridCol w="438120"/>
                <a:gridCol w="525240"/>
                <a:gridCol w="1282680"/>
                <a:gridCol w="1284480"/>
                <a:gridCol w="1282680"/>
              </a:tblGrid>
              <a:tr h="6555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- 8547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6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13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869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9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средств на счета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 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бытия со счетов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2 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0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ценных бумаг, кром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стоимости акций и иных форм участия в капит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оставл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ашение бюджетных ссуд, бюджетных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депозитов, иных финансов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дебиторской задолженности (кроме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ых ссуд, бюджетных кредит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дебиторской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6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BB7D-A188-4F6D-9389-D9E444E92DD5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0440" y="228600"/>
          <a:ext cx="8774280" cy="6442200"/>
        </p:xfrm>
        <a:graphic>
          <a:graphicData uri="http://schemas.openxmlformats.org/drawingml/2006/table">
            <a:tbl>
              <a:tblPr/>
              <a:tblGrid>
                <a:gridCol w="4156200"/>
                <a:gridCol w="420480"/>
                <a:gridCol w="503280"/>
                <a:gridCol w="1231920"/>
                <a:gridCol w="1309680"/>
                <a:gridCol w="11527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= стр.520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стр. 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 стр. 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ч. 030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ч. 0302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303, 03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.030401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4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AF6C-958C-4962-AC05-405BD014801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60A1-A7CC-4DA0-8D86-E6ED13752CA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6360" y="476280"/>
            <a:ext cx="9144000" cy="648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Принцип заполнения строк остался преж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Отдельные изме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заполнении  строки 040 графы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сумма начисленных доходо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ражаются за минусом НД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5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Суммы принудительного изъятия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61 – 063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оступления от бюджет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08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Взносы на социальные нужды»,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31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Безвозмездные перечисления другим бюджетам бюджетной системы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» не заполня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 092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реализации активов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стр.1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Прочие доходы» отражаются по данным соответственн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ов 2 401 10 172 и 2 401 10 180, увеличенные на сумму начисленного  за счет этих доходов налога на прибы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фа 5 строки 110 «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Доходы будущих периодов» отражается разница между кредитовым и дебетовым оборотом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 2 401 4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будущих периодов от рыночных  продаж  готовой продукции, работ, услуг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ожившихся за отчетный период.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ри заполнени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рок 160 – 280 в графе 5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по приносящей доход деятельност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анные отражаются с учетом дебетового оборота счета 2 401 10 13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Доходы от платных услуг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44280"/>
            <a:ext cx="9144000" cy="4064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9153b"/>
                </a:solidFill>
                <a:latin typeface="Arial"/>
              </a:rPr>
              <a:t>Отчет  (форма 0503121). Основные изме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58B7-74A2-4EEF-BEC2-B9C7F86CA4E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4920" y="44280"/>
          <a:ext cx="8929800" cy="4137120"/>
        </p:xfrm>
        <a:graphic>
          <a:graphicData uri="http://schemas.openxmlformats.org/drawingml/2006/table">
            <a:tbl>
              <a:tblPr/>
              <a:tblGrid>
                <a:gridCol w="4229280"/>
                <a:gridCol w="668160"/>
                <a:gridCol w="576360"/>
                <a:gridCol w="1295280"/>
                <a:gridCol w="1268280"/>
                <a:gridCol w="892440"/>
              </a:tblGrid>
              <a:tr h="1071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17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544 9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9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33 7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6 1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01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878 7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6 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197"/>
          <p:cNvSpPr/>
          <p:nvPr/>
        </p:nvSpPr>
        <p:spPr>
          <a:xfrm>
            <a:off x="0" y="4011480"/>
            <a:ext cx="434808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1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7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99"/>
          <p:cNvSpPr/>
          <p:nvPr/>
        </p:nvSpPr>
        <p:spPr>
          <a:xfrm>
            <a:off x="4643280" y="4011480"/>
            <a:ext cx="4168800" cy="85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Строка 542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по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КОСГУ 83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=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2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030300000</a:t>
            </a:r>
            <a:r>
              <a:rPr b="1" lang="ru-RU" sz="1800" spc="-1" strike="noStrike">
                <a:solidFill>
                  <a:srgbClr val="4880dc"/>
                </a:solidFill>
                <a:latin typeface="Arial Cyr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 Cyr"/>
              </a:rPr>
              <a:t>+ </a:t>
            </a:r>
            <a:r>
              <a:rPr b="1" lang="ru-RU" sz="1800" spc="-1" strike="noStrike">
                <a:solidFill>
                  <a:srgbClr val="ff0000"/>
                </a:solidFill>
                <a:latin typeface="Arial Cyr"/>
              </a:rPr>
              <a:t>30400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Cyr"/>
              </a:rPr>
              <a:t>(кроме 030401000, 030405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6A19-FD6B-43FD-A7BD-7AB33A08930E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476280"/>
          <a:ext cx="8929800" cy="5691240"/>
        </p:xfrm>
        <a:graphic>
          <a:graphicData uri="http://schemas.openxmlformats.org/drawingml/2006/table">
            <a:tbl>
              <a:tblPr/>
              <a:tblGrid>
                <a:gridCol w="4228920"/>
                <a:gridCol w="428760"/>
                <a:gridCol w="512640"/>
                <a:gridCol w="1252800"/>
                <a:gridCol w="1253880"/>
                <a:gridCol w="125280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утрен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4880dc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16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задолженности по внешним долговым обязательств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Чистое увеличение кредиторской задолженности (кроме внутреннего и внешнего долга, обязательс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велич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333 7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16 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меньшение прочей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878 7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 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1D6A-BA2F-4BCE-92BF-D5AF362A748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06200" y="44280"/>
          <a:ext cx="8929800" cy="19926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52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309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3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854 7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 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перации с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544 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8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70"/>
          <p:cNvSpPr/>
          <p:nvPr/>
        </p:nvSpPr>
        <p:spPr>
          <a:xfrm>
            <a:off x="260280" y="149040"/>
            <a:ext cx="7732800" cy="44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Arial"/>
              </a:rPr>
              <a:t>Операции с финансовыми активами и обязательствами</a:t>
            </a:r>
            <a:r>
              <a:rPr b="1" lang="ru-RU" sz="12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80) 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90) – (строка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510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6200" y="4076640"/>
          <a:ext cx="8929800" cy="130500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1200"/>
                <a:gridCol w="1255680"/>
                <a:gridCol w="1250640"/>
                <a:gridCol w="1254240"/>
              </a:tblGrid>
              <a:tr h="796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4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1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106200" y="5373720"/>
          <a:ext cx="8929800" cy="1485720"/>
        </p:xfrm>
        <a:graphic>
          <a:graphicData uri="http://schemas.openxmlformats.org/drawingml/2006/table">
            <a:tbl>
              <a:tblPr/>
              <a:tblGrid>
                <a:gridCol w="4229280"/>
                <a:gridCol w="428760"/>
                <a:gridCol w="512640"/>
                <a:gridCol w="1252440"/>
                <a:gridCol w="1254240"/>
                <a:gridCol w="1252440"/>
              </a:tblGrid>
              <a:tr h="79704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небюджет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380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Операции с финансовыми активами и обязательств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309 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3 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93600" y="3716280"/>
          <a:ext cx="8942400" cy="274680"/>
        </p:xfrm>
        <a:graphic>
          <a:graphicData uri="http://schemas.openxmlformats.org/drawingml/2006/table">
            <a:tbl>
              <a:tblPr/>
              <a:tblGrid>
                <a:gridCol w="4233960"/>
                <a:gridCol w="430200"/>
                <a:gridCol w="514440"/>
                <a:gridCol w="1253880"/>
                <a:gridCol w="1255680"/>
                <a:gridCol w="1254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198 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4 7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159"/>
          <p:cNvSpPr/>
          <p:nvPr/>
        </p:nvSpPr>
        <p:spPr>
          <a:xfrm>
            <a:off x="900000" y="257040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310) + (строка 3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- (строка 510) 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0"/>
          <p:cNvSpPr/>
          <p:nvPr/>
        </p:nvSpPr>
        <p:spPr>
          <a:xfrm>
            <a:off x="934920" y="314676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4880dc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трока 310) + (строка 38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 29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1"/>
          <p:cNvSpPr/>
          <p:nvPr/>
        </p:nvSpPr>
        <p:spPr>
          <a:xfrm>
            <a:off x="934920" y="2065680"/>
            <a:ext cx="7608960" cy="46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Контрольное соотношение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1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)  - (строка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92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= (строка 290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1DB1-1169-4BA8-9E93-C858C67B510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EC4D-C58D-4337-8F08-0864D785460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6360" y="-27000"/>
            <a:ext cx="9144000" cy="52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ы расходов, сформировавших себестоимость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выполненных работ, оказанных услуг на основании данных аналитического учета в разрезе соответствующих КОСГУ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счету 2 106 34 440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«Уменьшение вложений в материальные запасы – иное движимое имущество учреждения»,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6 44 440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«Уменьшение вложений в материальные запасы – предметы лизинг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buClr>
                <a:srgbClr val="28497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мма стоимости </a:t>
            </a:r>
            <a:r>
              <a:rPr b="1" lang="ru-RU" sz="2000" spc="-1" strike="noStrike">
                <a:solidFill>
                  <a:srgbClr val="28497a"/>
                </a:solidFill>
                <a:latin typeface="Arial"/>
              </a:rPr>
              <a:t>реализованной готовой продукции по счетам: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1 440, 2 105 32 440, 2 105 33 440, 2 105 34 440, 2 105 35 44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 105 36 440, 2 105 37 440, 2 105 38 440, 2 105 44 440, 2 105 46 44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Уменьшение стоимости прочих  материальных запасов  - предметов лизинга»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части переданной заказчику готовой продукции (по статье 272 КОСГ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) Суммы  расходов,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связанных с реализацией готовой продукции по данным соответствующих счетов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чета  2  401 20 200 </a:t>
            </a:r>
            <a:r>
              <a:rPr b="1" lang="ru-RU" sz="2000" spc="-1" strike="noStrike">
                <a:solidFill>
                  <a:srgbClr val="14253d"/>
                </a:solidFill>
                <a:latin typeface="Arial"/>
              </a:rPr>
              <a:t>«Расходы учрежд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54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0991-A6B4-45FA-B02F-4BEEA506621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228600" y="11430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08000" y="176760"/>
            <a:ext cx="8964720" cy="1169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чет о финансовых результатах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ф. 050312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50920" y="1557360"/>
            <a:ext cx="8762760" cy="5580360"/>
          </a:xfrm>
          <a:prstGeom prst="rect">
            <a:avLst/>
          </a:prstGeom>
          <a:gradFill rotWithShape="0">
            <a:gsLst>
              <a:gs pos="0">
                <a:srgbClr val="3cc44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чет по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КОС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наименования показа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строк отч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одятся коды Классификации операций сектора государственного упр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Бюджетная деятельность» отражаются показатели финансового результата по операциям в рамках исполнения соответствующего бюдже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иносящая доход деятельность» отражаются показатели финансового результата деятельности в рамках предпринимательской и иной приносящей доход деятель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редства во временном распоряже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92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е 7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того» по всем строкам отражается сумма показателей по графам 4,5 и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6A81-2707-48DE-AFD5-A67B812D0E3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7"/>
          <p:cNvSpPr/>
          <p:nvPr/>
        </p:nvSpPr>
        <p:spPr>
          <a:xfrm>
            <a:off x="8478720" y="6465600"/>
            <a:ext cx="588960" cy="43380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Cyr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609480" y="457200"/>
            <a:ext cx="8305920" cy="1739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Чистый операционный результат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, как по бюджетным средствам, так и по внебюджетным средства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ражается, как сумма изменения финансового результата за отчетный период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и формиру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539640" y="3357720"/>
            <a:ext cx="331308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Чистый операционный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4788000" y="4331520"/>
            <a:ext cx="410508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нефинансовыми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плюс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операции с </a:t>
            </a:r>
            <a:r>
              <a:rPr b="1" lang="ru-RU" sz="1600" spc="-1" strike="noStrike">
                <a:solidFill>
                  <a:srgbClr val="000000"/>
                </a:solidFill>
                <a:latin typeface="Arial Cyr"/>
              </a:rPr>
              <a:t>финансовыми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 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активами  </a:t>
            </a:r>
            <a:r>
              <a:rPr b="1" lang="ru-RU" sz="1600" spc="-1" strike="noStrike">
                <a:solidFill>
                  <a:srgbClr val="ff0000"/>
                </a:solidFill>
                <a:latin typeface="Arial Cyr"/>
              </a:rPr>
              <a:t>минус</a:t>
            </a:r>
            <a:r>
              <a:rPr b="1" lang="ru-RU" sz="1600" spc="-1" strike="noStrike">
                <a:solidFill>
                  <a:srgbClr val="cc3300"/>
                </a:solidFill>
                <a:latin typeface="Arial Cyr"/>
              </a:rPr>
              <a:t> операции с </a:t>
            </a:r>
            <a:r>
              <a:rPr b="1" lang="ru-RU" sz="1600" spc="-1" strike="noStrike">
                <a:solidFill>
                  <a:srgbClr val="28497a"/>
                </a:solidFill>
                <a:latin typeface="Arial Cyr"/>
              </a:rPr>
              <a:t>обязатель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012000" y="3716280"/>
            <a:ext cx="143964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3"/>
          <p:cNvSpPr/>
          <p:nvPr/>
        </p:nvSpPr>
        <p:spPr>
          <a:xfrm rot="213000">
            <a:off x="3492000" y="5084280"/>
            <a:ext cx="1657440" cy="1381320"/>
          </a:xfrm>
          <a:custGeom>
            <a:avLst/>
            <a:gdLst>
              <a:gd name="textAreaLeft" fmla="*/ 289800 w 1657440"/>
              <a:gd name="textAreaRight" fmla="*/ 1201680 w 1657440"/>
              <a:gd name="textAreaTop" fmla="*/ 185040 h 1381320"/>
              <a:gd name="textAreaBottom" fmla="*/ 1196280 h 138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4"/>
          <p:cNvSpPr/>
          <p:nvPr/>
        </p:nvSpPr>
        <p:spPr>
          <a:xfrm>
            <a:off x="3564000" y="2349360"/>
            <a:ext cx="1584360" cy="102096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136800 h 1020960"/>
              <a:gd name="textAreaBottom" fmla="*/ 884160 h 1020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df808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5"/>
          <p:cNvSpPr/>
          <p:nvPr/>
        </p:nvSpPr>
        <p:spPr>
          <a:xfrm>
            <a:off x="5364000" y="2658240"/>
            <a:ext cx="3313440" cy="91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"/>
              </a:rPr>
              <a:t>Операционный доход до налогообложения минус налог на прибы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AB7C-D4ED-449D-A5DD-354F0551B17C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9144000" cy="7024680"/>
        </p:xfrm>
        <a:graphic>
          <a:graphicData uri="http://schemas.openxmlformats.org/drawingml/2006/table">
            <a:tbl>
              <a:tblPr/>
              <a:tblGrid>
                <a:gridCol w="4195080"/>
                <a:gridCol w="338040"/>
                <a:gridCol w="473040"/>
                <a:gridCol w="1084320"/>
                <a:gridCol w="811080"/>
                <a:gridCol w="72000"/>
                <a:gridCol w="303120"/>
                <a:gridCol w="455400"/>
                <a:gridCol w="706680"/>
                <a:gridCol w="705240"/>
              </a:tblGrid>
              <a:tr h="25848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</a:rPr>
                        <a:t>ОТЧЕТ О ФИНАНСОВЫХ РЕЗУЛЬТАТАХ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eb1d0d"/>
                          </a:solidFill>
                          <a:latin typeface="Arial"/>
                          <a:ea typeface="Times New Roman"/>
                        </a:rPr>
                        <a:t>0503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22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1 _______января________ 2012_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5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чреждение (главный распорядитель (распорядитель), получатель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4200">
                <a:tc gridSpan="8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иодичность: 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 gridSpan="6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ОКЕ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88640">
                <a:tc gridSpan="9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62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поряж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13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5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Чистый операционный результа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не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основных средст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и с финансовыми активами и обязательства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3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финансовыми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стое поступление средств на счета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52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282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перации с обязательст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ое увеличение задолженности по внутренним долговым обязательств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9484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………………………………………………………………………………………………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3" name="Line 225"/>
          <p:cNvSpPr/>
          <p:nvPr/>
        </p:nvSpPr>
        <p:spPr>
          <a:xfrm>
            <a:off x="9907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6"/>
          <p:cNvSpPr/>
          <p:nvPr/>
        </p:nvSpPr>
        <p:spPr>
          <a:xfrm>
            <a:off x="14479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7"/>
          <p:cNvSpPr/>
          <p:nvPr/>
        </p:nvSpPr>
        <p:spPr>
          <a:xfrm>
            <a:off x="19051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28"/>
          <p:cNvSpPr/>
          <p:nvPr/>
        </p:nvSpPr>
        <p:spPr>
          <a:xfrm>
            <a:off x="2362320" y="1424160"/>
            <a:ext cx="380880" cy="0"/>
          </a:xfrm>
          <a:prstGeom prst="line">
            <a:avLst/>
          </a:prstGeom>
          <a:ln w="28440">
            <a:solidFill>
              <a:srgbClr val="4880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843E-8526-4978-BB88-B3839E79566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4240" y="87480"/>
          <a:ext cx="8977320" cy="430020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152360"/>
                <a:gridCol w="129708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19" name="Rectangle 233"/>
          <p:cNvSpPr/>
          <p:nvPr/>
        </p:nvSpPr>
        <p:spPr>
          <a:xfrm>
            <a:off x="71280" y="4373280"/>
            <a:ext cx="6372360" cy="41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ока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i="1" lang="ru-RU" sz="1400" spc="-1" strike="noStrike" u="sng">
                <a:solidFill>
                  <a:srgbClr val="ff0000"/>
                </a:solidFill>
                <a:uFillTx/>
                <a:latin typeface="Arial Cyr"/>
              </a:rPr>
              <a:t>010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 Cyr"/>
              </a:rPr>
              <a:t> (Доходы)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 =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.02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30+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4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5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6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8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09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00+</a:t>
            </a:r>
            <a:r>
              <a:rPr b="1" lang="ru-RU" sz="1200" spc="-1" strike="noStrike">
                <a:solidFill>
                  <a:srgbClr val="000000"/>
                </a:solidFill>
                <a:latin typeface="Arial Cyr"/>
              </a:rPr>
              <a:t>стр</a:t>
            </a:r>
            <a:r>
              <a:rPr b="1" lang="ru-RU" sz="1200" spc="-1" strike="noStrike">
                <a:solidFill>
                  <a:srgbClr val="9900cc"/>
                </a:solidFill>
                <a:latin typeface="Arial Cyr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 Cyr"/>
              </a:rPr>
              <a:t>1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2E23-5F45-4016-921B-D24A2355C80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8680" y="22320"/>
          <a:ext cx="8977320" cy="383544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503280"/>
                <a:gridCol w="1297080"/>
                <a:gridCol w="1152360"/>
                <a:gridCol w="120024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-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ОСГ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854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 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ыночных продаж товаров, работ,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38196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оступления от бюдж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5644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упления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операций с актив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4096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переоценк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от реализации актив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54880">
                <a:tc>
                  <a:txBody>
                    <a:bodyPr lIns="18000" rIns="18000" tIns="36000" bIns="36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будущих пери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18000" tIns="36000" bIns="36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2" name="Oval 448"/>
          <p:cNvSpPr/>
          <p:nvPr/>
        </p:nvSpPr>
        <p:spPr>
          <a:xfrm>
            <a:off x="8483760" y="6541200"/>
            <a:ext cx="588960" cy="326160"/>
          </a:xfrm>
          <a:prstGeom prst="ellipse">
            <a:avLst/>
          </a:prstGeom>
          <a:gradFill rotWithShape="0">
            <a:gsLst>
              <a:gs pos="0">
                <a:srgbClr val="faa906"/>
              </a:gs>
              <a:gs pos="50000">
                <a:srgbClr val="ffffff"/>
              </a:gs>
              <a:gs pos="100000">
                <a:srgbClr val="faa906"/>
              </a:gs>
            </a:gsLst>
            <a:lin ang="5400000"/>
          </a:gra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900" spc="-1" strike="noStrike">
                <a:solidFill>
                  <a:srgbClr val="9900cc"/>
                </a:solidFill>
                <a:latin typeface="Arial Cyr"/>
              </a:rPr>
              <a:t>6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16000" y="5062680"/>
          <a:ext cx="8928000" cy="1795320"/>
        </p:xfrm>
        <a:graphic>
          <a:graphicData uri="http://schemas.openxmlformats.org/drawingml/2006/table">
            <a:tbl>
              <a:tblPr/>
              <a:tblGrid>
                <a:gridCol w="828720"/>
                <a:gridCol w="761760"/>
                <a:gridCol w="763560"/>
                <a:gridCol w="763560"/>
                <a:gridCol w="762120"/>
                <a:gridCol w="763560"/>
                <a:gridCol w="762120"/>
                <a:gridCol w="763560"/>
                <a:gridCol w="763560"/>
                <a:gridCol w="762120"/>
                <a:gridCol w="849240"/>
                <a:gridCol w="384120"/>
              </a:tblGrid>
              <a:tr h="3564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9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10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548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i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0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933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1401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 0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0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ff66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66760" y="4149720"/>
          <a:ext cx="8913600" cy="1238400"/>
        </p:xfrm>
        <a:graphic>
          <a:graphicData uri="http://schemas.openxmlformats.org/drawingml/2006/table">
            <a:tbl>
              <a:tblPr/>
              <a:tblGrid>
                <a:gridCol w="826920"/>
                <a:gridCol w="762120"/>
                <a:gridCol w="762120"/>
                <a:gridCol w="761760"/>
                <a:gridCol w="762120"/>
                <a:gridCol w="760320"/>
                <a:gridCol w="762120"/>
                <a:gridCol w="762120"/>
                <a:gridCol w="761760"/>
                <a:gridCol w="762120"/>
                <a:gridCol w="846000"/>
                <a:gridCol w="384120"/>
              </a:tblGrid>
              <a:tr h="351000"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омер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че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начало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боро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с начала 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Остато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на конец месяц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Ж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26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деб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По креди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</a:t>
                      </a: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8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440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1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  <a:tr h="195120"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2401101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</a:t>
                      </a: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7 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  <a:tc>
                  <a:txBody>
                    <a:bodyPr lIns="18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7e993"/>
                    </a:solidFill>
                  </a:tcPr>
                </a:tc>
              </a:tr>
            </a:tbl>
          </a:graphicData>
        </a:graphic>
      </p:graphicFrame>
      <p:sp>
        <p:nvSpPr>
          <p:cNvPr id="125" name="Text Box 686"/>
          <p:cNvSpPr/>
          <p:nvPr/>
        </p:nvSpPr>
        <p:spPr>
          <a:xfrm>
            <a:off x="539640" y="3932280"/>
            <a:ext cx="8386920" cy="20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течении отчетного периода были совершены следующие операции по счету 2106044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24000" y="4149720"/>
          <a:ext cx="8280360" cy="2430360"/>
        </p:xfrm>
        <a:graphic>
          <a:graphicData uri="http://schemas.openxmlformats.org/drawingml/2006/table">
            <a:tbl>
              <a:tblPr/>
              <a:tblGrid>
                <a:gridCol w="4302000"/>
                <a:gridCol w="1149480"/>
                <a:gridCol w="1434960"/>
                <a:gridCol w="1393920"/>
              </a:tblGrid>
              <a:tr h="275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опе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респонденция сч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б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ы фактические расходы по оказанным услугам, в том числе н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0110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04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ту труд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 основного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ование материальных зап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101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791"/>
          <p:cNvSpPr/>
          <p:nvPr/>
        </p:nvSpPr>
        <p:spPr>
          <a:xfrm>
            <a:off x="468360" y="6605640"/>
            <a:ext cx="8386560" cy="2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ебет 240101130    Кредит 230303730            1515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91BE-DCFE-4788-82C9-95EF5BC3406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15920"/>
          <a:ext cx="9144000" cy="6850080"/>
        </p:xfrm>
        <a:graphic>
          <a:graphicData uri="http://schemas.openxmlformats.org/drawingml/2006/table">
            <a:tbl>
              <a:tblPr/>
              <a:tblGrid>
                <a:gridCol w="4330800"/>
                <a:gridCol w="439560"/>
                <a:gridCol w="523800"/>
                <a:gridCol w="1284480"/>
                <a:gridCol w="1281240"/>
                <a:gridCol w="1284120"/>
              </a:tblGrid>
              <a:tr h="76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по КОС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осящая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ства во временном распоря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 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лата труда и начисления на оплату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работная пл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сления на выплаты по оплате тру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обретение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56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анспорт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альны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ендная плата за пользование имуще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уги по содержанию имущ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чие услу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960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утрен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служивание внешних долговых обяза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068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и безвозвратные перечисления государственным и муниципальных организац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36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вратные и безвозмездные перечисления бюджет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1-30T08:48:56Z</dcterms:modified>
  <cp:revision>1651</cp:revision>
  <dc:subject/>
  <dc:title>Заголовок слайда отсутствует</dc:title>
</cp:coreProperties>
</file>