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-360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781440" y="-360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99640" y="742680"/>
            <a:ext cx="4870440" cy="365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move the slide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_FuturaOrt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1800" y="9284760"/>
            <a:ext cx="288900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781440" y="92847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  <a:defRPr b="0" i="1" lang="ru-RU" sz="1000" spc="-1" strike="noStrike">
                <a:solidFill>
                  <a:srgbClr val="000000"/>
                </a:solidFill>
                <a:latin typeface="a_FuturaOr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AA8510E-CA2D-4104-B009-0FBCBCF3032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CB31BDB-8D18-410E-9A2D-ECB8D96D660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9D900301-54E9-4DB9-93F2-6F6BD6DA37FB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9A4641F-48E6-449C-8A11-6A0FDBF101B2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133EDEE-6045-4A38-8B0D-9787DA4D6D2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D7A95717-2620-4BE0-81D5-1B426031378F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D8CCC13-008F-4380-A2E3-52C5941FF0C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338C43C1-18C2-4C0D-B74E-1B57CAF14F8F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574896E-DBBA-49EC-BFFA-C4011834A294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64658AE9-0A11-40A4-9090-C92AF3A0B85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6177000C-0259-46B0-A7F0-DE6549E5EA93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80280AA6-6F7B-4E1D-9008-197970D8611A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417FA511-07C6-4579-BD64-1FDFF623CD76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2107A136-4076-40E6-A756-6A3822386FB7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F1108548-7FBB-4BAC-9447-A56C4EF6DF59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EA7DD30-4F83-4483-815C-EEFFBCEF77F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01D61D9-EAB5-4E7A-8636-9E52D8B6DD57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78FEB20B-223F-4193-A908-08781791036D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0000" y="743040"/>
            <a:ext cx="4870440" cy="3652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91720" y="4637160"/>
            <a:ext cx="4884840" cy="44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_FuturaOrto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781440" y="9285120"/>
            <a:ext cx="2889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fld id="{1AA0CE69-1B31-4821-97AB-B834E5523797}" type="slidenum">
              <a:rPr b="0" i="1" lang="ru-RU" sz="1000" spc="-1" strike="noStrike">
                <a:solidFill>
                  <a:srgbClr val="000000"/>
                </a:solidFill>
                <a:latin typeface="a_FuturaOrt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7F37-0AE0-46B5-9FB5-46471BAC0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5DF6-0133-4B50-867F-4088D5F9BB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4A1CA-4F3F-4229-9B0C-AD8F40FA6B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E037-9601-46EF-8F49-9DE6D7B84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7B5-AEFD-472C-BF22-48A545785E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B771-BC42-4E59-B7DC-0D13FB5E68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5FC-1CB7-4948-854C-27740F933B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926-BE1E-419B-A8ED-31184EC456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1CB-C873-46C9-AC5C-6E98EA0221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EC04-34BF-4D1F-8B90-63C35D96AA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562-9A5E-4A7C-A3D5-65611117F5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1DB7-6F70-4159-8174-ED85C700B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F834-C51A-497E-A08A-7E826C8E9A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AD19-EB1F-4E47-950E-5BED89A2D0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8525-5179-4A72-BB34-D3DF625386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3DE-3E59-45AA-8E94-88AF5E60B1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60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2680" y="3456000"/>
            <a:ext cx="270072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EC3F-EE5D-4B9F-89AD-88D54369FD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AC51E-E041-4D21-A55F-370EE7369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29BD-5A2C-4386-8960-4DFBCB702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FFB8-C921-4E48-AF90-B4DAEDB09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9FD5-A65F-4121-8A8D-1942A9A2D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2871-F61A-433F-B019-54AA026DA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39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8920" y="345600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5C9B-0F5F-4AF9-A742-55F8C3FD8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456000"/>
            <a:ext cx="8388360" cy="18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E3166-C1E3-4780-833B-0CA204C1D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33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FA18-E33C-4170-8E36-224013F63E6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9"/>
          <p:cNvGrpSpPr/>
          <p:nvPr/>
        </p:nvGrpSpPr>
        <p:grpSpPr>
          <a:xfrm>
            <a:off x="7667640" y="333360"/>
            <a:ext cx="898560" cy="1278000"/>
            <a:chOff x="7667640" y="333360"/>
            <a:chExt cx="898560" cy="1278000"/>
          </a:xfrm>
        </p:grpSpPr>
        <p:sp>
          <p:nvSpPr>
            <p:cNvPr id="41" name="Freeform 7"/>
            <p:cNvSpPr/>
            <p:nvPr/>
          </p:nvSpPr>
          <p:spPr>
            <a:xfrm>
              <a:off x="7667640" y="333360"/>
              <a:ext cx="898560" cy="12780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1278000"/>
                <a:gd name="textAreaBottom" fmla="*/ 1278360 h 1278000"/>
              </a:gdLst>
              <a:ahLst/>
              <a:rect l="textAreaLeft" t="textAreaTop" r="textAreaRight" b="textAreaBottom"/>
              <a:pathLst>
                <a:path w="1414" h="2013">
                  <a:moveTo>
                    <a:pt x="440" y="1445"/>
                  </a:moveTo>
                  <a:lnTo>
                    <a:pt x="415" y="1404"/>
                  </a:lnTo>
                  <a:lnTo>
                    <a:pt x="393" y="1363"/>
                  </a:lnTo>
                  <a:lnTo>
                    <a:pt x="371" y="1321"/>
                  </a:lnTo>
                  <a:lnTo>
                    <a:pt x="352" y="1279"/>
                  </a:lnTo>
                  <a:lnTo>
                    <a:pt x="334" y="1236"/>
                  </a:lnTo>
                  <a:lnTo>
                    <a:pt x="317" y="1193"/>
                  </a:lnTo>
                  <a:lnTo>
                    <a:pt x="301" y="1149"/>
                  </a:lnTo>
                  <a:lnTo>
                    <a:pt x="287" y="1105"/>
                  </a:lnTo>
                  <a:lnTo>
                    <a:pt x="275" y="1061"/>
                  </a:lnTo>
                  <a:lnTo>
                    <a:pt x="263" y="1017"/>
                  </a:lnTo>
                  <a:lnTo>
                    <a:pt x="252" y="972"/>
                  </a:lnTo>
                  <a:lnTo>
                    <a:pt x="243" y="927"/>
                  </a:lnTo>
                  <a:lnTo>
                    <a:pt x="234" y="881"/>
                  </a:lnTo>
                  <a:lnTo>
                    <a:pt x="227" y="836"/>
                  </a:lnTo>
                  <a:lnTo>
                    <a:pt x="220" y="790"/>
                  </a:lnTo>
                  <a:lnTo>
                    <a:pt x="214" y="744"/>
                  </a:lnTo>
                  <a:lnTo>
                    <a:pt x="208" y="698"/>
                  </a:lnTo>
                  <a:lnTo>
                    <a:pt x="203" y="652"/>
                  </a:lnTo>
                  <a:lnTo>
                    <a:pt x="200" y="605"/>
                  </a:lnTo>
                  <a:lnTo>
                    <a:pt x="196" y="559"/>
                  </a:lnTo>
                  <a:lnTo>
                    <a:pt x="193" y="512"/>
                  </a:lnTo>
                  <a:lnTo>
                    <a:pt x="191" y="466"/>
                  </a:lnTo>
                  <a:lnTo>
                    <a:pt x="188" y="419"/>
                  </a:lnTo>
                  <a:lnTo>
                    <a:pt x="186" y="372"/>
                  </a:lnTo>
                  <a:lnTo>
                    <a:pt x="185" y="325"/>
                  </a:lnTo>
                  <a:lnTo>
                    <a:pt x="183" y="278"/>
                  </a:lnTo>
                  <a:lnTo>
                    <a:pt x="182" y="232"/>
                  </a:lnTo>
                  <a:lnTo>
                    <a:pt x="181" y="185"/>
                  </a:lnTo>
                  <a:lnTo>
                    <a:pt x="179" y="139"/>
                  </a:lnTo>
                  <a:lnTo>
                    <a:pt x="178" y="92"/>
                  </a:lnTo>
                  <a:lnTo>
                    <a:pt x="177" y="46"/>
                  </a:lnTo>
                  <a:lnTo>
                    <a:pt x="175" y="0"/>
                  </a:lnTo>
                  <a:lnTo>
                    <a:pt x="837" y="652"/>
                  </a:lnTo>
                  <a:lnTo>
                    <a:pt x="1370" y="1026"/>
                  </a:lnTo>
                  <a:lnTo>
                    <a:pt x="1294" y="1116"/>
                  </a:lnTo>
                  <a:lnTo>
                    <a:pt x="1414" y="1234"/>
                  </a:lnTo>
                  <a:lnTo>
                    <a:pt x="688" y="1725"/>
                  </a:lnTo>
                  <a:lnTo>
                    <a:pt x="673" y="1711"/>
                  </a:lnTo>
                  <a:lnTo>
                    <a:pt x="657" y="1697"/>
                  </a:lnTo>
                  <a:lnTo>
                    <a:pt x="641" y="1682"/>
                  </a:lnTo>
                  <a:lnTo>
                    <a:pt x="625" y="1667"/>
                  </a:lnTo>
                  <a:lnTo>
                    <a:pt x="609" y="1652"/>
                  </a:lnTo>
                  <a:lnTo>
                    <a:pt x="593" y="1636"/>
                  </a:lnTo>
                  <a:lnTo>
                    <a:pt x="577" y="1619"/>
                  </a:lnTo>
                  <a:lnTo>
                    <a:pt x="561" y="1602"/>
                  </a:lnTo>
                  <a:lnTo>
                    <a:pt x="545" y="1585"/>
                  </a:lnTo>
                  <a:lnTo>
                    <a:pt x="529" y="1567"/>
                  </a:lnTo>
                  <a:lnTo>
                    <a:pt x="513" y="1548"/>
                  </a:lnTo>
                  <a:lnTo>
                    <a:pt x="498" y="1529"/>
                  </a:lnTo>
                  <a:lnTo>
                    <a:pt x="483" y="1509"/>
                  </a:lnTo>
                  <a:lnTo>
                    <a:pt x="468" y="1488"/>
                  </a:lnTo>
                  <a:lnTo>
                    <a:pt x="454" y="1467"/>
                  </a:lnTo>
                  <a:lnTo>
                    <a:pt x="440" y="1445"/>
                  </a:lnTo>
                  <a:close/>
                  <a:moveTo>
                    <a:pt x="0" y="2012"/>
                  </a:moveTo>
                  <a:lnTo>
                    <a:pt x="153" y="1854"/>
                  </a:lnTo>
                  <a:lnTo>
                    <a:pt x="117" y="1854"/>
                  </a:lnTo>
                  <a:lnTo>
                    <a:pt x="132" y="1833"/>
                  </a:lnTo>
                  <a:lnTo>
                    <a:pt x="147" y="1816"/>
                  </a:lnTo>
                  <a:lnTo>
                    <a:pt x="162" y="1801"/>
                  </a:lnTo>
                  <a:lnTo>
                    <a:pt x="177" y="1788"/>
                  </a:lnTo>
                  <a:lnTo>
                    <a:pt x="193" y="1777"/>
                  </a:lnTo>
                  <a:lnTo>
                    <a:pt x="209" y="1769"/>
                  </a:lnTo>
                  <a:lnTo>
                    <a:pt x="225" y="1763"/>
                  </a:lnTo>
                  <a:lnTo>
                    <a:pt x="241" y="1758"/>
                  </a:lnTo>
                  <a:lnTo>
                    <a:pt x="256" y="1754"/>
                  </a:lnTo>
                  <a:lnTo>
                    <a:pt x="273" y="1752"/>
                  </a:lnTo>
                  <a:lnTo>
                    <a:pt x="289" y="1751"/>
                  </a:lnTo>
                  <a:lnTo>
                    <a:pt x="306" y="1751"/>
                  </a:lnTo>
                  <a:lnTo>
                    <a:pt x="322" y="1752"/>
                  </a:lnTo>
                  <a:lnTo>
                    <a:pt x="339" y="1754"/>
                  </a:lnTo>
                  <a:lnTo>
                    <a:pt x="355" y="1755"/>
                  </a:lnTo>
                  <a:lnTo>
                    <a:pt x="372" y="1757"/>
                  </a:lnTo>
                  <a:lnTo>
                    <a:pt x="412" y="1775"/>
                  </a:lnTo>
                  <a:lnTo>
                    <a:pt x="423" y="1794"/>
                  </a:lnTo>
                  <a:lnTo>
                    <a:pt x="423" y="1811"/>
                  </a:lnTo>
                  <a:lnTo>
                    <a:pt x="227" y="2012"/>
                  </a:lnTo>
                  <a:lnTo>
                    <a:pt x="132" y="2012"/>
                  </a:lnTo>
                  <a:lnTo>
                    <a:pt x="284" y="1855"/>
                  </a:lnTo>
                  <a:lnTo>
                    <a:pt x="244" y="1855"/>
                  </a:lnTo>
                  <a:lnTo>
                    <a:pt x="93" y="2012"/>
                  </a:lnTo>
                  <a:lnTo>
                    <a:pt x="0" y="2012"/>
                  </a:lnTo>
                  <a:close/>
                  <a:moveTo>
                    <a:pt x="270" y="2009"/>
                  </a:moveTo>
                  <a:lnTo>
                    <a:pt x="452" y="1819"/>
                  </a:lnTo>
                  <a:lnTo>
                    <a:pt x="458" y="1804"/>
                  </a:lnTo>
                  <a:lnTo>
                    <a:pt x="457" y="1789"/>
                  </a:lnTo>
                  <a:lnTo>
                    <a:pt x="447" y="1779"/>
                  </a:lnTo>
                  <a:lnTo>
                    <a:pt x="468" y="1762"/>
                  </a:lnTo>
                  <a:lnTo>
                    <a:pt x="479" y="1759"/>
                  </a:lnTo>
                  <a:lnTo>
                    <a:pt x="490" y="1757"/>
                  </a:lnTo>
                  <a:lnTo>
                    <a:pt x="501" y="1754"/>
                  </a:lnTo>
                  <a:lnTo>
                    <a:pt x="512" y="1752"/>
                  </a:lnTo>
                  <a:lnTo>
                    <a:pt x="522" y="1750"/>
                  </a:lnTo>
                  <a:lnTo>
                    <a:pt x="533" y="1749"/>
                  </a:lnTo>
                  <a:lnTo>
                    <a:pt x="544" y="1748"/>
                  </a:lnTo>
                  <a:lnTo>
                    <a:pt x="555" y="1747"/>
                  </a:lnTo>
                  <a:lnTo>
                    <a:pt x="566" y="1748"/>
                  </a:lnTo>
                  <a:lnTo>
                    <a:pt x="577" y="1749"/>
                  </a:lnTo>
                  <a:lnTo>
                    <a:pt x="587" y="1751"/>
                  </a:lnTo>
                  <a:lnTo>
                    <a:pt x="598" y="1752"/>
                  </a:lnTo>
                  <a:lnTo>
                    <a:pt x="609" y="1755"/>
                  </a:lnTo>
                  <a:lnTo>
                    <a:pt x="619" y="1759"/>
                  </a:lnTo>
                  <a:lnTo>
                    <a:pt x="630" y="1764"/>
                  </a:lnTo>
                  <a:lnTo>
                    <a:pt x="640" y="1769"/>
                  </a:lnTo>
                  <a:lnTo>
                    <a:pt x="656" y="1789"/>
                  </a:lnTo>
                  <a:lnTo>
                    <a:pt x="656" y="1807"/>
                  </a:lnTo>
                  <a:lnTo>
                    <a:pt x="644" y="1824"/>
                  </a:lnTo>
                  <a:lnTo>
                    <a:pt x="460" y="2012"/>
                  </a:lnTo>
                  <a:lnTo>
                    <a:pt x="364" y="2012"/>
                  </a:lnTo>
                  <a:lnTo>
                    <a:pt x="425" y="1949"/>
                  </a:lnTo>
                  <a:lnTo>
                    <a:pt x="385" y="1949"/>
                  </a:lnTo>
                  <a:lnTo>
                    <a:pt x="326" y="2009"/>
                  </a:lnTo>
                  <a:lnTo>
                    <a:pt x="270" y="2009"/>
                  </a:lnTo>
                  <a:close/>
                  <a:moveTo>
                    <a:pt x="427" y="1900"/>
                  </a:moveTo>
                  <a:lnTo>
                    <a:pt x="472" y="1856"/>
                  </a:lnTo>
                  <a:lnTo>
                    <a:pt x="486" y="1851"/>
                  </a:lnTo>
                  <a:lnTo>
                    <a:pt x="502" y="1851"/>
                  </a:lnTo>
                  <a:lnTo>
                    <a:pt x="503" y="1863"/>
                  </a:lnTo>
                  <a:lnTo>
                    <a:pt x="463" y="1900"/>
                  </a:lnTo>
                  <a:lnTo>
                    <a:pt x="427" y="1900"/>
                  </a:lnTo>
                  <a:close/>
                  <a:moveTo>
                    <a:pt x="745" y="1999"/>
                  </a:moveTo>
                  <a:lnTo>
                    <a:pt x="711" y="1979"/>
                  </a:lnTo>
                  <a:lnTo>
                    <a:pt x="737" y="1973"/>
                  </a:lnTo>
                  <a:lnTo>
                    <a:pt x="763" y="1964"/>
                  </a:lnTo>
                  <a:lnTo>
                    <a:pt x="783" y="1950"/>
                  </a:lnTo>
                  <a:lnTo>
                    <a:pt x="792" y="1954"/>
                  </a:lnTo>
                  <a:lnTo>
                    <a:pt x="801" y="1957"/>
                  </a:lnTo>
                  <a:lnTo>
                    <a:pt x="808" y="1960"/>
                  </a:lnTo>
                  <a:lnTo>
                    <a:pt x="815" y="1962"/>
                  </a:lnTo>
                  <a:lnTo>
                    <a:pt x="823" y="1962"/>
                  </a:lnTo>
                  <a:lnTo>
                    <a:pt x="830" y="1963"/>
                  </a:lnTo>
                  <a:lnTo>
                    <a:pt x="838" y="1963"/>
                  </a:lnTo>
                  <a:lnTo>
                    <a:pt x="847" y="1962"/>
                  </a:lnTo>
                  <a:lnTo>
                    <a:pt x="864" y="1954"/>
                  </a:lnTo>
                  <a:lnTo>
                    <a:pt x="878" y="1940"/>
                  </a:lnTo>
                  <a:lnTo>
                    <a:pt x="851" y="1939"/>
                  </a:lnTo>
                  <a:lnTo>
                    <a:pt x="829" y="1934"/>
                  </a:lnTo>
                  <a:lnTo>
                    <a:pt x="810" y="1926"/>
                  </a:lnTo>
                  <a:lnTo>
                    <a:pt x="910" y="1811"/>
                  </a:lnTo>
                  <a:lnTo>
                    <a:pt x="918" y="1797"/>
                  </a:lnTo>
                  <a:lnTo>
                    <a:pt x="913" y="1780"/>
                  </a:lnTo>
                  <a:lnTo>
                    <a:pt x="900" y="1767"/>
                  </a:lnTo>
                  <a:lnTo>
                    <a:pt x="907" y="1757"/>
                  </a:lnTo>
                  <a:lnTo>
                    <a:pt x="924" y="1751"/>
                  </a:lnTo>
                  <a:lnTo>
                    <a:pt x="946" y="1747"/>
                  </a:lnTo>
                  <a:lnTo>
                    <a:pt x="972" y="1751"/>
                  </a:lnTo>
                  <a:lnTo>
                    <a:pt x="986" y="1762"/>
                  </a:lnTo>
                  <a:lnTo>
                    <a:pt x="987" y="1779"/>
                  </a:lnTo>
                  <a:lnTo>
                    <a:pt x="984" y="1789"/>
                  </a:lnTo>
                  <a:lnTo>
                    <a:pt x="887" y="1890"/>
                  </a:lnTo>
                  <a:lnTo>
                    <a:pt x="901" y="1892"/>
                  </a:lnTo>
                  <a:lnTo>
                    <a:pt x="919" y="1890"/>
                  </a:lnTo>
                  <a:lnTo>
                    <a:pt x="1046" y="1762"/>
                  </a:lnTo>
                  <a:lnTo>
                    <a:pt x="1062" y="1752"/>
                  </a:lnTo>
                  <a:lnTo>
                    <a:pt x="1091" y="1749"/>
                  </a:lnTo>
                  <a:lnTo>
                    <a:pt x="1114" y="1763"/>
                  </a:lnTo>
                  <a:lnTo>
                    <a:pt x="1121" y="1782"/>
                  </a:lnTo>
                  <a:lnTo>
                    <a:pt x="1119" y="1794"/>
                  </a:lnTo>
                  <a:lnTo>
                    <a:pt x="931" y="1991"/>
                  </a:lnTo>
                  <a:lnTo>
                    <a:pt x="921" y="1994"/>
                  </a:lnTo>
                  <a:lnTo>
                    <a:pt x="911" y="1998"/>
                  </a:lnTo>
                  <a:lnTo>
                    <a:pt x="902" y="2001"/>
                  </a:lnTo>
                  <a:lnTo>
                    <a:pt x="893" y="2004"/>
                  </a:lnTo>
                  <a:lnTo>
                    <a:pt x="883" y="2005"/>
                  </a:lnTo>
                  <a:lnTo>
                    <a:pt x="874" y="2007"/>
                  </a:lnTo>
                  <a:lnTo>
                    <a:pt x="865" y="2009"/>
                  </a:lnTo>
                  <a:lnTo>
                    <a:pt x="856" y="2010"/>
                  </a:lnTo>
                  <a:lnTo>
                    <a:pt x="847" y="2011"/>
                  </a:lnTo>
                  <a:lnTo>
                    <a:pt x="838" y="2012"/>
                  </a:lnTo>
                  <a:lnTo>
                    <a:pt x="829" y="2012"/>
                  </a:lnTo>
                  <a:lnTo>
                    <a:pt x="819" y="2012"/>
                  </a:lnTo>
                  <a:lnTo>
                    <a:pt x="810" y="2012"/>
                  </a:lnTo>
                  <a:lnTo>
                    <a:pt x="801" y="2012"/>
                  </a:lnTo>
                  <a:lnTo>
                    <a:pt x="792" y="2012"/>
                  </a:lnTo>
                  <a:lnTo>
                    <a:pt x="783" y="2012"/>
                  </a:lnTo>
                  <a:lnTo>
                    <a:pt x="745" y="1999"/>
                  </a:lnTo>
                  <a:close/>
                  <a:moveTo>
                    <a:pt x="1059" y="2012"/>
                  </a:moveTo>
                  <a:lnTo>
                    <a:pt x="1017" y="1998"/>
                  </a:lnTo>
                  <a:lnTo>
                    <a:pt x="992" y="1986"/>
                  </a:lnTo>
                  <a:lnTo>
                    <a:pt x="987" y="1973"/>
                  </a:lnTo>
                  <a:lnTo>
                    <a:pt x="1145" y="1804"/>
                  </a:lnTo>
                  <a:lnTo>
                    <a:pt x="1150" y="1782"/>
                  </a:lnTo>
                  <a:lnTo>
                    <a:pt x="1141" y="1767"/>
                  </a:lnTo>
                  <a:lnTo>
                    <a:pt x="1152" y="1763"/>
                  </a:lnTo>
                  <a:lnTo>
                    <a:pt x="1163" y="1760"/>
                  </a:lnTo>
                  <a:lnTo>
                    <a:pt x="1175" y="1757"/>
                  </a:lnTo>
                  <a:lnTo>
                    <a:pt x="1186" y="1754"/>
                  </a:lnTo>
                  <a:lnTo>
                    <a:pt x="1197" y="1752"/>
                  </a:lnTo>
                  <a:lnTo>
                    <a:pt x="1208" y="1750"/>
                  </a:lnTo>
                  <a:lnTo>
                    <a:pt x="1220" y="1749"/>
                  </a:lnTo>
                  <a:lnTo>
                    <a:pt x="1231" y="1748"/>
                  </a:lnTo>
                  <a:lnTo>
                    <a:pt x="1243" y="1748"/>
                  </a:lnTo>
                  <a:lnTo>
                    <a:pt x="1253" y="1748"/>
                  </a:lnTo>
                  <a:lnTo>
                    <a:pt x="1265" y="1749"/>
                  </a:lnTo>
                  <a:lnTo>
                    <a:pt x="1277" y="1751"/>
                  </a:lnTo>
                  <a:lnTo>
                    <a:pt x="1288" y="1754"/>
                  </a:lnTo>
                  <a:lnTo>
                    <a:pt x="1300" y="1757"/>
                  </a:lnTo>
                  <a:lnTo>
                    <a:pt x="1312" y="1762"/>
                  </a:lnTo>
                  <a:lnTo>
                    <a:pt x="1324" y="1767"/>
                  </a:lnTo>
                  <a:lnTo>
                    <a:pt x="1338" y="1782"/>
                  </a:lnTo>
                  <a:lnTo>
                    <a:pt x="1340" y="1802"/>
                  </a:lnTo>
                  <a:lnTo>
                    <a:pt x="1332" y="1818"/>
                  </a:lnTo>
                  <a:lnTo>
                    <a:pt x="1244" y="1905"/>
                  </a:lnTo>
                  <a:lnTo>
                    <a:pt x="1238" y="1868"/>
                  </a:lnTo>
                  <a:lnTo>
                    <a:pt x="1217" y="1854"/>
                  </a:lnTo>
                  <a:lnTo>
                    <a:pt x="1173" y="1847"/>
                  </a:lnTo>
                  <a:lnTo>
                    <a:pt x="1149" y="1858"/>
                  </a:lnTo>
                  <a:lnTo>
                    <a:pt x="1121" y="1882"/>
                  </a:lnTo>
                  <a:lnTo>
                    <a:pt x="1105" y="1914"/>
                  </a:lnTo>
                  <a:lnTo>
                    <a:pt x="1101" y="1949"/>
                  </a:lnTo>
                  <a:lnTo>
                    <a:pt x="1123" y="1964"/>
                  </a:lnTo>
                  <a:lnTo>
                    <a:pt x="1159" y="1977"/>
                  </a:lnTo>
                  <a:lnTo>
                    <a:pt x="1200" y="1973"/>
                  </a:lnTo>
                  <a:lnTo>
                    <a:pt x="1166" y="2001"/>
                  </a:lnTo>
                  <a:lnTo>
                    <a:pt x="1118" y="2013"/>
                  </a:lnTo>
                  <a:lnTo>
                    <a:pt x="1059" y="2012"/>
                  </a:lnTo>
                  <a:close/>
                  <a:moveTo>
                    <a:pt x="700" y="1904"/>
                  </a:moveTo>
                  <a:lnTo>
                    <a:pt x="682" y="1892"/>
                  </a:lnTo>
                  <a:lnTo>
                    <a:pt x="687" y="1870"/>
                  </a:lnTo>
                  <a:lnTo>
                    <a:pt x="700" y="1856"/>
                  </a:lnTo>
                  <a:lnTo>
                    <a:pt x="723" y="1846"/>
                  </a:lnTo>
                  <a:lnTo>
                    <a:pt x="745" y="1856"/>
                  </a:lnTo>
                  <a:lnTo>
                    <a:pt x="745" y="1874"/>
                  </a:lnTo>
                  <a:lnTo>
                    <a:pt x="725" y="1897"/>
                  </a:lnTo>
                  <a:lnTo>
                    <a:pt x="700" y="1904"/>
                  </a:lnTo>
                  <a:close/>
                  <a:moveTo>
                    <a:pt x="497" y="2012"/>
                  </a:moveTo>
                  <a:lnTo>
                    <a:pt x="678" y="1826"/>
                  </a:lnTo>
                  <a:lnTo>
                    <a:pt x="687" y="1811"/>
                  </a:lnTo>
                  <a:lnTo>
                    <a:pt x="688" y="1793"/>
                  </a:lnTo>
                  <a:lnTo>
                    <a:pt x="674" y="1775"/>
                  </a:lnTo>
                  <a:lnTo>
                    <a:pt x="697" y="1762"/>
                  </a:lnTo>
                  <a:lnTo>
                    <a:pt x="707" y="1759"/>
                  </a:lnTo>
                  <a:lnTo>
                    <a:pt x="718" y="1757"/>
                  </a:lnTo>
                  <a:lnTo>
                    <a:pt x="729" y="1754"/>
                  </a:lnTo>
                  <a:lnTo>
                    <a:pt x="739" y="1752"/>
                  </a:lnTo>
                  <a:lnTo>
                    <a:pt x="749" y="1750"/>
                  </a:lnTo>
                  <a:lnTo>
                    <a:pt x="760" y="1749"/>
                  </a:lnTo>
                  <a:lnTo>
                    <a:pt x="771" y="1748"/>
                  </a:lnTo>
                  <a:lnTo>
                    <a:pt x="781" y="1747"/>
                  </a:lnTo>
                  <a:lnTo>
                    <a:pt x="792" y="1748"/>
                  </a:lnTo>
                  <a:lnTo>
                    <a:pt x="802" y="1749"/>
                  </a:lnTo>
                  <a:lnTo>
                    <a:pt x="813" y="1751"/>
                  </a:lnTo>
                  <a:lnTo>
                    <a:pt x="823" y="1752"/>
                  </a:lnTo>
                  <a:lnTo>
                    <a:pt x="834" y="1755"/>
                  </a:lnTo>
                  <a:lnTo>
                    <a:pt x="844" y="1759"/>
                  </a:lnTo>
                  <a:lnTo>
                    <a:pt x="855" y="1764"/>
                  </a:lnTo>
                  <a:lnTo>
                    <a:pt x="865" y="1769"/>
                  </a:lnTo>
                  <a:lnTo>
                    <a:pt x="879" y="1787"/>
                  </a:lnTo>
                  <a:lnTo>
                    <a:pt x="883" y="1802"/>
                  </a:lnTo>
                  <a:lnTo>
                    <a:pt x="878" y="1811"/>
                  </a:lnTo>
                  <a:lnTo>
                    <a:pt x="760" y="1941"/>
                  </a:lnTo>
                  <a:lnTo>
                    <a:pt x="747" y="1948"/>
                  </a:lnTo>
                  <a:lnTo>
                    <a:pt x="735" y="1953"/>
                  </a:lnTo>
                  <a:lnTo>
                    <a:pt x="724" y="1957"/>
                  </a:lnTo>
                  <a:lnTo>
                    <a:pt x="714" y="1960"/>
                  </a:lnTo>
                  <a:lnTo>
                    <a:pt x="704" y="1962"/>
                  </a:lnTo>
                  <a:lnTo>
                    <a:pt x="694" y="1962"/>
                  </a:lnTo>
                  <a:lnTo>
                    <a:pt x="684" y="1963"/>
                  </a:lnTo>
                  <a:lnTo>
                    <a:pt x="675" y="1963"/>
                  </a:lnTo>
                  <a:lnTo>
                    <a:pt x="644" y="1952"/>
                  </a:lnTo>
                  <a:lnTo>
                    <a:pt x="633" y="1941"/>
                  </a:lnTo>
                  <a:lnTo>
                    <a:pt x="561" y="2012"/>
                  </a:lnTo>
                  <a:lnTo>
                    <a:pt x="497" y="2012"/>
                  </a:lnTo>
                  <a:close/>
                </a:path>
              </a:pathLst>
            </a:custGeom>
            <a:solidFill>
              <a:srgbClr val="28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"/>
            <p:cNvSpPr/>
            <p:nvPr/>
          </p:nvSpPr>
          <p:spPr>
            <a:xfrm>
              <a:off x="7821720" y="517680"/>
              <a:ext cx="669960" cy="815760"/>
            </a:xfrm>
            <a:custGeom>
              <a:avLst/>
              <a:gdLst>
                <a:gd name="textAreaLeft" fmla="*/ 0 w 669960"/>
                <a:gd name="textAreaRight" fmla="*/ 670320 w 669960"/>
                <a:gd name="textAreaTop" fmla="*/ 0 h 815760"/>
                <a:gd name="textAreaBottom" fmla="*/ 816120 h 815760"/>
              </a:gdLst>
              <a:ahLst/>
              <a:rect l="textAreaLeft" t="textAreaTop" r="textAreaRight" b="textAreaBottom"/>
              <a:pathLst>
                <a:path w="1053" h="1287">
                  <a:moveTo>
                    <a:pt x="0" y="0"/>
                  </a:moveTo>
                  <a:lnTo>
                    <a:pt x="2" y="55"/>
                  </a:lnTo>
                  <a:lnTo>
                    <a:pt x="4" y="109"/>
                  </a:lnTo>
                  <a:lnTo>
                    <a:pt x="7" y="162"/>
                  </a:lnTo>
                  <a:lnTo>
                    <a:pt x="12" y="214"/>
                  </a:lnTo>
                  <a:lnTo>
                    <a:pt x="16" y="265"/>
                  </a:lnTo>
                  <a:lnTo>
                    <a:pt x="23" y="315"/>
                  </a:lnTo>
                  <a:lnTo>
                    <a:pt x="29" y="364"/>
                  </a:lnTo>
                  <a:lnTo>
                    <a:pt x="37" y="413"/>
                  </a:lnTo>
                  <a:lnTo>
                    <a:pt x="46" y="461"/>
                  </a:lnTo>
                  <a:lnTo>
                    <a:pt x="55" y="507"/>
                  </a:lnTo>
                  <a:lnTo>
                    <a:pt x="66" y="553"/>
                  </a:lnTo>
                  <a:lnTo>
                    <a:pt x="78" y="597"/>
                  </a:lnTo>
                  <a:lnTo>
                    <a:pt x="91" y="641"/>
                  </a:lnTo>
                  <a:lnTo>
                    <a:pt x="104" y="685"/>
                  </a:lnTo>
                  <a:lnTo>
                    <a:pt x="119" y="727"/>
                  </a:lnTo>
                  <a:lnTo>
                    <a:pt x="135" y="768"/>
                  </a:lnTo>
                  <a:lnTo>
                    <a:pt x="152" y="807"/>
                  </a:lnTo>
                  <a:lnTo>
                    <a:pt x="170" y="846"/>
                  </a:lnTo>
                  <a:lnTo>
                    <a:pt x="190" y="885"/>
                  </a:lnTo>
                  <a:lnTo>
                    <a:pt x="210" y="922"/>
                  </a:lnTo>
                  <a:lnTo>
                    <a:pt x="232" y="958"/>
                  </a:lnTo>
                  <a:lnTo>
                    <a:pt x="255" y="993"/>
                  </a:lnTo>
                  <a:lnTo>
                    <a:pt x="279" y="1027"/>
                  </a:lnTo>
                  <a:lnTo>
                    <a:pt x="304" y="1060"/>
                  </a:lnTo>
                  <a:lnTo>
                    <a:pt x="331" y="1092"/>
                  </a:lnTo>
                  <a:lnTo>
                    <a:pt x="360" y="1123"/>
                  </a:lnTo>
                  <a:lnTo>
                    <a:pt x="389" y="1153"/>
                  </a:lnTo>
                  <a:lnTo>
                    <a:pt x="419" y="1182"/>
                  </a:lnTo>
                  <a:lnTo>
                    <a:pt x="452" y="1210"/>
                  </a:lnTo>
                  <a:lnTo>
                    <a:pt x="485" y="1237"/>
                  </a:lnTo>
                  <a:lnTo>
                    <a:pt x="520" y="1262"/>
                  </a:lnTo>
                  <a:lnTo>
                    <a:pt x="556" y="1287"/>
                  </a:lnTo>
                  <a:lnTo>
                    <a:pt x="1053" y="7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4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b601"/>
                </a:solidFill>
                <a:latin typeface="Segoe Semibold"/>
              </a:rPr>
              <a:t>Click to edit the title text format</a:t>
            </a:r>
            <a:endParaRPr b="0" lang="en-US" sz="4800" spc="-1" strike="noStrike">
              <a:solidFill>
                <a:srgbClr val="ffb601"/>
              </a:solidFill>
              <a:latin typeface="Segoe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3905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85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1" marL="794880" indent="-35028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2" marL="1166040" indent="-36900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3" marL="1499040" indent="-33156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4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5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  <a:p>
            <a:pPr lvl="6" marL="1819440" indent="-301320">
              <a:lnSpc>
                <a:spcPct val="85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egoe Semi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egoe Semi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5e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CCA4-3AA4-41E7-B50B-B98A4CAA4F35}" type="slidenum">
              <a:rPr b="0" lang="en-US" sz="1400" spc="-1" strike="noStrike">
                <a:solidFill>
                  <a:srgbClr val="bc5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755D-73ED-44BB-B238-B0785EEFAA5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403280" y="404640"/>
            <a:ext cx="6623280" cy="1075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форма 05031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24000" y="2000880"/>
            <a:ext cx="8635680" cy="314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 Cyr"/>
              </a:rPr>
              <a:t>Формировать таблицы пояснительной записки целесообразно во взаимосвязи со спецификой деятельности</a:t>
            </a:r>
            <a:r>
              <a:rPr b="1" lang="en-US" sz="2000" spc="-1" strike="noStrike">
                <a:solidFill>
                  <a:srgbClr val="660066"/>
                </a:solidFill>
                <a:latin typeface="Arial Cyr"/>
              </a:rPr>
              <a:t> </a:t>
            </a:r>
            <a:r>
              <a:rPr b="1" lang="ru-RU" sz="2000" spc="-1" strike="noStrike">
                <a:solidFill>
                  <a:srgbClr val="660066"/>
                </a:solidFill>
                <a:latin typeface="Arial Cyr"/>
              </a:rPr>
              <a:t>конкретного 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каз Министерства финансов РФ №191н от 28.12.2010г. </a:t>
            </a:r>
            <a:r>
              <a:rPr b="1" i="1" lang="ru-RU" sz="2400" spc="-1" strike="noStrike">
                <a:solidFill>
                  <a:srgbClr val="28497a"/>
                </a:solidFill>
                <a:latin typeface="Arial"/>
              </a:rPr>
              <a:t>«О порядке составления и представления годовой, квартальной и месячной отчетности об исполнении бюджетов бюджетной системы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EAA4-6DCA-4905-AB18-9FD42F12469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-27000"/>
          <a:ext cx="9144000" cy="6885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8500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e99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30" name="Rectangle 154"/>
          <p:cNvSpPr/>
          <p:nvPr/>
        </p:nvSpPr>
        <p:spPr>
          <a:xfrm>
            <a:off x="182520" y="44280"/>
            <a:ext cx="8926560" cy="27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7e993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                              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Сведения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о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проведении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инвентаризации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(годовая)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3080" y="1146240"/>
          <a:ext cx="9036000" cy="4817880"/>
        </p:xfrm>
        <a:graphic>
          <a:graphicData uri="http://schemas.openxmlformats.org/drawingml/2006/table">
            <a:tbl>
              <a:tblPr/>
              <a:tblGrid>
                <a:gridCol w="1290600"/>
                <a:gridCol w="1290600"/>
                <a:gridCol w="1289160"/>
                <a:gridCol w="1288800"/>
                <a:gridCol w="1292400"/>
                <a:gridCol w="1292040"/>
                <a:gridCol w="1292400"/>
              </a:tblGrid>
              <a:tr h="523080">
                <a:tc gridSpan="4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оведение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вентар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Результат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инвентар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Меры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устранению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выявленных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расхож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279720"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ич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иказ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о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провед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Код счета бюджетного уч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Сумма, р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72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1019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01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Расхождений с данными бухгалтерского учета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5584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05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Недостача продуктов питания в пределах норм естественной убыли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Недостача списана на расходы учре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  <a:tr h="11019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Плановая годов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1.1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12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020134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Расхождений с данными бухгалтерского учета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_FuturaOrto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ff99"/>
                        </a:gs>
                        <a:gs pos="50000">
                          <a:srgbClr val="f7e993"/>
                        </a:gs>
                        <a:gs pos="100000">
                          <a:srgbClr val="ccff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8649-9C5C-4F25-ADCD-DF7E3A71DE8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4920" y="189360"/>
            <a:ext cx="910908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just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Сведения о результатах внешних контрольных мероприятий</a:t>
            </a: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Таблица №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8000" y="620640"/>
          <a:ext cx="8870760" cy="5313600"/>
        </p:xfrm>
        <a:graphic>
          <a:graphicData uri="http://schemas.openxmlformats.org/drawingml/2006/table">
            <a:tbl>
              <a:tblPr/>
              <a:tblGrid>
                <a:gridCol w="1081080"/>
                <a:gridCol w="1870200"/>
                <a:gridCol w="2087280"/>
                <a:gridCol w="2184480"/>
                <a:gridCol w="1647720"/>
              </a:tblGrid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контрольного орга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Тема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ы 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Меры по результатам прове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0392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6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.07.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ольно-ревизионно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Целевое использование бюдже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счет бюджетных средств отремонтирован автомобиль, поврежденный вследствие аварии по вине вод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 Акт о нарушениях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50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Достоверность ведения бюджетного учета и составление бюджетной отчет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ражение операций, ведение регистров бюджетного учета) в соответствии с действующими на данный момент нормативно-правов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й не обнару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052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облюдение порядка работы с денежной наличностью и порядка ведения кассовых опера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шений не обнаруж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9E60-1525-42AA-8CAC-40668DA5C03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377" descr=""/>
          <p:cNvPicPr/>
          <p:nvPr/>
        </p:nvPicPr>
        <p:blipFill>
          <a:blip r:embed="rId1"/>
          <a:stretch/>
        </p:blipFill>
        <p:spPr>
          <a:xfrm>
            <a:off x="34920" y="907920"/>
            <a:ext cx="8856720" cy="5310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34920" y="981000"/>
            <a:ext cx="8964720" cy="936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378"/>
          <p:cNvSpPr/>
          <p:nvPr/>
        </p:nvSpPr>
        <p:spPr>
          <a:xfrm>
            <a:off x="179280" y="3500280"/>
            <a:ext cx="3589560" cy="649440"/>
          </a:xfrm>
          <a:prstGeom prst="wedgeRoundRectCallout">
            <a:avLst>
              <a:gd name="adj1" fmla="val 41157"/>
              <a:gd name="adj2" fmla="val -20036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Бюдже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смет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379"/>
          <p:cNvSpPr/>
          <p:nvPr/>
        </p:nvSpPr>
        <p:spPr>
          <a:xfrm>
            <a:off x="4427640" y="3645000"/>
            <a:ext cx="3878280" cy="576000"/>
          </a:xfrm>
          <a:prstGeom prst="wedgeRoundRectCallout">
            <a:avLst>
              <a:gd name="adj1" fmla="val -41361"/>
              <a:gd name="adj2" fmla="val -2488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Бюджетные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(получатели субсидий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1280" y="44280"/>
          <a:ext cx="8964720" cy="392400"/>
        </p:xfrm>
        <a:graphic>
          <a:graphicData uri="http://schemas.openxmlformats.org/drawingml/2006/table">
            <a:tbl>
              <a:tblPr/>
              <a:tblGrid>
                <a:gridCol w="7740720"/>
                <a:gridCol w="1224000"/>
              </a:tblGrid>
              <a:tr h="3924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73"/>
          <p:cNvSpPr/>
          <p:nvPr/>
        </p:nvSpPr>
        <p:spPr>
          <a:xfrm>
            <a:off x="108000" y="671040"/>
            <a:ext cx="878508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количестве подведомствен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9"/>
          <p:cNvSpPr/>
          <p:nvPr/>
        </p:nvSpPr>
        <p:spPr>
          <a:xfrm>
            <a:off x="2286000" y="5425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полняется главным распорядителем (распорядителем)  бюджет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7155-4781-4CC7-9E2D-954B93B574C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33440" y="44280"/>
          <a:ext cx="8386560" cy="270000"/>
        </p:xfrm>
        <a:graphic>
          <a:graphicData uri="http://schemas.openxmlformats.org/drawingml/2006/table">
            <a:tbl>
              <a:tblPr/>
              <a:tblGrid>
                <a:gridCol w="7243560"/>
                <a:gridCol w="114300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5" name="Rectangle 11"/>
          <p:cNvSpPr/>
          <p:nvPr/>
        </p:nvSpPr>
        <p:spPr>
          <a:xfrm>
            <a:off x="2268360" y="374760"/>
            <a:ext cx="453564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результатах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2452680" y="357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8000" y="717480"/>
          <a:ext cx="9036000" cy="1590840"/>
        </p:xfrm>
        <a:graphic>
          <a:graphicData uri="http://schemas.openxmlformats.org/drawingml/2006/table">
            <a:tbl>
              <a:tblPr/>
              <a:tblGrid>
                <a:gridCol w="1522440"/>
                <a:gridCol w="1305000"/>
                <a:gridCol w="765000"/>
                <a:gridCol w="1546200"/>
                <a:gridCol w="1198440"/>
                <a:gridCol w="1497240"/>
                <a:gridCol w="1201680"/>
              </a:tblGrid>
              <a:tr h="345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раздела, подраздела расходов по Б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Единица изме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                         </a:t>
                      </a: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плану                                   Фактически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88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Text Box 301"/>
          <p:cNvSpPr/>
          <p:nvPr/>
        </p:nvSpPr>
        <p:spPr>
          <a:xfrm>
            <a:off x="0" y="2471760"/>
            <a:ext cx="9144000" cy="4513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16000" rIns="18000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 заполнения таблицы потребуется участие отраслевых специалистов: планового отдела, отдела экономического анализа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a50021"/>
                </a:solidFill>
                <a:latin typeface="Arial"/>
              </a:rPr>
              <a:t>В таблице необходимо отразить количественно-качественные (статистические) показатели результативности деятельности учреждения в разрезе плановых и фактических показателей в натуральном и стоимостном выражен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Например: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оличество посещений; количество  вызовов на дом; количество койко-дне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азатели формы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0503162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лежат консолидации, поэтому перечень показателей должен быть определен главным распорядителем бюджетных средств и доведен до всех подведомственных учрежд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Если субъекту бюджетной отчетности, не установлены в соответствующем порядке показатели результативности деятельности, то информация о результатах деятельности раскрывается в текстовой части раздела 2 Пояснительной записки. Кроме того,  необходимо представить в тексте пояснительной записки информацию о мерах по повышению квалификации и переподготовке специалистов; о ресурсах (численность работников, стоимость имущества, бюджетные расходы, объемы закупок и т.п.), используемых  для достижения показателей результатив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FA82-AC26-44C7-828E-6280AF4AEF7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2120" y="115920"/>
          <a:ext cx="8813880" cy="243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Rectangle 11"/>
          <p:cNvSpPr/>
          <p:nvPr/>
        </p:nvSpPr>
        <p:spPr>
          <a:xfrm>
            <a:off x="0" y="368280"/>
            <a:ext cx="9144000" cy="67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б изменениях бюджетной роспис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  <a:ea typeface="Times New Roman"/>
              </a:rPr>
              <a:t>главного распорядителя бюджетных  средств, главного администратора источников финансирования дефицита бюдж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4920" y="1069920"/>
          <a:ext cx="9109080" cy="3295800"/>
        </p:xfrm>
        <a:graphic>
          <a:graphicData uri="http://schemas.openxmlformats.org/drawingml/2006/table">
            <a:tbl>
              <a:tblPr/>
              <a:tblGrid>
                <a:gridCol w="1811520"/>
                <a:gridCol w="1717560"/>
                <a:gridCol w="1655640"/>
                <a:gridCol w="2208240"/>
                <a:gridCol w="1716120"/>
              </a:tblGrid>
              <a:tr h="21744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раздела, подраздела расходов, группы, подгруппы источников финансирования дефицита бюджета  по Б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тверждено на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азница между показателями бюджетной росписи и закона (решения) о бюджете, 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чины откло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Зако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(решением) о бюджете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ой росписью, с учетом изменений на отчетную дату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4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94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3" name="Text Box 99"/>
          <p:cNvSpPr/>
          <p:nvPr/>
        </p:nvSpPr>
        <p:spPr>
          <a:xfrm>
            <a:off x="0" y="4427640"/>
            <a:ext cx="9144000" cy="23720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полняетс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реждениями -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вными распорядителями бюджетных средств,  главными администраторами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орме необходимо отразить обобщенные за отчетный период данные об изменениях в бюджетной росписи, объемы внесенных изменений и причины внесений изменений в бюджетные назначения по расходам за отчетный пери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указываются причины внесенных уточнений со ссылкой на правовые основания их внесения (статьи Бюджетного кодекса Российской Федерации и закона (решения) о соответствующем бюдже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4326-397D-4446-AF4B-10754E84FE2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85440" cy="59086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0" y="5084640"/>
            <a:ext cx="914400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4338720" y="2852640"/>
            <a:ext cx="2374920" cy="765360"/>
          </a:xfrm>
          <a:prstGeom prst="wedgeRoundRectCallout">
            <a:avLst>
              <a:gd name="adj1" fmla="val -100685"/>
              <a:gd name="adj2" fmla="val -12717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ходы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ru-RU" sz="1600" spc="-1" strike="noStrike" u="sng">
                <a:solidFill>
                  <a:srgbClr val="cc0000"/>
                </a:solidFill>
                <a:uFillTx/>
                <a:latin typeface="Arial"/>
              </a:rPr>
              <a:t>прогнозные показатели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0" y="28800"/>
            <a:ext cx="9144000" cy="62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 формы по ОКУ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0503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Segoe 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C2AA-05E4-423E-A5D5-706670C4295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-36360" y="-18720"/>
            <a:ext cx="9144000" cy="71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ложение (ф. 0503164) формируется путем обобщения данных по исполнен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луча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редств бюджета,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администратором поступлений в бюдж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 основании показателей Отчета (ф. 050312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главным распорядител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распорядителем) средств бюджета - на основании показателей консолидированного Отчета (ф. 050312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рганом, организующим исполнение бюдж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а основании показателей Отчета (ф. 0503117), сформированного на отчетную да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ериоди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ения –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вартальная, годо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 строкам  010, 200, 450, 500, 520,6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отражаются показатели из аналогичных строк Отчета (ф. 0503127), консолидированного Отчета (ф. 0503127) и Отчета (ф.0503117). При этом графы 5,6 по строке 450 не заполн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казываются коды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бюджетной классификации, по которым в результате исполнения бюджета на отчетную дату  имеются отклонения между плановыми и фактическими показателями, в соответствии с разделами прило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оказателям не содержащим плановые назначения форма не заполня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дел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Доходы бюджета»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разрезе групп, подгрупп, статьи, подстатьи классификации доходов бюдж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D698-570E-43B4-AFB8-9FE7B8FAC3A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287280"/>
            <a:ext cx="9144000" cy="63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разделе «Расходы бюджета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 разрезе разделов, подразделов, целевой статьи функциональной классификации расходов бюдж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разделе «Источники финансирования дефицитов бюджетов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разрезе групп, подгрупп, статьи, подстатьи источников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соответственно по разделам приложения годовые объемы бюджетных назначений, утвержденных уточненной бюджетной росписью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(получателями средств бюджета 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овые объемы утвержденных лимитов бюджетных обязательств, с учетом их уточнения): по доходам бюджетов, расходам бюджетов, источникам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соответственно по разделам приложения суммы исполненных бюджетных назначений: по доходам бюджетов, расходам бюджетов, источникам финансирования дефицитов бюдже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ется соответственно по разделам приложения разница между данными графы 3 и графы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 графе 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казываются причины отклонений отраженные в графе 5 приложения. Например: отсутствие необходимых нормативных документов, определяющих порядок выделения и (или) использования средств бюджетов; блокировка расходов (с указанием причины); возникновение курсовой разницы; сезонность отдельных видов расходов; недоведение (несвоевременное доведение) лимитов бюджетных обязательств (с указанием причины); изменение графика платежей по обязательствам; несвоевременность представления исполнителями работ документов для окончательного расчета; длительность сроков заключения государственных контрактов; необходимость резервирования денежных средств для обеспечения выполнения возложенных функций; прочие причины  (указать каки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ED84-12A6-444B-B280-297942ED438A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0840" y="79200"/>
          <a:ext cx="8813880" cy="270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5" name="Rectangle 11"/>
          <p:cNvSpPr/>
          <p:nvPr/>
        </p:nvSpPr>
        <p:spPr>
          <a:xfrm>
            <a:off x="395280" y="404640"/>
            <a:ext cx="828036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б исполнении мероприятий в рамках целевых програм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4920" y="765000"/>
          <a:ext cx="8993160" cy="2738520"/>
        </p:xfrm>
        <a:graphic>
          <a:graphicData uri="http://schemas.openxmlformats.org/drawingml/2006/table">
            <a:tbl>
              <a:tblPr/>
              <a:tblGrid>
                <a:gridCol w="1555920"/>
                <a:gridCol w="1315800"/>
                <a:gridCol w="2386080"/>
                <a:gridCol w="1224000"/>
                <a:gridCol w="1079640"/>
                <a:gridCol w="1431720"/>
              </a:tblGrid>
              <a:tr h="11228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программы, под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целевой статьи расходов по Б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аименование 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тверждено бюджетной росписью с учетом изменений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Исполнено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Причины отклон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Text Box 88"/>
          <p:cNvSpPr/>
          <p:nvPr/>
        </p:nvSpPr>
        <p:spPr>
          <a:xfrm>
            <a:off x="0" y="3443400"/>
            <a:ext cx="9144000" cy="329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ccff99"/>
              </a:gs>
              <a:gs pos="100000">
                <a:srgbClr val="ccffff"/>
              </a:gs>
            </a:gsLst>
            <a:lin ang="5400000"/>
          </a:gra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олняется учреждениями, которым выделяются средства в рамках целевых программ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едует указать наименование программы (подпрограммы), в которой участвует учреждение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указывается код целевой статьи расходов бюджетов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еречень мероприятий, обеспечивающих реализацию программы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казывается объем средств , утвержденный уточненной бюджетной росписью, на реализацию мероприятий в рамках целевых программ.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казывается сумма исполненных бюджетных назначений,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графе 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казываются причины отклонени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жду графами 4 и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отчетную да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064E-7AA7-4AE8-A41C-26D85F87D837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8000" y="260280"/>
          <a:ext cx="8856720" cy="243000"/>
        </p:xfrm>
        <a:graphic>
          <a:graphicData uri="http://schemas.openxmlformats.org/drawingml/2006/table">
            <a:tbl>
              <a:tblPr/>
              <a:tblGrid>
                <a:gridCol w="7648560"/>
                <a:gridCol w="1208160"/>
              </a:tblGrid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Rectangle 11"/>
          <p:cNvSpPr/>
          <p:nvPr/>
        </p:nvSpPr>
        <p:spPr>
          <a:xfrm>
            <a:off x="1476360" y="691920"/>
            <a:ext cx="662472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целевых иностранных креди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150920"/>
          <a:ext cx="9144000" cy="4903920"/>
        </p:xfrm>
        <a:graphic>
          <a:graphicData uri="http://schemas.openxmlformats.org/drawingml/2006/table">
            <a:tbl>
              <a:tblPr/>
              <a:tblGrid>
                <a:gridCol w="1758960"/>
                <a:gridCol w="685800"/>
                <a:gridCol w="719280"/>
                <a:gridCol w="1792080"/>
                <a:gridCol w="2427480"/>
                <a:gridCol w="1760400"/>
              </a:tblGrid>
              <a:tr h="345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креди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глашение о креди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Цель использования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Утверждено бюджетной росписью с учетом изменений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умма использованного кредит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ом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1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62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Европейский банк реконструкции и развития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троительство автомобильной дороги «Амур» Чита-Хабаров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54 230 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693 – км 9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6 171 6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64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483 – км 596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м 943 – км 1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48 058 4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6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финансирование из ФБ (НДС)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7 719 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 111 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6 608 0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81 949 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7 282 794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 зай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74 666 4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5ABB-3047-4592-BC90-C89083FA0D9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1280" y="44280"/>
          <a:ext cx="8964720" cy="1451160"/>
        </p:xfrm>
        <a:graphic>
          <a:graphicData uri="http://schemas.openxmlformats.org/drawingml/2006/table">
            <a:tbl>
              <a:tblPr/>
              <a:tblGrid>
                <a:gridCol w="6739200"/>
                <a:gridCol w="1252440"/>
                <a:gridCol w="973080"/>
              </a:tblGrid>
              <a:tr h="188640"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Форма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0503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                                                             </a:t>
                      </a: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 1 января  2012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Да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Учреждение _________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ОК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6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бюджета ___________________________________________________________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09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ериодичность: квартальная, год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88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Единица измерения: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о ОКЕ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0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Rectangle 42"/>
          <p:cNvSpPr/>
          <p:nvPr/>
        </p:nvSpPr>
        <p:spPr>
          <a:xfrm>
            <a:off x="71280" y="2670120"/>
            <a:ext cx="3492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1280" y="1628640"/>
          <a:ext cx="8964720" cy="5108760"/>
        </p:xfrm>
        <a:graphic>
          <a:graphicData uri="http://schemas.openxmlformats.org/drawingml/2006/table">
            <a:tbl>
              <a:tblPr/>
              <a:tblGrid>
                <a:gridCol w="896472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6" name="Rectangle 4"/>
          <p:cNvSpPr/>
          <p:nvPr/>
        </p:nvSpPr>
        <p:spPr>
          <a:xfrm>
            <a:off x="3518280" y="115200"/>
            <a:ext cx="1857960" cy="18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000" spc="-1" strike="noStrike">
                <a:solidFill>
                  <a:srgbClr val="660066"/>
                </a:solidFill>
                <a:latin typeface="Arial"/>
                <a:ea typeface="Times New Roman"/>
              </a:rPr>
              <a:t>ПОЯСНИТЕЛЬНАЯ ЗАПИС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CD73-7C6C-4F3C-AB9B-08A0E5D28C1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333B-B2A1-41E1-81DE-5E1881E93A5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66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8FEF-1204-4258-A31A-FCD643B5755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50920" y="115920"/>
          <a:ext cx="8712000" cy="6038640"/>
        </p:xfrm>
        <a:graphic>
          <a:graphicData uri="http://schemas.openxmlformats.org/drawingml/2006/table">
            <a:tbl>
              <a:tblPr/>
              <a:tblGrid>
                <a:gridCol w="1666800"/>
                <a:gridCol w="797040"/>
                <a:gridCol w="1149120"/>
                <a:gridCol w="1297080"/>
                <a:gridCol w="1100160"/>
                <a:gridCol w="1386000"/>
                <a:gridCol w="1315800"/>
              </a:tblGrid>
              <a:tr h="633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03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gridSpan="4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по дебиторской и кредиторской задолж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д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бюджетная, приносящая доход деятель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ид задолж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(дебиторская, кредиторск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 gridSpan="2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омер (код)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юджетного 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 задолженности всего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 просроченная (нереальная к взысканию) задолж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80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од возникнов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дебитора (кредитор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чина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 gridSpan="2">
                  <a:txBody>
                    <a:bodyPr lIns="16920" rIns="16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того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у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920" rIns="169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920" marR="16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2B4A-A72E-449E-BE63-BE1DCE92F74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0840" y="115920"/>
          <a:ext cx="8813880" cy="27000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0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од формы по ОК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503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0" name="Rectangle 11"/>
          <p:cNvSpPr/>
          <p:nvPr/>
        </p:nvSpPr>
        <p:spPr>
          <a:xfrm>
            <a:off x="468360" y="549000"/>
            <a:ext cx="8280360" cy="31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  <a:ea typeface="Times New Roman"/>
              </a:rPr>
              <a:t>Сведения о финансовых вложениях получателя средств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8000" y="1052640"/>
          <a:ext cx="8964720" cy="3968640"/>
        </p:xfrm>
        <a:graphic>
          <a:graphicData uri="http://schemas.openxmlformats.org/drawingml/2006/table">
            <a:tbl>
              <a:tblPr/>
              <a:tblGrid>
                <a:gridCol w="1603440"/>
                <a:gridCol w="1141200"/>
                <a:gridCol w="2689200"/>
                <a:gridCol w="1765440"/>
                <a:gridCol w="1765440"/>
              </a:tblGrid>
              <a:tr h="78696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омер с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бюджетного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умм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Вид финансового в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окумент-основание наличия вло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66"/>
                          </a:solidFill>
                          <a:latin typeface="Segoe Semibold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9B9D-26AF-4805-B550-E762AAC5FD4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363564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6"/>
          <p:cNvSpPr/>
          <p:nvPr/>
        </p:nvSpPr>
        <p:spPr>
          <a:xfrm>
            <a:off x="5076720" y="5273640"/>
            <a:ext cx="3888000" cy="963720"/>
          </a:xfrm>
          <a:prstGeom prst="wedgeRoundRectCallout">
            <a:avLst>
              <a:gd name="adj1" fmla="val -117365"/>
              <a:gd name="adj2" fmla="val -215722"/>
              <a:gd name="adj3" fmla="val 16667"/>
            </a:avLst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задолженности, без учета начисленных процентов, пеней и штраф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F637-DAD4-4D2C-944D-4722F08AFE9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08000" y="1135080"/>
            <a:ext cx="9001080" cy="451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2297520" y="166680"/>
            <a:ext cx="59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дения об изменении остатков валюты балан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ф. 05031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6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8"/>
          <p:cNvSpPr/>
          <p:nvPr/>
        </p:nvSpPr>
        <p:spPr>
          <a:xfrm>
            <a:off x="5802480" y="-819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20ED-78C0-410F-B427-26D68F32B49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84200" y="-360"/>
            <a:ext cx="844416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egoe Semibold"/>
              </a:rPr>
              <a:t>Сведения ф. 0503173</a:t>
            </a:r>
            <a:endParaRPr b="0" lang="en-US" sz="3000" spc="-1" strike="noStrike">
              <a:solidFill>
                <a:srgbClr val="ffb601"/>
              </a:solidFill>
              <a:latin typeface="Segoe Semibold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476280" y="1042920"/>
            <a:ext cx="8443800" cy="52945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233280" y="1673280"/>
            <a:ext cx="3240000" cy="4753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6E79-F8FC-45BE-A5F6-CBB0F69F5509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254160" y="476280"/>
            <a:ext cx="8710560" cy="52354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87480"/>
            <a:ext cx="8444160" cy="38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Segoe Semibold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Segoe Semibold"/>
              </a:rPr>
              <a:t>ф. 0503176</a:t>
            </a:r>
            <a:endParaRPr b="0" lang="en-US" sz="24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3"/>
          <p:cNvSpPr/>
          <p:nvPr/>
        </p:nvSpPr>
        <p:spPr>
          <a:xfrm>
            <a:off x="613872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0C88-1EB0-4A5B-99BD-EAC82D8F2FEF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569440" cy="5295960"/>
          </a:xfrm>
          <a:prstGeom prst="rect">
            <a:avLst/>
          </a:prstGeom>
          <a:ln w="0">
            <a:noFill/>
          </a:ln>
        </p:spPr>
      </p:pic>
      <p:sp>
        <p:nvSpPr>
          <p:cNvPr id="202" name="Line 4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6432480" y="-35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5076720" y="4626000"/>
            <a:ext cx="3888000" cy="1251000"/>
          </a:xfrm>
          <a:prstGeom prst="wedgeRoundRectCallout">
            <a:avLst>
              <a:gd name="adj1" fmla="val -34481"/>
              <a:gd name="adj2" fmla="val -50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ализация основных направлений произведенных расходов +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детализация по КБК (по решению Ф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22120" y="44280"/>
          <a:ext cx="8813880" cy="279720"/>
        </p:xfrm>
        <a:graphic>
          <a:graphicData uri="http://schemas.openxmlformats.org/drawingml/2006/table">
            <a:tbl>
              <a:tblPr/>
              <a:tblGrid>
                <a:gridCol w="7612200"/>
                <a:gridCol w="1201680"/>
              </a:tblGrid>
              <a:tr h="2797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од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формы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по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ОК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503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09" name="Rectangle 84"/>
          <p:cNvSpPr/>
          <p:nvPr/>
        </p:nvSpPr>
        <p:spPr>
          <a:xfrm>
            <a:off x="179280" y="527040"/>
            <a:ext cx="8785440" cy="2797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Сведения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об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спользовании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информационо – коммуникационных технологий</a:t>
            </a:r>
            <a:r>
              <a:rPr b="1" lang="ru-RU" sz="1600" spc="-1" strike="noStrike">
                <a:solidFill>
                  <a:srgbClr val="660066"/>
                </a:solidFill>
                <a:latin typeface="a_FuturaOrto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_FuturaOrto"/>
              </a:rPr>
              <a:t>(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годовая</a:t>
            </a:r>
            <a:r>
              <a:rPr b="1" lang="ru-RU" sz="1200" spc="-1" strike="noStrike">
                <a:solidFill>
                  <a:srgbClr val="ff0000"/>
                </a:solidFill>
                <a:latin typeface="a_FuturaOrt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CB7B-23BA-450C-B362-DFFE4335A13D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79280" y="115920"/>
          <a:ext cx="8748720" cy="5684760"/>
        </p:xfrm>
        <a:graphic>
          <a:graphicData uri="http://schemas.openxmlformats.org/drawingml/2006/table">
            <a:tbl>
              <a:tblPr/>
              <a:tblGrid>
                <a:gridCol w="615960"/>
                <a:gridCol w="615960"/>
                <a:gridCol w="615960"/>
                <a:gridCol w="947880"/>
                <a:gridCol w="1641240"/>
                <a:gridCol w="385920"/>
                <a:gridCol w="1085760"/>
                <a:gridCol w="376200"/>
                <a:gridCol w="308160"/>
                <a:gridCol w="615960"/>
                <a:gridCol w="615960"/>
                <a:gridCol w="307800"/>
                <a:gridCol w="615960"/>
              </a:tblGrid>
              <a:tr h="39996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503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gridSpan="6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об использовании информационно-коммуникационных технолог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расходов по Б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новные цел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ед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Проектирование прикладных систем и информационно-коммуникационной инфраструктуры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4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технической документ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 gridSpan="4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нормативных правовых а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прочих докумен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Разработка (доработка) программного обеспечения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программного обеспечения (приобретение исключительных прав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работка специализированного программного обеспечения прикладных систе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Капитальные вложения в объекты информационно-коммуникационной инфраструктур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 gridSpan="7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ительство специализированных зданий (помещений) для размещения технических средств и персон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ые капитальные вло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обретение оборудования и предустановленного программного обеспечения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обретение автоматизированных рабочих мест, транспортно-коммуникационного оборудования, серверного, периферийного и др. обору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слуги по доставке и складированию оборудования, не включая расходы по закупке запасных инструментов и принадлежностей (комплектующих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онтажные и пуско-наладочные работы поставляемых технических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gridSpan="5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уществление комплекса работ по специальным проверкам и исследования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417C-7404-4F48-A886-A2C2DFD6B80B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26F4-2540-4255-A515-775E49D96C4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16000" y="115920"/>
          <a:ext cx="8748720" cy="5513400"/>
        </p:xfrm>
        <a:graphic>
          <a:graphicData uri="http://schemas.openxmlformats.org/drawingml/2006/table">
            <a:tbl>
              <a:tblPr/>
              <a:tblGrid>
                <a:gridCol w="615960"/>
                <a:gridCol w="615960"/>
                <a:gridCol w="615960"/>
                <a:gridCol w="947520"/>
                <a:gridCol w="300240"/>
                <a:gridCol w="1341360"/>
                <a:gridCol w="384120"/>
                <a:gridCol w="1087560"/>
                <a:gridCol w="376200"/>
                <a:gridCol w="307800"/>
                <a:gridCol w="615960"/>
                <a:gridCol w="615960"/>
                <a:gridCol w="306360"/>
                <a:gridCol w="617760"/>
              </a:tblGrid>
              <a:tr h="39996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формы по ОКУ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503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040">
                <a:tc gridSpan="7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ведения об использовании информационно-коммуникационных технолог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20"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именование показ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д расходов по Б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мма, ру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сновные цел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ро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изведенны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сход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40"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marL="228600" indent="-2286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 Приобретение неисключительных прав на программное обеспечение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 Услуги по аренде оборудования , всег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 Подключение (обеспечение) к внешним информационным ресурсам 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gridSpan="3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оступ к телефонной сети связи общего пользования, предоставление доступа к услугам междугородной и международной связ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 Эксплуатационные расходы на информационно-коммуникационные технологии 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еспечение функционирования и поддержка работоспособности  прикладного и системного программного обеспе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техническое обслуживания аппаратного обеспечения  включающее контроль технического состоя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. Обучение сотрудников в области информационно-коммуникационных технологий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аботка курсов  для обуч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учение пользователей создаваемых  прикладных систем (П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 gridSpan="6">
                  <a:txBody>
                    <a:bodyPr lIns="12600" rIns="12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чее обучение в области информационно-коммуникационных технолог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DE96-A6BA-4754-863B-0E867F9E0FB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118680" y="-81900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льная записка (ф. 0503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415240" y="235080"/>
            <a:ext cx="52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льная записк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(ф. 0503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143000" y="1633680"/>
            <a:ext cx="18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234800" y="76500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екстов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962520" y="2749680"/>
            <a:ext cx="183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451560" y="76500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000" y="1268280"/>
            <a:ext cx="475128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Организационная структура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Результаты деятельности субъ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Анализ отчета об исполн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субъектом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Анализ показателей финанс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и субъекта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рочие вопросы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а бюджетной отчетности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364000" y="1268280"/>
            <a:ext cx="3635640" cy="432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уются в соответств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ребовани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Инструкции № 191н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одерж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яснения отд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казателей испол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4716360" y="3645000"/>
            <a:ext cx="792360" cy="215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90D3-4523-45AC-8E8A-85BD2DEC7EF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7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6"/>
          <p:cNvSpPr/>
          <p:nvPr/>
        </p:nvSpPr>
        <p:spPr>
          <a:xfrm>
            <a:off x="2321640" y="666720"/>
            <a:ext cx="260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8497a"/>
                </a:solidFill>
                <a:latin typeface="Arial"/>
              </a:rPr>
              <a:t>По приносящей доход деяте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7"/>
          <p:cNvSpPr/>
          <p:nvPr/>
        </p:nvSpPr>
        <p:spPr>
          <a:xfrm>
            <a:off x="302040" y="2563920"/>
            <a:ext cx="152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* * * * * * * * * * * * * * * * * * *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8"/>
          <p:cNvSpPr/>
          <p:nvPr/>
        </p:nvSpPr>
        <p:spPr>
          <a:xfrm>
            <a:off x="2916360" y="256536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20121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9"/>
          <p:cNvSpPr/>
          <p:nvPr/>
        </p:nvSpPr>
        <p:spPr>
          <a:xfrm>
            <a:off x="4718520" y="2565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0"/>
          <p:cNvSpPr/>
          <p:nvPr/>
        </p:nvSpPr>
        <p:spPr>
          <a:xfrm>
            <a:off x="6012000" y="2565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1"/>
          <p:cNvSpPr/>
          <p:nvPr/>
        </p:nvSpPr>
        <p:spPr>
          <a:xfrm>
            <a:off x="7166520" y="2565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2"/>
          <p:cNvSpPr/>
          <p:nvPr/>
        </p:nvSpPr>
        <p:spPr>
          <a:xfrm>
            <a:off x="8388360" y="2565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3"/>
          <p:cNvSpPr/>
          <p:nvPr/>
        </p:nvSpPr>
        <p:spPr>
          <a:xfrm>
            <a:off x="6012000" y="3789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4"/>
          <p:cNvSpPr/>
          <p:nvPr/>
        </p:nvSpPr>
        <p:spPr>
          <a:xfrm>
            <a:off x="2916360" y="378936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20121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5"/>
          <p:cNvSpPr/>
          <p:nvPr/>
        </p:nvSpPr>
        <p:spPr>
          <a:xfrm>
            <a:off x="4718520" y="3789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6"/>
          <p:cNvSpPr/>
          <p:nvPr/>
        </p:nvSpPr>
        <p:spPr>
          <a:xfrm>
            <a:off x="7238160" y="378936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7"/>
          <p:cNvSpPr/>
          <p:nvPr/>
        </p:nvSpPr>
        <p:spPr>
          <a:xfrm>
            <a:off x="8317080" y="378936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8"/>
          <p:cNvSpPr/>
          <p:nvPr/>
        </p:nvSpPr>
        <p:spPr>
          <a:xfrm>
            <a:off x="7236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9"/>
          <p:cNvSpPr/>
          <p:nvPr/>
        </p:nvSpPr>
        <p:spPr>
          <a:xfrm>
            <a:off x="6012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0"/>
          <p:cNvSpPr/>
          <p:nvPr/>
        </p:nvSpPr>
        <p:spPr>
          <a:xfrm>
            <a:off x="9036000" y="321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1"/>
          <p:cNvSpPr/>
          <p:nvPr/>
        </p:nvSpPr>
        <p:spPr>
          <a:xfrm>
            <a:off x="478800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2"/>
          <p:cNvSpPr/>
          <p:nvPr/>
        </p:nvSpPr>
        <p:spPr>
          <a:xfrm>
            <a:off x="327672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3"/>
          <p:cNvSpPr/>
          <p:nvPr/>
        </p:nvSpPr>
        <p:spPr>
          <a:xfrm>
            <a:off x="8388360" y="609300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4"/>
          <p:cNvSpPr/>
          <p:nvPr/>
        </p:nvSpPr>
        <p:spPr>
          <a:xfrm>
            <a:off x="4645440" y="638172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35 4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5"/>
          <p:cNvSpPr/>
          <p:nvPr/>
        </p:nvSpPr>
        <p:spPr>
          <a:xfrm>
            <a:off x="7095240" y="638172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294 4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6"/>
          <p:cNvSpPr/>
          <p:nvPr/>
        </p:nvSpPr>
        <p:spPr>
          <a:xfrm>
            <a:off x="8388360" y="638172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7"/>
          <p:cNvSpPr/>
          <p:nvPr/>
        </p:nvSpPr>
        <p:spPr>
          <a:xfrm>
            <a:off x="6012000" y="6308640"/>
            <a:ext cx="21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28497a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8"/>
          <p:cNvSpPr/>
          <p:nvPr/>
        </p:nvSpPr>
        <p:spPr>
          <a:xfrm>
            <a:off x="6498360" y="404640"/>
            <a:ext cx="66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(годовая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9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AF05-5C4F-41E1-B114-6A9E64A1D4F1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677880" y="960480"/>
            <a:ext cx="7853400" cy="54594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659640" y="44280"/>
            <a:ext cx="2394000" cy="3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4000"/>
              </a:srgbClr>
            </a:outerShdw>
          </a:effectLst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Segoe Semibold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Segoe Semibold"/>
              </a:rPr>
              <a:t>ф. 0503182</a:t>
            </a:r>
            <a:endParaRPr b="0" lang="en-US" sz="2000" spc="-1" strike="noStrike">
              <a:solidFill>
                <a:srgbClr val="ffb601"/>
              </a:solidFill>
              <a:latin typeface="Segoe Semibold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1A84-ECCE-43A8-B95B-31B8AC9930F4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4920" y="55440"/>
            <a:ext cx="903600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Сведения об основных направлениях деятельности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учреждения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Таблица №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6360" y="357120"/>
          <a:ext cx="9036360" cy="4641840"/>
        </p:xfrm>
        <a:graphic>
          <a:graphicData uri="http://schemas.openxmlformats.org/drawingml/2006/table">
            <a:tbl>
              <a:tblPr/>
              <a:tblGrid>
                <a:gridCol w="2914920"/>
                <a:gridCol w="4373280"/>
                <a:gridCol w="1748160"/>
              </a:tblGrid>
              <a:tr h="39852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Наименование цели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Краткая 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авовое обос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8600">
                <a:tc>
                  <a:txBody>
                    <a:bodyPr lIns="36000" rIns="36000" tIns="0" bIns="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.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Оказание медицинской помощи населен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рачебная помощь (акушерское дело, лечебное дело, стоматология, эпидемиология, лабораторная диагностика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 Амбулаторно-поликлиническая помощь, в том числе в условиях дневного стационара и стационара на дому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 Работы и услуги по экспертизе временной нетрудоспособност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Работы и услуги по экспертизе (контроль) качества медицинской помощи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Работы и услуги по предварительным и периодическим медицинским</a:t>
                      </a:r>
                      <a:r>
                        <a:rPr b="1" lang="en-US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28497a"/>
                          </a:solidFill>
                          <a:latin typeface="Arial"/>
                        </a:rPr>
                        <a:t>осмотрам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аботы и услуги по профилактической медицине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Устав,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Закон о здравоохранен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 о порядке предоставления платных услуг населению лиценз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8104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. Оказание платных медицинских услу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Оказание населению дополнительных к гарантированному объему бесплатной медицинской помощи услуг в виде профилактической, лечебно-диагностической, реабилитационной, протезно-ортопедической и зубопротезной помощи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158"/>
          <p:cNvSpPr/>
          <p:nvPr/>
        </p:nvSpPr>
        <p:spPr>
          <a:xfrm>
            <a:off x="0" y="5004720"/>
            <a:ext cx="9144000" cy="17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аблица оформляется главным распорядителем (распорядителем), получателем средств бюджета, администратором поступлений в бюджет, органом, организующим исполнение бюджета, органом, осуществляющим кассовое обслуживание исполнения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ются цели, для исполнения которых создан и функционирует субъ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ется краткая характеристика целей деятельности путем отражения основных направлений деятельности и функций субъекта бюджетной отчет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графе 3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указывается правовое обоснование установленных целей и функций в соответствии с действующими нормативными правовыми и организационно-распорядительными доку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58A6-AFD7-4CA8-B4FC-7CBC14576278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790560"/>
          <a:ext cx="9144000" cy="5813280"/>
        </p:xfrm>
        <a:graphic>
          <a:graphicData uri="http://schemas.openxmlformats.org/drawingml/2006/table">
            <a:tbl>
              <a:tblPr/>
              <a:tblGrid>
                <a:gridCol w="1979640"/>
                <a:gridCol w="1338120"/>
                <a:gridCol w="959040"/>
                <a:gridCol w="1031760"/>
                <a:gridCol w="3835440"/>
              </a:tblGrid>
              <a:tr h="449640">
                <a:tc rowSpan="2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нятые 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Распорядительные докуме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ы принятых 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Но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Segoe Semibold"/>
                          <a:ea typeface="Times New Roman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376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ведение нормативов обеспечения сотрудников канцелярскими принадлежност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кращение расходов по статье 340 «Увеличение стоимости материальных запас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ановка счетчиков воды, теп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ономия бюджетных средств по КБК 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280"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существление контроля за ведением междугородних телефонных переговоров сотруд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2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0" rIns="54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Segoe Semibold"/>
                          <a:ea typeface="Times New Roman"/>
                        </a:rPr>
                        <a:t>Экономия бюджетных средств за счет  уменьшения расходов по КБК  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5120">
                <a:tc gridSpan="5">
                  <a:txBody>
                    <a:bodyPr lIns="54000" rIns="54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Информация в таблице характеризует меры по повышению эффектив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бюджетных средств, проводимые субъектом бюджетной отчетности на основании организационно-распорядительных документов главного распорядителя (распорядителя) и получателя средств бюдже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8497a"/>
                          </a:solidFill>
                          <a:latin typeface="Segoe Semibold"/>
                        </a:rPr>
                        <a:t>Таблица оформляется  получателем средств бюджета.</a:t>
                      </a: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Segoe Semibold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56"/>
          <p:cNvSpPr/>
          <p:nvPr/>
        </p:nvSpPr>
        <p:spPr>
          <a:xfrm>
            <a:off x="34920" y="-61560"/>
            <a:ext cx="9109080" cy="7869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ведения о мерах по повышению эффективности расход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бюджетных средств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Таблица № 2</a:t>
            </a:r>
            <a:r>
              <a:rPr b="1" lang="ru-RU" sz="1400" spc="-1" strike="noStrike">
                <a:solidFill>
                  <a:srgbClr val="a50021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76C4-0F42-4A62-98B7-D32EE86FF992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9280" y="189000"/>
            <a:ext cx="8785440" cy="27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Св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  <a:ea typeface="Times New Roman"/>
              </a:rPr>
              <a:t>едения о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 исполнении текстовых статей закона (решения) о бюджете</a:t>
            </a:r>
            <a:r>
              <a:rPr b="1" lang="ru-RU" sz="1200" spc="-1" strike="noStrike">
                <a:solidFill>
                  <a:srgbClr val="660066"/>
                </a:solidFill>
                <a:latin typeface="Arial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Таблица №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9280" y="549360"/>
          <a:ext cx="8778960" cy="2351160"/>
        </p:xfrm>
        <a:graphic>
          <a:graphicData uri="http://schemas.openxmlformats.org/drawingml/2006/table">
            <a:tbl>
              <a:tblPr/>
              <a:tblGrid>
                <a:gridCol w="2925720"/>
                <a:gridCol w="2927520"/>
                <a:gridCol w="2925720"/>
              </a:tblGrid>
              <a:tr h="7351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Содержание статьи зак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(решения) о бюдж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Результат 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Причины неис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66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08000" y="2781360"/>
          <a:ext cx="8893080" cy="3851280"/>
        </p:xfrm>
        <a:graphic>
          <a:graphicData uri="http://schemas.openxmlformats.org/drawingml/2006/table">
            <a:tbl>
              <a:tblPr/>
              <a:tblGrid>
                <a:gridCol w="8893080"/>
              </a:tblGrid>
              <a:tr h="3916080">
                <a:tc>
                  <a:txBody>
                    <a:bodyPr lIns="18000" rIns="18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аблица № 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формляется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лавным распорядителем (распорядителем), администратором поступлений в бюджет, органом, организующим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сполнение бюджета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блица содержит результаты исполнения текстовых статей закона (решения) о бюджет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казывается содержание текстовой статьи закона (решения) о бюджете,  имеющей отношение к субъекту бюджетной отчет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37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2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ывается результат исполнения положений текстовых ста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указанием показателей, характеризующих степень из результативности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графе 3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ываются причины неисполнения положений текстовых ста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7e993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4143-7325-45BE-BA9C-4F70377A2036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4920" y="404640"/>
          <a:ext cx="9109080" cy="6231240"/>
        </p:xfrm>
        <a:graphic>
          <a:graphicData uri="http://schemas.openxmlformats.org/drawingml/2006/table">
            <a:tbl>
              <a:tblPr/>
              <a:tblGrid>
                <a:gridCol w="2881440"/>
                <a:gridCol w="1368360"/>
                <a:gridCol w="2158920"/>
                <a:gridCol w="2700360"/>
              </a:tblGrid>
              <a:tr h="9680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Наименование объекта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Код счета бюджетного уч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Характеристика метода оценки и момент отражения операции в учет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Правовое обос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928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0680"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91360">
                <a:tc gridSpan="4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Информация в таблице характеризует использованные в отчетном периоде особенности отражения в бюджетном учете операций  в части установленного Инструкцией по бюджетному учету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права самостоятельного определения таких особенностей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и отраслевых особенностей бюджетного учета,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разработанных соответствующими федеральными органами исполнительной власти и  утвержденных в установленном порядк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Таблица оформляется главным распорядителем (распорядителем), получателем средств бюджета, администратором поступлений в бюджет, органом, организующим исполнение бюджета, органом, осуществляющим кассовое обслуживание исполнения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наименование объекта бюджетного учета, в отношении которого применяются особенности при отражении операций в бюджетном учет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код счета бюджетного учета, на котором отражаются указанные в графе 1 объекты бюджетного уч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характеристика применяемых особенностей бюджетного учета в отношении указанных в графе 1 объектов бюджетного уче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Segoe Semibold"/>
                        </a:rPr>
                        <a:t>В графе 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Segoe Semibold"/>
                        </a:rPr>
                        <a:t> указывается правовое обоснование применения определенных в графе 3 особенностей (особенности, определенные исходя из положений Инструкции по бюджетному учету и организационно-распорядительных документов соответствующих федеральных органов исполнительной власти, введенных в действие в установленном порядке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0" name="Rectangle 48"/>
          <p:cNvSpPr/>
          <p:nvPr/>
        </p:nvSpPr>
        <p:spPr>
          <a:xfrm>
            <a:off x="0" y="45720"/>
            <a:ext cx="914400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ведения о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 особенностях ведения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ного учета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Таблица №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D26D-73C4-4FA5-9D40-01D9AB75E063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15"/>
          <p:cNvSpPr/>
          <p:nvPr/>
        </p:nvSpPr>
        <p:spPr>
          <a:xfrm>
            <a:off x="592200" y="0"/>
            <a:ext cx="8551800" cy="27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веден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обенностя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еден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юджетного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дов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4920" y="333360"/>
          <a:ext cx="9144000" cy="6600960"/>
        </p:xfrm>
        <a:graphic>
          <a:graphicData uri="http://schemas.openxmlformats.org/drawingml/2006/table">
            <a:tbl>
              <a:tblPr/>
              <a:tblGrid>
                <a:gridCol w="2247840"/>
                <a:gridCol w="920880"/>
                <a:gridCol w="4895640"/>
                <a:gridCol w="1079640"/>
              </a:tblGrid>
              <a:tr h="58392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е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мент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ажен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овое обос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финансов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ив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62584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1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жд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руж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готовл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возмездно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уче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говор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р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)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ночна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ном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точ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ываю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началь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о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носте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жд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режд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0523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орт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4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3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тель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3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40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ключитель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 %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сов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М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ю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0000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ртиза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яе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ейн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о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численн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зног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месячн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н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86184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ы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010500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–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ту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вщ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ис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одитс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рукц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_FuturaOrto"/>
                        </a:rPr>
                        <a:t> 162-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C6BF-C4CA-4BF2-AFDD-B5CBB3F70500}" type="slidenum">
              <a:rPr b="0" lang="en-US" sz="1400" spc="-1" strike="noStrike">
                <a:solidFill>
                  <a:srgbClr val="22233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0"/>
          <a:ext cx="9109080" cy="6858000"/>
        </p:xfrm>
        <a:graphic>
          <a:graphicData uri="http://schemas.openxmlformats.org/drawingml/2006/table">
            <a:tbl>
              <a:tblPr/>
              <a:tblGrid>
                <a:gridCol w="9109080"/>
              </a:tblGrid>
              <a:tr h="6858000">
                <a:tc>
                  <a:txBody>
                    <a:bodyPr lIns="36000" rIns="36000" tIns="0" bIns="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35"/>
          <p:cNvSpPr/>
          <p:nvPr/>
        </p:nvSpPr>
        <p:spPr>
          <a:xfrm>
            <a:off x="179280" y="239400"/>
            <a:ext cx="8769960" cy="310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Сведения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результатах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мероприятий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внутреннего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контроля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аблиц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44360" y="981000"/>
          <a:ext cx="8964720" cy="4270320"/>
        </p:xfrm>
        <a:graphic>
          <a:graphicData uri="http://schemas.openxmlformats.org/drawingml/2006/table">
            <a:tbl>
              <a:tblPr/>
              <a:tblGrid>
                <a:gridCol w="1638360"/>
                <a:gridCol w="4411800"/>
                <a:gridCol w="1457280"/>
                <a:gridCol w="1457280"/>
              </a:tblGrid>
              <a:tr h="1226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варительн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дую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явленные нару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ы по устранению выявленных нарушен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24948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58392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варитель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авле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олне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едующи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ов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10443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щ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ы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пользование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ст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ы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ным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разделениям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ени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четност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ленно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е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ректировк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формлением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ходимы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сновывающих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уме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  <a:tr h="948960"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Последующий 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Проверка соответствия перечня и номенклатуры полученных учреждением товаров (работ, услуг) перечню и номенклатуре оплачиваемых товаров (работ, услуг) согласно дого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ановление факта получения основных средств, оплаченных по КБК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" rIns="72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ьмо в ФКУ о корректиров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50000">
                          <a:srgbClr val="ffffff"/>
                        </a:gs>
                        <a:gs pos="100000">
                          <a:srgbClr val="ccc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3:03:43Z</dcterms:created>
  <dc:creator>PETROV</dc:creator>
  <dc:description/>
  <dc:language>en-US</dc:language>
  <cp:lastModifiedBy>Валентина</cp:lastModifiedBy>
  <cp:lastPrinted>2003-10-16T11:02:04Z</cp:lastPrinted>
  <dcterms:modified xsi:type="dcterms:W3CDTF">2011-12-05T13:31:54Z</dcterms:modified>
  <cp:revision>1777</cp:revision>
  <dc:subject/>
  <dc:title>Заголовок слайда отсутствует</dc:title>
</cp:coreProperties>
</file>