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-360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81440" y="-360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9640" y="742680"/>
            <a:ext cx="487044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_FuturaOrt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1800" y="92847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81440" y="92847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ru-RU" sz="1000" spc="-1" strike="noStrike">
                <a:solidFill>
                  <a:srgbClr val="000000"/>
                </a:solidFill>
                <a:latin typeface="a_FuturaOr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7335B1B-B79D-47A0-B7B8-2F7D74328BAE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D12637D-1A50-4508-A5B4-42AE33BC6F5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A3C3C9F-7504-4DF8-A1AD-C01639F16F7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546BF66-ADC9-451E-99B8-8C852D81BF8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A8B3CFE-6F1C-4359-8FA7-8F85E1494CCA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287E038-90A1-4A0C-A40E-B88DC1C2E1D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F5F7E2A-690C-4482-AF64-CEEAF872916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73DB462-0CC3-4327-8C22-D031C17536D7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192362E-73A4-4A31-B3A4-1865EF46DA43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BFE98D2-8D4B-439D-8DC5-CDFAA0DB067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C4EF050-E89E-42E3-AE59-00A832BBD55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A9C240F-1973-4A42-88BE-C1DC3AB6BC3A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8DB43D6-9775-497A-8B25-3B5DA264D94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2A71D2B-3ABD-486D-B438-E98088438DF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DBFDC4A-2886-42A5-9E6F-09D2D2C0D64A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D7C9843-B230-4A43-889F-DF20EA1F3DFA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3ED55FD6-0DB2-4C68-BAC2-8D69D3F7E58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DCC01C6-DB74-4662-82CF-17BE09C00BE7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F2220EF-04FE-4261-B6BC-30D183001007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0F64-0887-4391-9A9C-C087EC9BA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B8C2-B083-44E2-8A99-0BDAC437F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BF5D-C7E4-4EDA-BE91-1BC353C55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E80F-910D-4844-8980-D81F8AE28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225-10D2-411F-A6BF-5FCF68B036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587-2D46-4780-BB70-F4B537910F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AE29-34AA-4535-958B-AB9DEBE4E9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FFC-B99D-466D-AF94-94729E45FD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2162-C54D-4085-9FF9-79C85CE6D0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6E4-7A82-47ED-BA21-34A036E04F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44D-15DF-4646-BBAB-DF3C2AB0F0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B0DB-E57E-4767-9DE4-067FC8C4B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DF0-A5A3-4BF8-A701-6BF0B01531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AFA-9A29-4644-A1CA-DAAD79DA73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B64-AB16-4F08-BA99-A3A6393F50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8AC-3079-4738-92D7-D1C137BBCA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5D7-6F0E-4A04-AC43-91F7F0D368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7B0B6-D016-488E-94AB-08D1355F0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FF42B-3997-4EE5-9C65-2615ACF3B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A23C4-FB6E-4C87-A3F3-B2A0C2F91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6816-5700-4C48-A8C2-CD065AE55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3339-429E-42D9-BF93-DE542E50F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D52E-DCDA-4A60-9A80-D441B3B2C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142DC-B15C-4BE4-ACE9-F09AEAF7A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A7A1-FDBD-4D16-817C-7D9D0E36D87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9"/>
          <p:cNvGrpSpPr/>
          <p:nvPr/>
        </p:nvGrpSpPr>
        <p:grpSpPr>
          <a:xfrm>
            <a:off x="7667640" y="333360"/>
            <a:ext cx="898560" cy="1278000"/>
            <a:chOff x="7667640" y="333360"/>
            <a:chExt cx="898560" cy="1278000"/>
          </a:xfrm>
        </p:grpSpPr>
        <p:sp>
          <p:nvSpPr>
            <p:cNvPr id="41" name="Freeform 7"/>
            <p:cNvSpPr/>
            <p:nvPr/>
          </p:nvSpPr>
          <p:spPr>
            <a:xfrm>
              <a:off x="7667640" y="333360"/>
              <a:ext cx="898560" cy="12780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414" h="2013">
                  <a:moveTo>
                    <a:pt x="440" y="1445"/>
                  </a:moveTo>
                  <a:lnTo>
                    <a:pt x="415" y="1404"/>
                  </a:lnTo>
                  <a:lnTo>
                    <a:pt x="393" y="1363"/>
                  </a:lnTo>
                  <a:lnTo>
                    <a:pt x="371" y="1321"/>
                  </a:lnTo>
                  <a:lnTo>
                    <a:pt x="352" y="1279"/>
                  </a:lnTo>
                  <a:lnTo>
                    <a:pt x="334" y="1236"/>
                  </a:lnTo>
                  <a:lnTo>
                    <a:pt x="317" y="1193"/>
                  </a:lnTo>
                  <a:lnTo>
                    <a:pt x="301" y="1149"/>
                  </a:lnTo>
                  <a:lnTo>
                    <a:pt x="287" y="1105"/>
                  </a:lnTo>
                  <a:lnTo>
                    <a:pt x="275" y="1061"/>
                  </a:lnTo>
                  <a:lnTo>
                    <a:pt x="263" y="1017"/>
                  </a:lnTo>
                  <a:lnTo>
                    <a:pt x="252" y="972"/>
                  </a:lnTo>
                  <a:lnTo>
                    <a:pt x="243" y="927"/>
                  </a:lnTo>
                  <a:lnTo>
                    <a:pt x="234" y="881"/>
                  </a:lnTo>
                  <a:lnTo>
                    <a:pt x="227" y="836"/>
                  </a:lnTo>
                  <a:lnTo>
                    <a:pt x="220" y="790"/>
                  </a:lnTo>
                  <a:lnTo>
                    <a:pt x="214" y="744"/>
                  </a:lnTo>
                  <a:lnTo>
                    <a:pt x="208" y="698"/>
                  </a:lnTo>
                  <a:lnTo>
                    <a:pt x="203" y="652"/>
                  </a:lnTo>
                  <a:lnTo>
                    <a:pt x="200" y="605"/>
                  </a:lnTo>
                  <a:lnTo>
                    <a:pt x="196" y="559"/>
                  </a:lnTo>
                  <a:lnTo>
                    <a:pt x="193" y="512"/>
                  </a:lnTo>
                  <a:lnTo>
                    <a:pt x="191" y="466"/>
                  </a:lnTo>
                  <a:lnTo>
                    <a:pt x="188" y="419"/>
                  </a:lnTo>
                  <a:lnTo>
                    <a:pt x="186" y="372"/>
                  </a:lnTo>
                  <a:lnTo>
                    <a:pt x="185" y="325"/>
                  </a:lnTo>
                  <a:lnTo>
                    <a:pt x="183" y="278"/>
                  </a:lnTo>
                  <a:lnTo>
                    <a:pt x="182" y="232"/>
                  </a:lnTo>
                  <a:lnTo>
                    <a:pt x="181" y="185"/>
                  </a:lnTo>
                  <a:lnTo>
                    <a:pt x="179" y="139"/>
                  </a:lnTo>
                  <a:lnTo>
                    <a:pt x="178" y="92"/>
                  </a:lnTo>
                  <a:lnTo>
                    <a:pt x="177" y="46"/>
                  </a:lnTo>
                  <a:lnTo>
                    <a:pt x="175" y="0"/>
                  </a:lnTo>
                  <a:lnTo>
                    <a:pt x="837" y="652"/>
                  </a:lnTo>
                  <a:lnTo>
                    <a:pt x="1370" y="1026"/>
                  </a:lnTo>
                  <a:lnTo>
                    <a:pt x="1294" y="1116"/>
                  </a:lnTo>
                  <a:lnTo>
                    <a:pt x="1414" y="1234"/>
                  </a:lnTo>
                  <a:lnTo>
                    <a:pt x="688" y="1725"/>
                  </a:lnTo>
                  <a:lnTo>
                    <a:pt x="673" y="1711"/>
                  </a:lnTo>
                  <a:lnTo>
                    <a:pt x="657" y="1697"/>
                  </a:lnTo>
                  <a:lnTo>
                    <a:pt x="641" y="1682"/>
                  </a:lnTo>
                  <a:lnTo>
                    <a:pt x="625" y="1667"/>
                  </a:lnTo>
                  <a:lnTo>
                    <a:pt x="609" y="1652"/>
                  </a:lnTo>
                  <a:lnTo>
                    <a:pt x="593" y="1636"/>
                  </a:lnTo>
                  <a:lnTo>
                    <a:pt x="577" y="1619"/>
                  </a:lnTo>
                  <a:lnTo>
                    <a:pt x="561" y="1602"/>
                  </a:lnTo>
                  <a:lnTo>
                    <a:pt x="545" y="1585"/>
                  </a:lnTo>
                  <a:lnTo>
                    <a:pt x="529" y="1567"/>
                  </a:lnTo>
                  <a:lnTo>
                    <a:pt x="513" y="1548"/>
                  </a:lnTo>
                  <a:lnTo>
                    <a:pt x="498" y="1529"/>
                  </a:lnTo>
                  <a:lnTo>
                    <a:pt x="483" y="1509"/>
                  </a:lnTo>
                  <a:lnTo>
                    <a:pt x="468" y="1488"/>
                  </a:lnTo>
                  <a:lnTo>
                    <a:pt x="454" y="1467"/>
                  </a:lnTo>
                  <a:lnTo>
                    <a:pt x="440" y="1445"/>
                  </a:lnTo>
                  <a:close/>
                  <a:moveTo>
                    <a:pt x="0" y="2012"/>
                  </a:moveTo>
                  <a:lnTo>
                    <a:pt x="153" y="1854"/>
                  </a:lnTo>
                  <a:lnTo>
                    <a:pt x="117" y="1854"/>
                  </a:lnTo>
                  <a:lnTo>
                    <a:pt x="132" y="1833"/>
                  </a:lnTo>
                  <a:lnTo>
                    <a:pt x="147" y="1816"/>
                  </a:lnTo>
                  <a:lnTo>
                    <a:pt x="162" y="1801"/>
                  </a:lnTo>
                  <a:lnTo>
                    <a:pt x="177" y="1788"/>
                  </a:lnTo>
                  <a:lnTo>
                    <a:pt x="193" y="1777"/>
                  </a:lnTo>
                  <a:lnTo>
                    <a:pt x="209" y="1769"/>
                  </a:lnTo>
                  <a:lnTo>
                    <a:pt x="225" y="1763"/>
                  </a:lnTo>
                  <a:lnTo>
                    <a:pt x="241" y="1758"/>
                  </a:lnTo>
                  <a:lnTo>
                    <a:pt x="256" y="1754"/>
                  </a:lnTo>
                  <a:lnTo>
                    <a:pt x="273" y="1752"/>
                  </a:lnTo>
                  <a:lnTo>
                    <a:pt x="289" y="1751"/>
                  </a:lnTo>
                  <a:lnTo>
                    <a:pt x="306" y="1751"/>
                  </a:lnTo>
                  <a:lnTo>
                    <a:pt x="322" y="1752"/>
                  </a:lnTo>
                  <a:lnTo>
                    <a:pt x="339" y="1754"/>
                  </a:lnTo>
                  <a:lnTo>
                    <a:pt x="355" y="1755"/>
                  </a:lnTo>
                  <a:lnTo>
                    <a:pt x="372" y="1757"/>
                  </a:lnTo>
                  <a:lnTo>
                    <a:pt x="412" y="1775"/>
                  </a:lnTo>
                  <a:lnTo>
                    <a:pt x="423" y="1794"/>
                  </a:lnTo>
                  <a:lnTo>
                    <a:pt x="423" y="1811"/>
                  </a:lnTo>
                  <a:lnTo>
                    <a:pt x="227" y="2012"/>
                  </a:lnTo>
                  <a:lnTo>
                    <a:pt x="132" y="2012"/>
                  </a:lnTo>
                  <a:lnTo>
                    <a:pt x="284" y="1855"/>
                  </a:lnTo>
                  <a:lnTo>
                    <a:pt x="244" y="1855"/>
                  </a:lnTo>
                  <a:lnTo>
                    <a:pt x="93" y="2012"/>
                  </a:lnTo>
                  <a:lnTo>
                    <a:pt x="0" y="2012"/>
                  </a:lnTo>
                  <a:close/>
                  <a:moveTo>
                    <a:pt x="270" y="2009"/>
                  </a:moveTo>
                  <a:lnTo>
                    <a:pt x="452" y="1819"/>
                  </a:lnTo>
                  <a:lnTo>
                    <a:pt x="458" y="1804"/>
                  </a:lnTo>
                  <a:lnTo>
                    <a:pt x="457" y="1789"/>
                  </a:lnTo>
                  <a:lnTo>
                    <a:pt x="447" y="1779"/>
                  </a:lnTo>
                  <a:lnTo>
                    <a:pt x="468" y="1762"/>
                  </a:lnTo>
                  <a:lnTo>
                    <a:pt x="479" y="1759"/>
                  </a:lnTo>
                  <a:lnTo>
                    <a:pt x="490" y="1757"/>
                  </a:lnTo>
                  <a:lnTo>
                    <a:pt x="501" y="1754"/>
                  </a:lnTo>
                  <a:lnTo>
                    <a:pt x="512" y="1752"/>
                  </a:lnTo>
                  <a:lnTo>
                    <a:pt x="522" y="1750"/>
                  </a:lnTo>
                  <a:lnTo>
                    <a:pt x="533" y="1749"/>
                  </a:lnTo>
                  <a:lnTo>
                    <a:pt x="544" y="1748"/>
                  </a:lnTo>
                  <a:lnTo>
                    <a:pt x="555" y="1747"/>
                  </a:lnTo>
                  <a:lnTo>
                    <a:pt x="566" y="1748"/>
                  </a:lnTo>
                  <a:lnTo>
                    <a:pt x="577" y="1749"/>
                  </a:lnTo>
                  <a:lnTo>
                    <a:pt x="587" y="1751"/>
                  </a:lnTo>
                  <a:lnTo>
                    <a:pt x="598" y="1752"/>
                  </a:lnTo>
                  <a:lnTo>
                    <a:pt x="609" y="1755"/>
                  </a:lnTo>
                  <a:lnTo>
                    <a:pt x="619" y="1759"/>
                  </a:lnTo>
                  <a:lnTo>
                    <a:pt x="630" y="1764"/>
                  </a:lnTo>
                  <a:lnTo>
                    <a:pt x="640" y="1769"/>
                  </a:lnTo>
                  <a:lnTo>
                    <a:pt x="656" y="1789"/>
                  </a:lnTo>
                  <a:lnTo>
                    <a:pt x="656" y="1807"/>
                  </a:lnTo>
                  <a:lnTo>
                    <a:pt x="644" y="1824"/>
                  </a:lnTo>
                  <a:lnTo>
                    <a:pt x="460" y="2012"/>
                  </a:lnTo>
                  <a:lnTo>
                    <a:pt x="364" y="2012"/>
                  </a:lnTo>
                  <a:lnTo>
                    <a:pt x="425" y="1949"/>
                  </a:lnTo>
                  <a:lnTo>
                    <a:pt x="385" y="1949"/>
                  </a:lnTo>
                  <a:lnTo>
                    <a:pt x="326" y="2009"/>
                  </a:lnTo>
                  <a:lnTo>
                    <a:pt x="270" y="2009"/>
                  </a:lnTo>
                  <a:close/>
                  <a:moveTo>
                    <a:pt x="427" y="1900"/>
                  </a:moveTo>
                  <a:lnTo>
                    <a:pt x="472" y="1856"/>
                  </a:lnTo>
                  <a:lnTo>
                    <a:pt x="486" y="1851"/>
                  </a:lnTo>
                  <a:lnTo>
                    <a:pt x="502" y="1851"/>
                  </a:lnTo>
                  <a:lnTo>
                    <a:pt x="503" y="1863"/>
                  </a:lnTo>
                  <a:lnTo>
                    <a:pt x="463" y="1900"/>
                  </a:lnTo>
                  <a:lnTo>
                    <a:pt x="427" y="1900"/>
                  </a:lnTo>
                  <a:close/>
                  <a:moveTo>
                    <a:pt x="745" y="1999"/>
                  </a:moveTo>
                  <a:lnTo>
                    <a:pt x="711" y="1979"/>
                  </a:lnTo>
                  <a:lnTo>
                    <a:pt x="737" y="1973"/>
                  </a:lnTo>
                  <a:lnTo>
                    <a:pt x="763" y="1964"/>
                  </a:lnTo>
                  <a:lnTo>
                    <a:pt x="783" y="1950"/>
                  </a:lnTo>
                  <a:lnTo>
                    <a:pt x="792" y="1954"/>
                  </a:lnTo>
                  <a:lnTo>
                    <a:pt x="801" y="1957"/>
                  </a:lnTo>
                  <a:lnTo>
                    <a:pt x="808" y="1960"/>
                  </a:lnTo>
                  <a:lnTo>
                    <a:pt x="815" y="1962"/>
                  </a:lnTo>
                  <a:lnTo>
                    <a:pt x="823" y="1962"/>
                  </a:lnTo>
                  <a:lnTo>
                    <a:pt x="830" y="1963"/>
                  </a:lnTo>
                  <a:lnTo>
                    <a:pt x="838" y="1963"/>
                  </a:lnTo>
                  <a:lnTo>
                    <a:pt x="847" y="1962"/>
                  </a:lnTo>
                  <a:lnTo>
                    <a:pt x="864" y="1954"/>
                  </a:lnTo>
                  <a:lnTo>
                    <a:pt x="878" y="1940"/>
                  </a:lnTo>
                  <a:lnTo>
                    <a:pt x="851" y="1939"/>
                  </a:lnTo>
                  <a:lnTo>
                    <a:pt x="829" y="1934"/>
                  </a:lnTo>
                  <a:lnTo>
                    <a:pt x="810" y="1926"/>
                  </a:lnTo>
                  <a:lnTo>
                    <a:pt x="910" y="1811"/>
                  </a:lnTo>
                  <a:lnTo>
                    <a:pt x="918" y="1797"/>
                  </a:lnTo>
                  <a:lnTo>
                    <a:pt x="913" y="1780"/>
                  </a:lnTo>
                  <a:lnTo>
                    <a:pt x="900" y="1767"/>
                  </a:lnTo>
                  <a:lnTo>
                    <a:pt x="907" y="1757"/>
                  </a:lnTo>
                  <a:lnTo>
                    <a:pt x="924" y="1751"/>
                  </a:lnTo>
                  <a:lnTo>
                    <a:pt x="946" y="1747"/>
                  </a:lnTo>
                  <a:lnTo>
                    <a:pt x="972" y="1751"/>
                  </a:lnTo>
                  <a:lnTo>
                    <a:pt x="986" y="1762"/>
                  </a:lnTo>
                  <a:lnTo>
                    <a:pt x="987" y="1779"/>
                  </a:lnTo>
                  <a:lnTo>
                    <a:pt x="984" y="1789"/>
                  </a:lnTo>
                  <a:lnTo>
                    <a:pt x="887" y="1890"/>
                  </a:lnTo>
                  <a:lnTo>
                    <a:pt x="901" y="1892"/>
                  </a:lnTo>
                  <a:lnTo>
                    <a:pt x="919" y="1890"/>
                  </a:lnTo>
                  <a:lnTo>
                    <a:pt x="1046" y="1762"/>
                  </a:lnTo>
                  <a:lnTo>
                    <a:pt x="1062" y="1752"/>
                  </a:lnTo>
                  <a:lnTo>
                    <a:pt x="1091" y="1749"/>
                  </a:lnTo>
                  <a:lnTo>
                    <a:pt x="1114" y="1763"/>
                  </a:lnTo>
                  <a:lnTo>
                    <a:pt x="1121" y="1782"/>
                  </a:lnTo>
                  <a:lnTo>
                    <a:pt x="1119" y="1794"/>
                  </a:lnTo>
                  <a:lnTo>
                    <a:pt x="931" y="1991"/>
                  </a:lnTo>
                  <a:lnTo>
                    <a:pt x="921" y="1994"/>
                  </a:lnTo>
                  <a:lnTo>
                    <a:pt x="911" y="1998"/>
                  </a:lnTo>
                  <a:lnTo>
                    <a:pt x="902" y="2001"/>
                  </a:lnTo>
                  <a:lnTo>
                    <a:pt x="893" y="2004"/>
                  </a:lnTo>
                  <a:lnTo>
                    <a:pt x="883" y="2005"/>
                  </a:lnTo>
                  <a:lnTo>
                    <a:pt x="874" y="2007"/>
                  </a:lnTo>
                  <a:lnTo>
                    <a:pt x="865" y="2009"/>
                  </a:lnTo>
                  <a:lnTo>
                    <a:pt x="856" y="2010"/>
                  </a:lnTo>
                  <a:lnTo>
                    <a:pt x="847" y="2011"/>
                  </a:lnTo>
                  <a:lnTo>
                    <a:pt x="838" y="2012"/>
                  </a:lnTo>
                  <a:lnTo>
                    <a:pt x="829" y="2012"/>
                  </a:lnTo>
                  <a:lnTo>
                    <a:pt x="819" y="2012"/>
                  </a:lnTo>
                  <a:lnTo>
                    <a:pt x="810" y="2012"/>
                  </a:lnTo>
                  <a:lnTo>
                    <a:pt x="801" y="2012"/>
                  </a:lnTo>
                  <a:lnTo>
                    <a:pt x="792" y="2012"/>
                  </a:lnTo>
                  <a:lnTo>
                    <a:pt x="783" y="2012"/>
                  </a:lnTo>
                  <a:lnTo>
                    <a:pt x="745" y="1999"/>
                  </a:lnTo>
                  <a:close/>
                  <a:moveTo>
                    <a:pt x="1059" y="2012"/>
                  </a:moveTo>
                  <a:lnTo>
                    <a:pt x="1017" y="1998"/>
                  </a:lnTo>
                  <a:lnTo>
                    <a:pt x="992" y="1986"/>
                  </a:lnTo>
                  <a:lnTo>
                    <a:pt x="987" y="1973"/>
                  </a:lnTo>
                  <a:lnTo>
                    <a:pt x="1145" y="1804"/>
                  </a:lnTo>
                  <a:lnTo>
                    <a:pt x="1150" y="1782"/>
                  </a:lnTo>
                  <a:lnTo>
                    <a:pt x="1141" y="1767"/>
                  </a:lnTo>
                  <a:lnTo>
                    <a:pt x="1152" y="1763"/>
                  </a:lnTo>
                  <a:lnTo>
                    <a:pt x="1163" y="1760"/>
                  </a:lnTo>
                  <a:lnTo>
                    <a:pt x="1175" y="1757"/>
                  </a:lnTo>
                  <a:lnTo>
                    <a:pt x="1186" y="1754"/>
                  </a:lnTo>
                  <a:lnTo>
                    <a:pt x="1197" y="1752"/>
                  </a:lnTo>
                  <a:lnTo>
                    <a:pt x="1208" y="1750"/>
                  </a:lnTo>
                  <a:lnTo>
                    <a:pt x="1220" y="1749"/>
                  </a:lnTo>
                  <a:lnTo>
                    <a:pt x="1231" y="1748"/>
                  </a:lnTo>
                  <a:lnTo>
                    <a:pt x="1243" y="1748"/>
                  </a:lnTo>
                  <a:lnTo>
                    <a:pt x="1253" y="1748"/>
                  </a:lnTo>
                  <a:lnTo>
                    <a:pt x="1265" y="1749"/>
                  </a:lnTo>
                  <a:lnTo>
                    <a:pt x="1277" y="1751"/>
                  </a:lnTo>
                  <a:lnTo>
                    <a:pt x="1288" y="1754"/>
                  </a:lnTo>
                  <a:lnTo>
                    <a:pt x="1300" y="1757"/>
                  </a:lnTo>
                  <a:lnTo>
                    <a:pt x="1312" y="1762"/>
                  </a:lnTo>
                  <a:lnTo>
                    <a:pt x="1324" y="1767"/>
                  </a:lnTo>
                  <a:lnTo>
                    <a:pt x="1338" y="1782"/>
                  </a:lnTo>
                  <a:lnTo>
                    <a:pt x="1340" y="1802"/>
                  </a:lnTo>
                  <a:lnTo>
                    <a:pt x="1332" y="1818"/>
                  </a:lnTo>
                  <a:lnTo>
                    <a:pt x="1244" y="1905"/>
                  </a:lnTo>
                  <a:lnTo>
                    <a:pt x="1238" y="1868"/>
                  </a:lnTo>
                  <a:lnTo>
                    <a:pt x="1217" y="1854"/>
                  </a:lnTo>
                  <a:lnTo>
                    <a:pt x="1173" y="1847"/>
                  </a:lnTo>
                  <a:lnTo>
                    <a:pt x="1149" y="1858"/>
                  </a:lnTo>
                  <a:lnTo>
                    <a:pt x="1121" y="1882"/>
                  </a:lnTo>
                  <a:lnTo>
                    <a:pt x="1105" y="1914"/>
                  </a:lnTo>
                  <a:lnTo>
                    <a:pt x="1101" y="1949"/>
                  </a:lnTo>
                  <a:lnTo>
                    <a:pt x="1123" y="1964"/>
                  </a:lnTo>
                  <a:lnTo>
                    <a:pt x="1159" y="1977"/>
                  </a:lnTo>
                  <a:lnTo>
                    <a:pt x="1200" y="1973"/>
                  </a:lnTo>
                  <a:lnTo>
                    <a:pt x="1166" y="2001"/>
                  </a:lnTo>
                  <a:lnTo>
                    <a:pt x="1118" y="2013"/>
                  </a:lnTo>
                  <a:lnTo>
                    <a:pt x="1059" y="2012"/>
                  </a:lnTo>
                  <a:close/>
                  <a:moveTo>
                    <a:pt x="700" y="1904"/>
                  </a:moveTo>
                  <a:lnTo>
                    <a:pt x="682" y="1892"/>
                  </a:lnTo>
                  <a:lnTo>
                    <a:pt x="687" y="1870"/>
                  </a:lnTo>
                  <a:lnTo>
                    <a:pt x="700" y="1856"/>
                  </a:lnTo>
                  <a:lnTo>
                    <a:pt x="723" y="1846"/>
                  </a:lnTo>
                  <a:lnTo>
                    <a:pt x="745" y="1856"/>
                  </a:lnTo>
                  <a:lnTo>
                    <a:pt x="745" y="1874"/>
                  </a:lnTo>
                  <a:lnTo>
                    <a:pt x="725" y="1897"/>
                  </a:lnTo>
                  <a:lnTo>
                    <a:pt x="700" y="1904"/>
                  </a:lnTo>
                  <a:close/>
                  <a:moveTo>
                    <a:pt x="497" y="2012"/>
                  </a:moveTo>
                  <a:lnTo>
                    <a:pt x="678" y="1826"/>
                  </a:lnTo>
                  <a:lnTo>
                    <a:pt x="687" y="1811"/>
                  </a:lnTo>
                  <a:lnTo>
                    <a:pt x="688" y="1793"/>
                  </a:lnTo>
                  <a:lnTo>
                    <a:pt x="674" y="1775"/>
                  </a:lnTo>
                  <a:lnTo>
                    <a:pt x="697" y="1762"/>
                  </a:lnTo>
                  <a:lnTo>
                    <a:pt x="707" y="1759"/>
                  </a:lnTo>
                  <a:lnTo>
                    <a:pt x="718" y="1757"/>
                  </a:lnTo>
                  <a:lnTo>
                    <a:pt x="729" y="1754"/>
                  </a:lnTo>
                  <a:lnTo>
                    <a:pt x="739" y="1752"/>
                  </a:lnTo>
                  <a:lnTo>
                    <a:pt x="749" y="1750"/>
                  </a:lnTo>
                  <a:lnTo>
                    <a:pt x="760" y="1749"/>
                  </a:lnTo>
                  <a:lnTo>
                    <a:pt x="771" y="1748"/>
                  </a:lnTo>
                  <a:lnTo>
                    <a:pt x="781" y="1747"/>
                  </a:lnTo>
                  <a:lnTo>
                    <a:pt x="792" y="1748"/>
                  </a:lnTo>
                  <a:lnTo>
                    <a:pt x="802" y="1749"/>
                  </a:lnTo>
                  <a:lnTo>
                    <a:pt x="813" y="1751"/>
                  </a:lnTo>
                  <a:lnTo>
                    <a:pt x="823" y="1752"/>
                  </a:lnTo>
                  <a:lnTo>
                    <a:pt x="834" y="1755"/>
                  </a:lnTo>
                  <a:lnTo>
                    <a:pt x="844" y="1759"/>
                  </a:lnTo>
                  <a:lnTo>
                    <a:pt x="855" y="1764"/>
                  </a:lnTo>
                  <a:lnTo>
                    <a:pt x="865" y="1769"/>
                  </a:lnTo>
                  <a:lnTo>
                    <a:pt x="879" y="1787"/>
                  </a:lnTo>
                  <a:lnTo>
                    <a:pt x="883" y="1802"/>
                  </a:lnTo>
                  <a:lnTo>
                    <a:pt x="878" y="1811"/>
                  </a:lnTo>
                  <a:lnTo>
                    <a:pt x="760" y="1941"/>
                  </a:lnTo>
                  <a:lnTo>
                    <a:pt x="747" y="1948"/>
                  </a:lnTo>
                  <a:lnTo>
                    <a:pt x="735" y="1953"/>
                  </a:lnTo>
                  <a:lnTo>
                    <a:pt x="724" y="1957"/>
                  </a:lnTo>
                  <a:lnTo>
                    <a:pt x="714" y="1960"/>
                  </a:lnTo>
                  <a:lnTo>
                    <a:pt x="704" y="1962"/>
                  </a:lnTo>
                  <a:lnTo>
                    <a:pt x="694" y="1962"/>
                  </a:lnTo>
                  <a:lnTo>
                    <a:pt x="684" y="1963"/>
                  </a:lnTo>
                  <a:lnTo>
                    <a:pt x="675" y="1963"/>
                  </a:lnTo>
                  <a:lnTo>
                    <a:pt x="644" y="1952"/>
                  </a:lnTo>
                  <a:lnTo>
                    <a:pt x="633" y="1941"/>
                  </a:lnTo>
                  <a:lnTo>
                    <a:pt x="561" y="2012"/>
                  </a:lnTo>
                  <a:lnTo>
                    <a:pt x="497" y="2012"/>
                  </a:lnTo>
                  <a:close/>
                </a:path>
              </a:pathLst>
            </a:custGeom>
            <a:solidFill>
              <a:srgbClr val="28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7821720" y="517680"/>
              <a:ext cx="669960" cy="815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1053" h="1287">
                  <a:moveTo>
                    <a:pt x="0" y="0"/>
                  </a:moveTo>
                  <a:lnTo>
                    <a:pt x="2" y="55"/>
                  </a:lnTo>
                  <a:lnTo>
                    <a:pt x="4" y="109"/>
                  </a:lnTo>
                  <a:lnTo>
                    <a:pt x="7" y="162"/>
                  </a:lnTo>
                  <a:lnTo>
                    <a:pt x="12" y="214"/>
                  </a:lnTo>
                  <a:lnTo>
                    <a:pt x="16" y="265"/>
                  </a:lnTo>
                  <a:lnTo>
                    <a:pt x="23" y="315"/>
                  </a:lnTo>
                  <a:lnTo>
                    <a:pt x="29" y="364"/>
                  </a:lnTo>
                  <a:lnTo>
                    <a:pt x="37" y="413"/>
                  </a:lnTo>
                  <a:lnTo>
                    <a:pt x="46" y="461"/>
                  </a:lnTo>
                  <a:lnTo>
                    <a:pt x="55" y="507"/>
                  </a:lnTo>
                  <a:lnTo>
                    <a:pt x="66" y="553"/>
                  </a:lnTo>
                  <a:lnTo>
                    <a:pt x="78" y="597"/>
                  </a:lnTo>
                  <a:lnTo>
                    <a:pt x="91" y="641"/>
                  </a:lnTo>
                  <a:lnTo>
                    <a:pt x="104" y="685"/>
                  </a:lnTo>
                  <a:lnTo>
                    <a:pt x="119" y="727"/>
                  </a:lnTo>
                  <a:lnTo>
                    <a:pt x="135" y="768"/>
                  </a:lnTo>
                  <a:lnTo>
                    <a:pt x="152" y="807"/>
                  </a:lnTo>
                  <a:lnTo>
                    <a:pt x="170" y="846"/>
                  </a:lnTo>
                  <a:lnTo>
                    <a:pt x="190" y="885"/>
                  </a:lnTo>
                  <a:lnTo>
                    <a:pt x="210" y="922"/>
                  </a:lnTo>
                  <a:lnTo>
                    <a:pt x="232" y="958"/>
                  </a:lnTo>
                  <a:lnTo>
                    <a:pt x="255" y="993"/>
                  </a:lnTo>
                  <a:lnTo>
                    <a:pt x="279" y="1027"/>
                  </a:lnTo>
                  <a:lnTo>
                    <a:pt x="304" y="1060"/>
                  </a:lnTo>
                  <a:lnTo>
                    <a:pt x="331" y="1092"/>
                  </a:lnTo>
                  <a:lnTo>
                    <a:pt x="360" y="1123"/>
                  </a:lnTo>
                  <a:lnTo>
                    <a:pt x="389" y="1153"/>
                  </a:lnTo>
                  <a:lnTo>
                    <a:pt x="419" y="1182"/>
                  </a:lnTo>
                  <a:lnTo>
                    <a:pt x="452" y="1210"/>
                  </a:lnTo>
                  <a:lnTo>
                    <a:pt x="485" y="1237"/>
                  </a:lnTo>
                  <a:lnTo>
                    <a:pt x="520" y="1262"/>
                  </a:lnTo>
                  <a:lnTo>
                    <a:pt x="556" y="1287"/>
                  </a:lnTo>
                  <a:lnTo>
                    <a:pt x="1053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36AD-2ABE-4C62-9401-27B012A406C3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3DFB-E237-47D4-8657-F05BCC76D15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403280" y="404640"/>
            <a:ext cx="6623280" cy="1075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форма 05031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24000" y="2000880"/>
            <a:ext cx="8635680" cy="314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Cyr"/>
              </a:rPr>
              <a:t>Формировать таблицы пояснительной записки целесообразно во взаимосвязи со спецификой деятельности</a:t>
            </a:r>
            <a:r>
              <a:rPr b="1" lang="en-US" sz="2000" spc="-1" strike="noStrike">
                <a:solidFill>
                  <a:srgbClr val="660066"/>
                </a:solidFill>
                <a:latin typeface="Arial Cyr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 Cyr"/>
              </a:rPr>
              <a:t>конкретного 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каз Министерства финансов РФ №191н от 28.12.2010г. </a:t>
            </a:r>
            <a:r>
              <a:rPr b="1" i="1" lang="ru-RU" sz="2400" spc="-1" strike="noStrike">
                <a:solidFill>
                  <a:srgbClr val="28497a"/>
                </a:solidFill>
                <a:latin typeface="Arial"/>
              </a:rPr>
              <a:t>«О порядке составления и представления годовой, квартальной и месячной отчетности об исполнении бюджетов бюджетной системы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E5B8-B355-4134-8135-1D9CCD4450F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-27000"/>
          <a:ext cx="9144000" cy="688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8500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e99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0" name="Rectangle 154"/>
          <p:cNvSpPr/>
          <p:nvPr/>
        </p:nvSpPr>
        <p:spPr>
          <a:xfrm>
            <a:off x="182520" y="44280"/>
            <a:ext cx="8926560" cy="27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7e993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                              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Сведения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проведении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инвентаризации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(годовая)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3080" y="1146240"/>
          <a:ext cx="9036000" cy="4817880"/>
        </p:xfrm>
        <a:graphic>
          <a:graphicData uri="http://schemas.openxmlformats.org/drawingml/2006/table">
            <a:tbl>
              <a:tblPr/>
              <a:tblGrid>
                <a:gridCol w="1290600"/>
                <a:gridCol w="1290600"/>
                <a:gridCol w="1289160"/>
                <a:gridCol w="1288800"/>
                <a:gridCol w="1292400"/>
                <a:gridCol w="1292040"/>
                <a:gridCol w="1292400"/>
              </a:tblGrid>
              <a:tr h="523080">
                <a:tc gridSpan="4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оведение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вентар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Результат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вентар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Меры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устранению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выявленных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расхож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279720"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и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иказ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овед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Код счета бюджетного уч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Сумма,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72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1019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01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Расхождений с данными бухгалтерского учета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5584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05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Недостача продуктов питания в пределах норм естественной убыли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Недостача списана на расходы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1019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2013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Расхождений с данными бухгалтерского учета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0B5D-1130-43B8-9D15-FAA2E3779E3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4920" y="189360"/>
            <a:ext cx="910908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Сведения о результатах внешних контрольных мероприятий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Таблица №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620640"/>
          <a:ext cx="8870760" cy="5313600"/>
        </p:xfrm>
        <a:graphic>
          <a:graphicData uri="http://schemas.openxmlformats.org/drawingml/2006/table">
            <a:tbl>
              <a:tblPr/>
              <a:tblGrid>
                <a:gridCol w="1081080"/>
                <a:gridCol w="1870200"/>
                <a:gridCol w="2087280"/>
                <a:gridCol w="2184480"/>
                <a:gridCol w="1647720"/>
              </a:tblGrid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контрольного орг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Тема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ы 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Меры по результатам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392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6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о-ревизионно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Целевое использование бюдже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ет бюджетных средств отремонтирован автомобиль, поврежденный вследствие аварии по вине вод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 Акт о нарушениях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50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Достоверность ведения бюджетного учета и составление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ражение операций, ведение регистров бюджетного учета) в соответствии с действующими на данный момент нормативно-правов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й не обнару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052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облюдение порядка работы с денежной наличностью и порядка ведения кассовых опера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й не обнару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BF5F-E08F-441D-9F8E-0C3E9B52B02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377" descr=""/>
          <p:cNvPicPr/>
          <p:nvPr/>
        </p:nvPicPr>
        <p:blipFill>
          <a:blip r:embed="rId1"/>
          <a:stretch/>
        </p:blipFill>
        <p:spPr>
          <a:xfrm>
            <a:off x="34920" y="907920"/>
            <a:ext cx="8856720" cy="5310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34920" y="981000"/>
            <a:ext cx="8964720" cy="936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378"/>
          <p:cNvSpPr/>
          <p:nvPr/>
        </p:nvSpPr>
        <p:spPr>
          <a:xfrm>
            <a:off x="179280" y="3500280"/>
            <a:ext cx="3589560" cy="649440"/>
          </a:xfrm>
          <a:prstGeom prst="wedgeRoundRectCallout">
            <a:avLst>
              <a:gd name="adj1" fmla="val 41157"/>
              <a:gd name="adj2" fmla="val -20036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Бюдже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смет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379"/>
          <p:cNvSpPr/>
          <p:nvPr/>
        </p:nvSpPr>
        <p:spPr>
          <a:xfrm>
            <a:off x="4427640" y="3645000"/>
            <a:ext cx="3878280" cy="576000"/>
          </a:xfrm>
          <a:prstGeom prst="wedgeRoundRectCallout">
            <a:avLst>
              <a:gd name="adj1" fmla="val -41361"/>
              <a:gd name="adj2" fmla="val -2488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Бюдже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получатели субсидий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1280" y="44280"/>
          <a:ext cx="8964720" cy="392400"/>
        </p:xfrm>
        <a:graphic>
          <a:graphicData uri="http://schemas.openxmlformats.org/drawingml/2006/table">
            <a:tbl>
              <a:tblPr/>
              <a:tblGrid>
                <a:gridCol w="7740720"/>
                <a:gridCol w="1224000"/>
              </a:tblGrid>
              <a:tr h="3924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73"/>
          <p:cNvSpPr/>
          <p:nvPr/>
        </p:nvSpPr>
        <p:spPr>
          <a:xfrm>
            <a:off x="108000" y="671040"/>
            <a:ext cx="878508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количестве подведомствен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9"/>
          <p:cNvSpPr/>
          <p:nvPr/>
        </p:nvSpPr>
        <p:spPr>
          <a:xfrm>
            <a:off x="2286000" y="5425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полняется главным распорядителем (распорядителем)  бюджет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A9E3-DEB1-4048-B7C2-5038AE82E8B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33440" y="44280"/>
          <a:ext cx="8386560" cy="270000"/>
        </p:xfrm>
        <a:graphic>
          <a:graphicData uri="http://schemas.openxmlformats.org/drawingml/2006/table">
            <a:tbl>
              <a:tblPr/>
              <a:tblGrid>
                <a:gridCol w="7243560"/>
                <a:gridCol w="114300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Rectangle 11"/>
          <p:cNvSpPr/>
          <p:nvPr/>
        </p:nvSpPr>
        <p:spPr>
          <a:xfrm>
            <a:off x="2268360" y="374760"/>
            <a:ext cx="453564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результатах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452680" y="357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8000" y="717480"/>
          <a:ext cx="9036000" cy="1590840"/>
        </p:xfrm>
        <a:graphic>
          <a:graphicData uri="http://schemas.openxmlformats.org/drawingml/2006/table">
            <a:tbl>
              <a:tblPr/>
              <a:tblGrid>
                <a:gridCol w="1522440"/>
                <a:gridCol w="1305000"/>
                <a:gridCol w="765000"/>
                <a:gridCol w="1546200"/>
                <a:gridCol w="1198440"/>
                <a:gridCol w="1497240"/>
                <a:gridCol w="1201680"/>
              </a:tblGrid>
              <a:tr h="345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раздела, подраздела расходов по Б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Единица изме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            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плану                                   Фактически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Text Box 301"/>
          <p:cNvSpPr/>
          <p:nvPr/>
        </p:nvSpPr>
        <p:spPr>
          <a:xfrm>
            <a:off x="0" y="2471760"/>
            <a:ext cx="9144000" cy="4513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18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 заполнения таблицы потребуется участие отраслевых специалистов: планового отдела, отдела экономического анализа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В таблице необходимо отразить количественно-качественные (статистические) показатели результативности деятельности учреждения в разрезе плановых и фактических показателей в натуральном и стоимостном выраж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Например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личество посещений; количество  вызовов на дом; количество койко-дн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азатели форм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050316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лежат консолидации, поэтому перечень показателей должен быть определен главным распорядителем бюджетных средств и доведен до всех подведомственных учрежд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Если субъекту бюджетной отчетности, не установлены в соответствующем порядке показатели результативности деятельности, то информация о результатах деятельности раскрывается в текстовой части раздела 2 Пояснительной записки. Кроме того,  необходимо представить в тексте пояснительной записки информацию о мерах по повышению квалификации и переподготовке специалистов; о ресурсах (численность работников, стоимость имущества, бюджетные расходы, объемы закупок и т.п.), используемых  для достижения показателей результатив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79C3-B3DE-48CF-B45E-88045D52CB8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2120" y="115920"/>
          <a:ext cx="8813880" cy="243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Rectangle 11"/>
          <p:cNvSpPr/>
          <p:nvPr/>
        </p:nvSpPr>
        <p:spPr>
          <a:xfrm>
            <a:off x="0" y="368280"/>
            <a:ext cx="9144000" cy="67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б изменениях бюджетной роспи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главного распорядителя бюджетных  средств, главного администратора источников финансирования дефицита бюдж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4920" y="1069920"/>
          <a:ext cx="9109080" cy="3295800"/>
        </p:xfrm>
        <a:graphic>
          <a:graphicData uri="http://schemas.openxmlformats.org/drawingml/2006/table">
            <a:tbl>
              <a:tblPr/>
              <a:tblGrid>
                <a:gridCol w="1811520"/>
                <a:gridCol w="1717560"/>
                <a:gridCol w="1655640"/>
                <a:gridCol w="2208240"/>
                <a:gridCol w="1716120"/>
              </a:tblGrid>
              <a:tr h="21744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раздела, подраздела расходов, группы, подгруппы источников финансирования дефицита бюджета  по Б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тверждено на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азница между показателями бюджетной росписи и закона (решения) о бюджете, 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чины откло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Зако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(решением) о бюджете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ой росписью, с учетом изменений на отчетную дату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3" name="Text Box 99"/>
          <p:cNvSpPr/>
          <p:nvPr/>
        </p:nvSpPr>
        <p:spPr>
          <a:xfrm>
            <a:off x="0" y="4427640"/>
            <a:ext cx="9144000" cy="23720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полняет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ями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вными распорядителями бюджетных средств,  главными администраторам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орме необходимо отразить обобщенные за отчетный период данные об изменениях в бюджетной росписи, объемы внесенных изменений и причины внесений изменений в бюджетные назначения по расходам за отчетный пери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казываются причины внесенных уточнений со ссылкой на правовые основания их внесения (статьи Бюджетного кодекса Российской Федерации и закона (решения) о соответствующем бюдже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B29F-0FF3-4A33-8216-E107BE5F3C5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908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5084640"/>
            <a:ext cx="914400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4338720" y="2852640"/>
            <a:ext cx="2374920" cy="765360"/>
          </a:xfrm>
          <a:prstGeom prst="wedgeRoundRectCallout">
            <a:avLst>
              <a:gd name="adj1" fmla="val -100685"/>
              <a:gd name="adj2" fmla="val -1271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ходы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рогнозные показатели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0" y="28800"/>
            <a:ext cx="9144000" cy="62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 формы по ОКУ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0503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6C2A-FC92-48A0-8950-4D581CED5C5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-36360" y="-18720"/>
            <a:ext cx="9144000" cy="71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ожение (ф. 0503164) формируется путем обобщения данных по исполнен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луча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редств бюджета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дминистратором поступлений в бюдж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 основании показателей Отчета (ф. 050312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вным распоряди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аспорядителем) средств бюджета - на основании показателей консолидированного Отчета (ф. 050312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рганом, организующим исполнение бюдж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 основании показателей Отчета (ф. 050311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риоди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ения –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вартальная, годо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 строкам  010, 200, 450, 500, 520,6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отражаются показатели из аналогичных строк Отчета (ф. 0503127), консолидированного Отчета (ф. 0503127) и Отчета (ф.0503117). При этом графы 5,6 по строке 450 не заполн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казываются коды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юджетной классификации, по которым в результате исполнения бюджета на отчетную дату  имеются отклонения между плановыми и фактическими показателями, в соответствии с разделами при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оказателям не содержащим плановые назначения форма не заполн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дел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Доходы бюджета»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разрезе групп, подгрупп, статьи, подстатьи классификации доходов бюдж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6468-E7F5-429E-8CF8-92F07822DF4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287280"/>
            <a:ext cx="9144000" cy="63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разделе «Расходы бюджета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 разрезе разделов, подразделов, целевой статьи функциональной классификации расходов бюдж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разделе «Источники финансирования дефицитов бюджетов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разрезе групп, подгрупп, статьи, подстатьи источников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соответственно по разделам приложения годовые объемы бюджетных назначений, утвержденных уточненной бюджетной роспись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(получателями средств бюджета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овые объемы утвержденных лимитов бюджетных обязательств, с учетом их уточнения): по доходам бюджетов, расходам бюджетов, источникам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соответственно по разделам приложения суммы исполненных бюджетных назначений: по доходам бюджетов, расходам бюджетов, источникам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ется соответственно по разделам приложения разница между данными графы 3 и графы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причины отклонений отраженные в графе 5 приложения. Например: отсутствие необходимых нормативных документов, определяющих порядок выделения и (или) использования средств бюджетов; блокировка расходов (с указанием причины); возникновение курсовой разницы; сезонность отдельных видов расходов; недоведение (несвоевременное доведение) лимитов бюджетных обязательств (с указанием причины); изменение графика платежей по обязательствам; несвоевременность представления исполнителями работ документов для окончательного расчета; длительность сроков заключения государственных контрактов; необходимость резервирования денежных средств для обеспечения выполнения возложенных функций; прочие причины  (указать каки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1B6F-A7EA-476E-975C-D73CEDF0B48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0840" y="79200"/>
          <a:ext cx="8813880" cy="270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5" name="Rectangle 11"/>
          <p:cNvSpPr/>
          <p:nvPr/>
        </p:nvSpPr>
        <p:spPr>
          <a:xfrm>
            <a:off x="395280" y="404640"/>
            <a:ext cx="828036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б исполнении мероприятий в рамках целевых програ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4920" y="765000"/>
          <a:ext cx="8993160" cy="2738520"/>
        </p:xfrm>
        <a:graphic>
          <a:graphicData uri="http://schemas.openxmlformats.org/drawingml/2006/table">
            <a:tbl>
              <a:tblPr/>
              <a:tblGrid>
                <a:gridCol w="1555920"/>
                <a:gridCol w="1315800"/>
                <a:gridCol w="2386080"/>
                <a:gridCol w="1224000"/>
                <a:gridCol w="1079640"/>
                <a:gridCol w="1431720"/>
              </a:tblGrid>
              <a:tr h="1122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рограммы, под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целевой статьи расходов по Б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аименование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тверждено бюджетной росписью с учетом изменений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Исполнено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Причины откло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Text Box 88"/>
          <p:cNvSpPr/>
          <p:nvPr/>
        </p:nvSpPr>
        <p:spPr>
          <a:xfrm>
            <a:off x="0" y="3443400"/>
            <a:ext cx="9144000" cy="329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лняется учреждениями, которым выделяются средства в рамках целевых программ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едует указать наименование программы (подпрограммы), в которой участвует учреждение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казывается код целевой статьи расходов бюджетов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еречень мероприятий, обеспечивающих реализацию программы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казывается объем средств , утвержденный уточненной бюджетной росписью, на реализацию мероприятий в рамках целевых программ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казывается сумма исполненных бюджетных назначений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казываются причины отклонени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жду графами 4 и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отчетную да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2896-2133-4C21-BAE7-4E85D495442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8000" y="260280"/>
          <a:ext cx="8856720" cy="243000"/>
        </p:xfrm>
        <a:graphic>
          <a:graphicData uri="http://schemas.openxmlformats.org/drawingml/2006/table">
            <a:tbl>
              <a:tblPr/>
              <a:tblGrid>
                <a:gridCol w="7648560"/>
                <a:gridCol w="1208160"/>
              </a:tblGrid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Rectangle 11"/>
          <p:cNvSpPr/>
          <p:nvPr/>
        </p:nvSpPr>
        <p:spPr>
          <a:xfrm>
            <a:off x="1476360" y="691920"/>
            <a:ext cx="662472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целевых иностранных креди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150920"/>
          <a:ext cx="9144000" cy="4903920"/>
        </p:xfrm>
        <a:graphic>
          <a:graphicData uri="http://schemas.openxmlformats.org/drawingml/2006/table">
            <a:tbl>
              <a:tblPr/>
              <a:tblGrid>
                <a:gridCol w="1758960"/>
                <a:gridCol w="685800"/>
                <a:gridCol w="719280"/>
                <a:gridCol w="1792080"/>
                <a:gridCol w="2427480"/>
                <a:gridCol w="1760400"/>
              </a:tblGrid>
              <a:tr h="345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креди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глашение о креди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Цель использования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Утверждено бюджетной росписью с учетом изменений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умма использованного кредит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о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2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Европейский банк реконструкции и развития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троительство автомобильной дороги «Амур» Чита-Хабаров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54 230 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693 – км 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 171 6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6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483 – км 596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943 – км 1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48 058 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6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финансирование из ФБ (НДС)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7 719 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 111 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6 608 0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81 949 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 282 794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74 666 4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022E-B8B5-452E-95F2-EEB6C0C9472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1280" y="44280"/>
          <a:ext cx="8964720" cy="1451160"/>
        </p:xfrm>
        <a:graphic>
          <a:graphicData uri="http://schemas.openxmlformats.org/drawingml/2006/table">
            <a:tbl>
              <a:tblPr/>
              <a:tblGrid>
                <a:gridCol w="6739200"/>
                <a:gridCol w="1252440"/>
                <a:gridCol w="973080"/>
              </a:tblGrid>
              <a:tr h="18864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Форма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503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 1 января  2012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чреждение _________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ОК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бюджета 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ериодичность: квартальная, год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88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Единица измерения: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ОКЕ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42"/>
          <p:cNvSpPr/>
          <p:nvPr/>
        </p:nvSpPr>
        <p:spPr>
          <a:xfrm>
            <a:off x="71280" y="2670120"/>
            <a:ext cx="3492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1280" y="1628640"/>
          <a:ext cx="8964720" cy="510876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6" name="Rectangle 4"/>
          <p:cNvSpPr/>
          <p:nvPr/>
        </p:nvSpPr>
        <p:spPr>
          <a:xfrm>
            <a:off x="3518280" y="115200"/>
            <a:ext cx="185796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660066"/>
                </a:solidFill>
                <a:latin typeface="Arial"/>
                <a:ea typeface="Times New Roman"/>
              </a:rPr>
              <a:t>ПОЯСНИТЕЛЬНАЯ ЗАПИ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0648-04E2-4392-91EE-807AC777199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3AB2-0396-4DB2-8351-DEAC4CFFC18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66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448E-542F-4538-B414-8C35A765CFA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115920"/>
          <a:ext cx="8712000" cy="6038640"/>
        </p:xfrm>
        <a:graphic>
          <a:graphicData uri="http://schemas.openxmlformats.org/drawingml/2006/table">
            <a:tbl>
              <a:tblPr/>
              <a:tblGrid>
                <a:gridCol w="1666800"/>
                <a:gridCol w="797040"/>
                <a:gridCol w="1149120"/>
                <a:gridCol w="1297080"/>
                <a:gridCol w="1100160"/>
                <a:gridCol w="1386000"/>
                <a:gridCol w="1315800"/>
              </a:tblGrid>
              <a:tr h="633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03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gridSpan="4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по дебиторской и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бюджетная, приносящая доход деятель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дебиторская, кредиторск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 gridSpan="2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омер (код)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юджетного 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 задолженности всего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 просроченная (нереальная к взысканию) задолж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д возникнов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дебитора (кредито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чина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того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у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156B-6146-492D-8C9D-621F6C05FCF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0840" y="115920"/>
          <a:ext cx="8813880" cy="270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0" name="Rectangle 11"/>
          <p:cNvSpPr/>
          <p:nvPr/>
        </p:nvSpPr>
        <p:spPr>
          <a:xfrm>
            <a:off x="468360" y="549000"/>
            <a:ext cx="828036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финансовых вложениях получателя средств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8000" y="1052640"/>
          <a:ext cx="8964720" cy="3968640"/>
        </p:xfrm>
        <a:graphic>
          <a:graphicData uri="http://schemas.openxmlformats.org/drawingml/2006/table">
            <a:tbl>
              <a:tblPr/>
              <a:tblGrid>
                <a:gridCol w="1603440"/>
                <a:gridCol w="1141200"/>
                <a:gridCol w="2689200"/>
                <a:gridCol w="1765440"/>
                <a:gridCol w="1765440"/>
              </a:tblGrid>
              <a:tr h="786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омер с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ого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умм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ид финансового в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окумент-основание наличия в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1FC3-9F09-48D3-BFA4-9F4635D5D60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36356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6"/>
          <p:cNvSpPr/>
          <p:nvPr/>
        </p:nvSpPr>
        <p:spPr>
          <a:xfrm>
            <a:off x="5076720" y="5273640"/>
            <a:ext cx="3888000" cy="963720"/>
          </a:xfrm>
          <a:prstGeom prst="wedgeRoundRectCallout">
            <a:avLst>
              <a:gd name="adj1" fmla="val -117365"/>
              <a:gd name="adj2" fmla="val -215722"/>
              <a:gd name="adj3" fmla="val 16667"/>
            </a:avLst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задолженности, без учета начисленных процентов, пеней и штраф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2BB6-B4AB-45B3-AB13-E2C7CCCD995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08000" y="1135080"/>
            <a:ext cx="9001080" cy="451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2297520" y="166680"/>
            <a:ext cx="59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дения об изменении остатков валюты балан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ф. 05031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465B-9256-41D1-A1B8-7086D625E2C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84200" y="-360"/>
            <a:ext cx="844416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Semibold"/>
              </a:rPr>
              <a:t>Сведения ф. 0503173</a:t>
            </a:r>
            <a:endParaRPr b="0" lang="en-US" sz="3000" spc="-1" strike="noStrike">
              <a:solidFill>
                <a:srgbClr val="ffb601"/>
              </a:solidFill>
              <a:latin typeface="Segoe Semibold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476280" y="1042920"/>
            <a:ext cx="8443800" cy="52945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233280" y="1673280"/>
            <a:ext cx="3240000" cy="4753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73C3-0505-4A10-96F4-C1287A3A3B6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254160" y="476280"/>
            <a:ext cx="8710560" cy="52354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87480"/>
            <a:ext cx="8444160" cy="38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Segoe Semibold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Segoe Semibold"/>
              </a:rPr>
              <a:t>ф. 0503176</a:t>
            </a:r>
            <a:endParaRPr b="0" lang="en-US" sz="24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3"/>
          <p:cNvSpPr/>
          <p:nvPr/>
        </p:nvSpPr>
        <p:spPr>
          <a:xfrm>
            <a:off x="61387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EBE2-7004-44D6-A3B2-8D2BCF6B29A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569440" cy="5295960"/>
          </a:xfrm>
          <a:prstGeom prst="rect">
            <a:avLst/>
          </a:prstGeom>
          <a:ln w="0">
            <a:noFill/>
          </a:ln>
        </p:spPr>
      </p:pic>
      <p:sp>
        <p:nvSpPr>
          <p:cNvPr id="202" name="Line 4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5076720" y="4626000"/>
            <a:ext cx="3888000" cy="1251000"/>
          </a:xfrm>
          <a:prstGeom prst="wedgeRoundRectCallout">
            <a:avLst>
              <a:gd name="adj1" fmla="val -34481"/>
              <a:gd name="adj2" fmla="val -50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ализация основных направлений произведенных расходов +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детализация по КБК (по решению Ф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22120" y="44280"/>
          <a:ext cx="8813880" cy="27972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од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формы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о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ОК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503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9" name="Rectangle 84"/>
          <p:cNvSpPr/>
          <p:nvPr/>
        </p:nvSpPr>
        <p:spPr>
          <a:xfrm>
            <a:off x="179280" y="527040"/>
            <a:ext cx="8785440" cy="27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Сведения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об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спользовании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нформационо – коммуникационных технологий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_FuturaOrto"/>
              </a:rPr>
              <a:t>(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годовая</a:t>
            </a:r>
            <a:r>
              <a:rPr b="1" lang="ru-RU" sz="1200" spc="-1" strike="noStrike">
                <a:solidFill>
                  <a:srgbClr val="ff0000"/>
                </a:solidFill>
                <a:latin typeface="a_FuturaOrt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7815-00C6-4F77-8117-7F066E2F0B6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79280" y="115920"/>
          <a:ext cx="8748720" cy="5684760"/>
        </p:xfrm>
        <a:graphic>
          <a:graphicData uri="http://schemas.openxmlformats.org/drawingml/2006/table">
            <a:tbl>
              <a:tblPr/>
              <a:tblGrid>
                <a:gridCol w="615960"/>
                <a:gridCol w="615960"/>
                <a:gridCol w="615960"/>
                <a:gridCol w="947880"/>
                <a:gridCol w="1641240"/>
                <a:gridCol w="385920"/>
                <a:gridCol w="1085760"/>
                <a:gridCol w="376200"/>
                <a:gridCol w="308160"/>
                <a:gridCol w="615960"/>
                <a:gridCol w="615960"/>
                <a:gridCol w="307800"/>
                <a:gridCol w="615960"/>
              </a:tblGrid>
              <a:tr h="39996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503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6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об использовании информационно-коммуникационных технолог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расходов по Б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новные цел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е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Проектирование прикладных систем и информационно-коммуникационной инфраструктуры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4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технической документ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 gridSpan="4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нормативных правовых а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прочих докум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Разработка (доработка) программного обеспечения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программного обеспечения (приобретение исключительных прав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работка специализированного программного обеспечения прикладных систе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Капитальные вложения в объекты информационно-коммуникационной инфраструкту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7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ительство специализированных зданий (помещений) для размещения технических средств и персон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ые капитальные вло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обретение оборудования и предустановленного программного обеспечения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обретение автоматизированных рабочих мест, транспортно-коммуникационного оборудования, серверного, периферийного и др. обору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слуги по доставке и складированию оборудования, не включая расходы по закупке запасных инструментов и принадлежностей (комплектующих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онтажные и пуско-наладочные работы поставляемых технических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уществление комплекса работ по специальным проверкам и исследов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242D-0F5E-4152-8123-E1F9C1BC098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208C-B60C-4DE5-BF30-3AAFC20C369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16000" y="115920"/>
          <a:ext cx="8748720" cy="5513400"/>
        </p:xfrm>
        <a:graphic>
          <a:graphicData uri="http://schemas.openxmlformats.org/drawingml/2006/table">
            <a:tbl>
              <a:tblPr/>
              <a:tblGrid>
                <a:gridCol w="615960"/>
                <a:gridCol w="615960"/>
                <a:gridCol w="615960"/>
                <a:gridCol w="947520"/>
                <a:gridCol w="300240"/>
                <a:gridCol w="1341360"/>
                <a:gridCol w="384120"/>
                <a:gridCol w="1087560"/>
                <a:gridCol w="376200"/>
                <a:gridCol w="307800"/>
                <a:gridCol w="615960"/>
                <a:gridCol w="615960"/>
                <a:gridCol w="306360"/>
                <a:gridCol w="617760"/>
              </a:tblGrid>
              <a:tr h="39996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503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7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об использовании информационно-коммуникационных технолог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расходов по Б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новные цел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е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 Приобретение неисключительных прав на программное обеспечение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 Услуги по аренде оборудования 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 Подключение (обеспечение) к внешним информационным ресурсам 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ступ к телефонной сети связи общего пользования, предоставление доступа к услугам междугородной и международной связ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 Эксплуатационные расходы на информационно-коммуникационные технологии 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еспечение функционирования и поддержка работоспособности  прикладного и системного программного обеспе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хническое обслуживания аппаратного обеспечения  включающее контроль технического состоя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 Обучение сотрудников в области информационно-коммуникационных технологий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курсов  для обу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учение пользователей создаваемых  прикладных систем (П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чее обучение в области информационно-коммуникационных технолог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4E92-6B60-43A9-BC84-7569EE43266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118680" y="-81900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 (ф. 0503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415240" y="23508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(ф. 0503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143000" y="163368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234800" y="76500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кстов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962520" y="2749680"/>
            <a:ext cx="18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451560" y="7650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000" y="1268280"/>
            <a:ext cx="475128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Организационная структура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Результаты деятельности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Анализ отчета об исполн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субъектом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Анализ показателей финанс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и субъекта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очие вопросы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а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364000" y="1268280"/>
            <a:ext cx="363564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уются в соответств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ребова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струкции № 191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одерж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снения отд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казателей ис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4716360" y="3645000"/>
            <a:ext cx="792360" cy="215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4C07-697F-4FE0-8A79-EBD17B2E1AB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6"/>
          <p:cNvSpPr/>
          <p:nvPr/>
        </p:nvSpPr>
        <p:spPr>
          <a:xfrm>
            <a:off x="2321640" y="666720"/>
            <a:ext cx="260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8497a"/>
                </a:solidFill>
                <a:latin typeface="Arial"/>
              </a:rPr>
              <a:t>По приносящей доход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7"/>
          <p:cNvSpPr/>
          <p:nvPr/>
        </p:nvSpPr>
        <p:spPr>
          <a:xfrm>
            <a:off x="302040" y="2563920"/>
            <a:ext cx="152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* * * * * * * * * * * * * * * * * * *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8"/>
          <p:cNvSpPr/>
          <p:nvPr/>
        </p:nvSpPr>
        <p:spPr>
          <a:xfrm>
            <a:off x="2916360" y="256536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2012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9"/>
          <p:cNvSpPr/>
          <p:nvPr/>
        </p:nvSpPr>
        <p:spPr>
          <a:xfrm>
            <a:off x="4718520" y="2565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0"/>
          <p:cNvSpPr/>
          <p:nvPr/>
        </p:nvSpPr>
        <p:spPr>
          <a:xfrm>
            <a:off x="6012000" y="256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1"/>
          <p:cNvSpPr/>
          <p:nvPr/>
        </p:nvSpPr>
        <p:spPr>
          <a:xfrm>
            <a:off x="7166520" y="2565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2"/>
          <p:cNvSpPr/>
          <p:nvPr/>
        </p:nvSpPr>
        <p:spPr>
          <a:xfrm>
            <a:off x="8388360" y="256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3"/>
          <p:cNvSpPr/>
          <p:nvPr/>
        </p:nvSpPr>
        <p:spPr>
          <a:xfrm>
            <a:off x="6012000" y="3789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4"/>
          <p:cNvSpPr/>
          <p:nvPr/>
        </p:nvSpPr>
        <p:spPr>
          <a:xfrm>
            <a:off x="2916360" y="378936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2012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5"/>
          <p:cNvSpPr/>
          <p:nvPr/>
        </p:nvSpPr>
        <p:spPr>
          <a:xfrm>
            <a:off x="4718520" y="3789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6"/>
          <p:cNvSpPr/>
          <p:nvPr/>
        </p:nvSpPr>
        <p:spPr>
          <a:xfrm>
            <a:off x="7238160" y="3789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7"/>
          <p:cNvSpPr/>
          <p:nvPr/>
        </p:nvSpPr>
        <p:spPr>
          <a:xfrm>
            <a:off x="8317080" y="3789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8"/>
          <p:cNvSpPr/>
          <p:nvPr/>
        </p:nvSpPr>
        <p:spPr>
          <a:xfrm>
            <a:off x="7236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9"/>
          <p:cNvSpPr/>
          <p:nvPr/>
        </p:nvSpPr>
        <p:spPr>
          <a:xfrm>
            <a:off x="6012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0"/>
          <p:cNvSpPr/>
          <p:nvPr/>
        </p:nvSpPr>
        <p:spPr>
          <a:xfrm>
            <a:off x="9036000" y="321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1"/>
          <p:cNvSpPr/>
          <p:nvPr/>
        </p:nvSpPr>
        <p:spPr>
          <a:xfrm>
            <a:off x="4788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2"/>
          <p:cNvSpPr/>
          <p:nvPr/>
        </p:nvSpPr>
        <p:spPr>
          <a:xfrm>
            <a:off x="327672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3"/>
          <p:cNvSpPr/>
          <p:nvPr/>
        </p:nvSpPr>
        <p:spPr>
          <a:xfrm>
            <a:off x="838836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4"/>
          <p:cNvSpPr/>
          <p:nvPr/>
        </p:nvSpPr>
        <p:spPr>
          <a:xfrm>
            <a:off x="4645440" y="638172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5"/>
          <p:cNvSpPr/>
          <p:nvPr/>
        </p:nvSpPr>
        <p:spPr>
          <a:xfrm>
            <a:off x="7095240" y="638172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6"/>
          <p:cNvSpPr/>
          <p:nvPr/>
        </p:nvSpPr>
        <p:spPr>
          <a:xfrm>
            <a:off x="8388360" y="638172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7"/>
          <p:cNvSpPr/>
          <p:nvPr/>
        </p:nvSpPr>
        <p:spPr>
          <a:xfrm>
            <a:off x="6012000" y="630864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8"/>
          <p:cNvSpPr/>
          <p:nvPr/>
        </p:nvSpPr>
        <p:spPr>
          <a:xfrm>
            <a:off x="6498360" y="404640"/>
            <a:ext cx="66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(годовая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596D-2B30-474B-8972-1127639D8E1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677880" y="960480"/>
            <a:ext cx="7853400" cy="5459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659640" y="44280"/>
            <a:ext cx="2394000" cy="3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Segoe Semibold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Segoe Semibold"/>
              </a:rPr>
              <a:t>ф. 0503182</a:t>
            </a:r>
            <a:endParaRPr b="0" lang="en-US" sz="20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AD99-D1D9-4F07-B2B7-4D21B21FC1C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4920" y="55440"/>
            <a:ext cx="903600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Сведения об основных направлениях деятельности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учреждения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Таблица №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6360" y="357120"/>
          <a:ext cx="9036360" cy="4641840"/>
        </p:xfrm>
        <a:graphic>
          <a:graphicData uri="http://schemas.openxmlformats.org/drawingml/2006/table">
            <a:tbl>
              <a:tblPr/>
              <a:tblGrid>
                <a:gridCol w="2914920"/>
                <a:gridCol w="4373280"/>
                <a:gridCol w="1748160"/>
              </a:tblGrid>
              <a:tr h="39852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цели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раткая 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авовое об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860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Оказание медицинской помощи населен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рачебная помощь (акушерское дело, лечебное дело, стоматология, эпидемиология, лабораторная диагностика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 Амбулаторно-поликлиническая помощь, в том числе в условиях дневного стационара и стационара на дому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 Работы и услуги по экспертизе временной нетрудоспособност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Работы и услуги по экспертизе (контроль) качества медицинской помощ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Работы и услуги по предварительным и периодическим медицинским</a:t>
                      </a:r>
                      <a:r>
                        <a:rPr b="1" lang="en-US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осмотрам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аботы и услуги по профилактической медицине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Устав,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Закон о здравоохранен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 о порядке предоставления платных услуг населению лиценз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104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. Оказание платных медицински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Оказание населению дополнительных к гарантированному объему бесплатной медицинской помощи услуг в виде профилактической, лечебно-диагностической, реабилитационной, протезно-ортопедической и зубопротезной помощи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158"/>
          <p:cNvSpPr/>
          <p:nvPr/>
        </p:nvSpPr>
        <p:spPr>
          <a:xfrm>
            <a:off x="0" y="5004720"/>
            <a:ext cx="9144000" cy="17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аблица оформляется главным распорядителем (распорядителем), получателем средств бюджета, администратором поступлений в бюджет, органом, организующим исполнение бюджета, органом, осуществляющим кассовое обслуживание исполнения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ются цели, для исполнения которых создан и функционирует субъ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ется краткая характеристика целей деятельности путем отражения основных направлений деятельности и функций субъекта бюджетной отче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ется правовое обоснование установленных целей и функций в соответствии с действующими нормативными правовыми и организационно-распорядительными док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548D-1454-4782-932B-F1F0D94D095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790560"/>
          <a:ext cx="9144000" cy="5813280"/>
        </p:xfrm>
        <a:graphic>
          <a:graphicData uri="http://schemas.openxmlformats.org/drawingml/2006/table">
            <a:tbl>
              <a:tblPr/>
              <a:tblGrid>
                <a:gridCol w="1979640"/>
                <a:gridCol w="1338120"/>
                <a:gridCol w="959040"/>
                <a:gridCol w="1031760"/>
                <a:gridCol w="3835440"/>
              </a:tblGrid>
              <a:tr h="44964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ятые 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Распорядительные доку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ы принятых 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376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едение нормативов обеспечения сотрудников канцелярскими принадлежност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кращение расходов по статье 340 «Увеличение стоимости материальных запас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ановка счетчиков воды, теп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ономия бюджетных средств по КБК 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28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уществление контроля за ведением междугородних телефонных переговоров сотруд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egoe Semibold"/>
                          <a:ea typeface="Times New Roman"/>
                        </a:rPr>
                        <a:t>Экономия бюджетных средств за счет  уменьшения расходов по КБК  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5120">
                <a:tc gridSpan="5"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Информация в таблице характеризует меры по повышению эффектив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бюджетных средств, проводимые субъектом бюджетной отчетности на основании организационно-распорядительных документов главного распорядителя (распорядителя) и получателя средств бюдже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8497a"/>
                          </a:solidFill>
                          <a:latin typeface="Segoe Semibold"/>
                        </a:rPr>
                        <a:t>Таблица оформляется  получателем средств бюджета.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egoe Semibold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56"/>
          <p:cNvSpPr/>
          <p:nvPr/>
        </p:nvSpPr>
        <p:spPr>
          <a:xfrm>
            <a:off x="34920" y="-61560"/>
            <a:ext cx="9109080" cy="786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ения о мерах по повышению эффективности расхо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бюджетных средств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Таблица № 2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906B-FA72-4EBC-906E-7F9040DFD11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9280" y="189000"/>
            <a:ext cx="878544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Св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едения о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исполнении текстовых статей закона (решения) о бюджете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Таблица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9280" y="549360"/>
          <a:ext cx="8778960" cy="2351160"/>
        </p:xfrm>
        <a:graphic>
          <a:graphicData uri="http://schemas.openxmlformats.org/drawingml/2006/table">
            <a:tbl>
              <a:tblPr/>
              <a:tblGrid>
                <a:gridCol w="2925720"/>
                <a:gridCol w="2927520"/>
                <a:gridCol w="2925720"/>
              </a:tblGrid>
              <a:tr h="7351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держание статьи зак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(решения) о бюдж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чины не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08000" y="2781360"/>
          <a:ext cx="8893080" cy="3851280"/>
        </p:xfrm>
        <a:graphic>
          <a:graphicData uri="http://schemas.openxmlformats.org/drawingml/2006/table">
            <a:tbl>
              <a:tblPr/>
              <a:tblGrid>
                <a:gridCol w="8893080"/>
              </a:tblGrid>
              <a:tr h="391608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аблица № 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формляется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лавным распорядителем (распорядителем), администратором поступлений в бюджет, органом, организующим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сполнение бюджета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а содержит результаты исполнения текстовых статей закона (решения) о бюдже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казывается содержание текстовой статьи закона (решения) о бюджете,  имеющей отношение к субъекту бюджетной отчет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2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ывается результат исполнения положений текстовых ста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указанием показателей, характеризующих степень из результативност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3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ываются причины неисполнения положений текстовых ста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e99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97D0-B2FA-4948-B214-E56148483D1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4920" y="404640"/>
          <a:ext cx="9109080" cy="6231240"/>
        </p:xfrm>
        <a:graphic>
          <a:graphicData uri="http://schemas.openxmlformats.org/drawingml/2006/table">
            <a:tbl>
              <a:tblPr/>
              <a:tblGrid>
                <a:gridCol w="2881440"/>
                <a:gridCol w="1368360"/>
                <a:gridCol w="2158920"/>
                <a:gridCol w="2700360"/>
              </a:tblGrid>
              <a:tr h="9680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Наименование объекта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Код счета бюджетного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Характеристика метода оценки и момент отражения операции в уче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равовое об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1360">
                <a:tc gridSpan="4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Информация в таблице характеризует использованные в отчетном периоде особенности отражения в бюджетном учете операций  в части установленного Инструкцией по бюджетному учету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права самостоятельного определения таких особенносте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и отраслевых особенностей бюджетного учета,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разработанных соответствующими федеральными органами исполнительной власти и  утвержденных в установленном порядк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Таблица оформляется главным распорядителем (распорядителем), получателем средств бюджета, администратором поступлений в бюджет, органом, организующим исполнение бюджета, органом, осуществляющим кассовое обслуживание исполнения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наименование объекта бюджетного учета, в отношении которого применяются особенности при отражении операций в бюджетном учет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код счета бюджетного учета, на котором отражаются указанные в графе 1 объекты бюджетного уч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характеристика применяемых особенностей бюджетного учета в отношении указанных в графе 1 объектов бюджетного уч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правовое обоснование применения определенных в графе 3 особенностей (особенности, определенные исходя из положений Инструкции по бюджетному учету и организационно-распорядительных документов соответствующих федеральных органов исполнительной власти, введенных в действие в установленном порядке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48"/>
          <p:cNvSpPr/>
          <p:nvPr/>
        </p:nvSpPr>
        <p:spPr>
          <a:xfrm>
            <a:off x="0" y="45720"/>
            <a:ext cx="914400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ения о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 особенностях ведения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ного учета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Таблица №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C118-48AC-4167-A137-A44254FB9AF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5"/>
          <p:cNvSpPr/>
          <p:nvPr/>
        </p:nvSpPr>
        <p:spPr>
          <a:xfrm>
            <a:off x="592200" y="0"/>
            <a:ext cx="8551800" cy="27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обенностя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ден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юджетног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дов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4920" y="333360"/>
          <a:ext cx="9144000" cy="6600960"/>
        </p:xfrm>
        <a:graphic>
          <a:graphicData uri="http://schemas.openxmlformats.org/drawingml/2006/table">
            <a:tbl>
              <a:tblPr/>
              <a:tblGrid>
                <a:gridCol w="2247840"/>
                <a:gridCol w="920880"/>
                <a:gridCol w="4895640"/>
                <a:gridCol w="1079640"/>
              </a:tblGrid>
              <a:tr h="583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мент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ажен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вое обос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финансов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ив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62584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руж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возмездно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вор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р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)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чн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ом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оч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ю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о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ост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жд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0523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орт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4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3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тель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3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40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тель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 %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ов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н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о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численн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зн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месяч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н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6184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5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щ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B400-4C88-4AD1-8FDA-F080554FC79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0"/>
          <a:ext cx="9109080" cy="6858000"/>
        </p:xfrm>
        <a:graphic>
          <a:graphicData uri="http://schemas.openxmlformats.org/drawingml/2006/table">
            <a:tbl>
              <a:tblPr/>
              <a:tblGrid>
                <a:gridCol w="9109080"/>
              </a:tblGrid>
              <a:tr h="685800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35"/>
          <p:cNvSpPr/>
          <p:nvPr/>
        </p:nvSpPr>
        <p:spPr>
          <a:xfrm>
            <a:off x="179280" y="239400"/>
            <a:ext cx="8769960" cy="310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Сведени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результатах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мероприятий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внутреннег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контрол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4360" y="981000"/>
          <a:ext cx="8964720" cy="4270320"/>
        </p:xfrm>
        <a:graphic>
          <a:graphicData uri="http://schemas.openxmlformats.org/drawingml/2006/table">
            <a:tbl>
              <a:tblPr/>
              <a:tblGrid>
                <a:gridCol w="1638360"/>
                <a:gridCol w="4411800"/>
                <a:gridCol w="1457280"/>
                <a:gridCol w="1457280"/>
              </a:tblGrid>
              <a:tr h="1226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арительн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дую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енные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по устранению выявленных наруше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58392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ари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едую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10443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ным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ениям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е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н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тиров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ходим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сновывающ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ум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9489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Последующий 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Проверка соответствия перечня и номенклатуры полученных учреждением товаров (работ, услуг) перечню и номенклатуре оплачиваемых товаров (работ, услуг) согласно дого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ие факта получения основных средств, оплаченных по КБК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о в ФКУ о корректиров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03:43Z</dcterms:created>
  <dc:creator>PETROV</dc:creator>
  <dc:description/>
  <dc:language>en-US</dc:language>
  <cp:lastModifiedBy>Валентина</cp:lastModifiedBy>
  <cp:lastPrinted>2003-10-16T11:02:04Z</cp:lastPrinted>
  <dcterms:modified xsi:type="dcterms:W3CDTF">2011-12-05T13:31:54Z</dcterms:modified>
  <cp:revision>1777</cp:revision>
  <dc:subject/>
  <dc:title>Заголовок слайда отсутствует</dc:title>
</cp:coreProperties>
</file>