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1C88-DF19-4E82-9468-6224116DC4F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DC2A-DFBF-4BC4-B34E-B642348E38E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9FE-248D-4857-9D0F-9018D7B6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E98-91D4-4695-9659-71505396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1D0-7E3F-4C38-AF82-7D5D1516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A4B-E957-426A-B54B-85B407A9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745-C7CE-42A9-BF8F-77E7FF02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E7B-C6F2-43E0-8E2E-CF843E98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1AA-1132-42C9-8615-99724EF4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968-2B3D-431F-86D6-D279BB80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376-91A1-4C49-A8B8-5DF80FC5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7396-7B28-4398-8150-663A7B5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420-E957-4338-BB0C-B1387DFA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D34-04E6-4A26-90D7-4F3FD6ED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42CE-6E9C-4B2F-9B8D-A5031C966DE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AF24-66D1-41AF-A5A2-481BA1CC7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9B2-E35C-4E02-A26C-1F0C0F271A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0FA2-459E-4B81-B2A6-274BF72A1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E50-265E-4EB5-96FE-341B83F735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CFD4-F1E7-4082-BF2C-283F455C56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46C-1EDD-48B3-BEB0-AF43BF5DBE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E929-F6AD-431B-B558-91112807D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F92-4103-4E6C-A059-3100580AD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7432-2E67-4C8D-B0A8-4FCC7E666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806-DC6C-416D-929A-14E8DC2814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заработка в 12             определение среднего заработка в 24 календарных месяцах, перед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месяцем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, предшествующих году наступл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наступления страхового случая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страхового случ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дневного                       определение среднего дневного за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(общий заработок  делим                (общий заработок делим на 73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на кол-во календарных дней, за которы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учен заработо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 среднего дневного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из предельной велич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азы (415000 : 36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сравнение данных, полученных    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действии 2 и 3 ша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из меньшей величины определяем                    из среднего дневного заработка, получен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размер  дневного пособия                                   в действии 2, определяем размер днев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определение суммы пособия                              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8D7-C5E5-45D7-93EA-F723588FB8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F967-89AB-47CD-A4C9-0411E3E1DB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en-US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3A3E-2EE9-4537-88EB-C800228803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5A53-0AFC-47AA-A57F-07F74EE346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A23-46A8-4534-B597-401F74F65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394D-66FB-447C-9491-7AEAFCCF8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A47-4A17-48BF-800F-56374E8A03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E711-0E78-4690-80CB-6535C2DB23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Дуга 12"/>
          <p:cNvSpPr/>
          <p:nvPr/>
        </p:nvSpPr>
        <p:spPr>
          <a:xfrm>
            <a:off x="7000920" y="5072040"/>
            <a:ext cx="46080" cy="46080"/>
          </a:xfrm>
          <a:custGeom>
            <a:avLst/>
            <a:gdLst>
              <a:gd name="textAreaLeft" fmla="*/ 23040 w 46080"/>
              <a:gd name="textAreaRight" fmla="*/ 46440 w 460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  <a:lnTo>
                  <a:pt x="23019" y="23019"/>
                </a:lnTo>
                <a:close/>
              </a:path>
              <a:path fill="none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</a:path>
            </a:pathLst>
          </a:custGeom>
          <a:noFill/>
          <a:ln w="9360">
            <a:solidFill>
              <a:srgbClr val="fd82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3FF-821A-430B-9B1A-5CE934AE86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A58-E6FA-42FB-AE1D-D51EA6CF7E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6073-1104-4AA0-B1BB-B27B5864C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9AA-A718-40B4-8AE7-6C082F5CB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5DE-7CB8-46F4-82F1-271C49E61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E11-18DB-4A74-8F3E-8206963523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13F5-894F-4D9E-83FD-45F16A7C1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0B6-B04F-4D16-A408-0A6BF58906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0-12-16T06:34:27Z</dcterms:modified>
  <cp:revision>304</cp:revision>
  <dc:subject/>
  <dc:title>Слайд 1</dc:title>
</cp:coreProperties>
</file>