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990D-C873-44EC-9D24-B67E310F43A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67B-16F3-4D98-838C-754DD8246EB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7AB-5DBD-481E-A40D-31EFD116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B7A-1D24-419A-8909-26AC859F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4E7-9547-4386-AF0F-B009DEBF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CFC-9ABD-4C2B-9C6C-5105F42B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9EE-C709-47B7-8765-116F9C51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AC5-3747-49AA-8894-2DEE80BE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3EE-65DC-42C2-9212-3AD2BCCA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11D-9675-4268-BAEE-E27853A6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DAF-FE1A-4AE9-BDE3-9866B6AE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2B8-E4FE-4384-B4D0-99B416E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7C3-757F-41CC-91DB-ED961D70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A3C-B373-4022-AD59-58E6A9D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FD3B-ECFF-4A51-810E-0A9325B2208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209B-D6F1-43A4-BBF6-1726D106F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A78-42E1-40EC-9BD8-620EB7DF31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5D5F-D5F7-48AE-B922-8CFC81CCA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C35-92D8-4A33-8857-3EC0238798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187A-B1E9-46BF-BF08-513555771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103-1744-40CA-A75E-0C789741AD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4E66-C080-4F3E-82AA-6C09040CE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CBD-A393-4850-9DCC-EEE07DAB4D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04B6-314F-48B7-B85A-5127B58A2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733-808D-4CD4-A836-D938478E2E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заработка в 12             определение среднего заработка в 24 календарных месяцах, перед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месяцем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, предшествующих году наступл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наступления страхового случая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страхового случ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дневного                       определение среднего дневного зарабо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(общий заработок  делим                (общий заработок делим на 73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на кол-во календарных дней, за которы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лучен заработо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 среднего дневного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из предельной велич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азы (415000 : 36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сравнение данных, полученных    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и действии 2 и 3 ша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из меньшей величины определяем                    из среднего дневного заработка, получен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размер  дневного пособия                                   в действии 2, определяем размер днев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определение суммы пособия                              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60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81E-5E44-445E-927E-E19F3ECE1E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8DC0-2F2C-4835-9319-D75795265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en-US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198-A5EB-4508-8E33-724A58D15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29D1-E047-45D5-BBCF-9A50DCD49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86D-D9D6-4BE3-896D-AFC78CF5A7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E90F-471D-4F03-B008-CBECA1519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078-287E-46A5-921E-7797C0D5B4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6F77-B953-47DD-97E4-11DEDC75F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Дуга 12"/>
          <p:cNvSpPr/>
          <p:nvPr/>
        </p:nvSpPr>
        <p:spPr>
          <a:xfrm>
            <a:off x="7000920" y="5072040"/>
            <a:ext cx="46080" cy="46080"/>
          </a:xfrm>
          <a:custGeom>
            <a:avLst/>
            <a:gdLst>
              <a:gd name="textAreaLeft" fmla="*/ 23040 w 46080"/>
              <a:gd name="textAreaRight" fmla="*/ 46440 w 460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  <a:lnTo>
                  <a:pt x="23019" y="23019"/>
                </a:lnTo>
                <a:close/>
              </a:path>
              <a:path fill="none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</a:path>
            </a:pathLst>
          </a:custGeom>
          <a:noFill/>
          <a:ln w="9360">
            <a:solidFill>
              <a:srgbClr val="fd82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A3A-D4DB-49DA-B91E-0D407A694A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BE4-F495-4577-8E27-64131D29AE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F4E0-8E06-4AF2-831E-5F5241CE0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C4A-1C77-4DF9-B278-13F542E384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5284-A240-4AAC-928E-A04E84A1A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725-85DC-49D2-8D9C-2F4FD48DF4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3551-A409-4122-9ADD-9668AC682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03D-E359-42C0-869B-3CDD14C433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0-12-16T06:34:27Z</dcterms:modified>
  <cp:revision>304</cp:revision>
  <dc:subject/>
  <dc:title>Слайд 1</dc:title>
</cp:coreProperties>
</file>