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88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024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CEB40-C1F3-47B2-B03A-C4CF55970C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A1E6E7-61AD-4160-8109-BFCFCE7687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84E8C0-A7F2-4A6A-A889-FA5063D35F9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7BED3-5DB2-444E-B0A7-F6A6EC0EEE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CE56C-EC0E-454A-A193-5A78AB66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6B2A-6F2A-47CA-B3B8-23EF9FCB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167D-2561-40FD-BCD9-048273E26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366A4-D990-4255-9A5A-AD12502142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5E5A6-6914-4117-BFCB-278D2378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E8060-83BE-412B-A3C2-50014039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1D0FA-0D25-40A0-8003-21338396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4C203-38B2-4D86-B57F-3E865BB0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3FA5D-BA01-4950-9A48-63B81D91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ADA05-C268-40CD-9A10-062618C3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B4506-59B4-495C-94F8-F552E37B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5B12E-46F4-4768-9B24-D50A620E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6763D-AAE7-4BA9-B339-82D4C9AC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AE7F9-31B9-460F-A3BB-DF2F3977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6E803-FF12-4BE1-BACB-E80FC666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98223-6ABA-4434-AFCE-979AA8857B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7C339-A9A1-4DE8-B5DE-C957EABB3A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95FFE-8E12-4F92-9913-38E9A35C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C90BF-D6F3-4F8D-9155-77C3A9CA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9E8D3-B09A-4BD7-9245-74D09433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01A92-7469-4D6D-AB86-0F424712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1E88-D586-4B30-97FB-758D159F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6ED8F-9B6F-42F2-ADDB-16E1ACD8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8CC248-D30C-449A-A084-FD702F11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E0AF9-DDCF-4933-B8DB-FE004809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9AEF2-E381-45CC-970A-7F16AE92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F28EE-6867-4419-B995-069506A0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05FC7-1B63-4E1F-B09A-6D5B3DB1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C04AA-F479-420F-B9C5-A18791BD20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6560D-5BC2-4793-870C-C2084AF2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21768-8D8D-4A44-B637-A1FC330C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23DE-FBF1-42BD-AA82-16080C03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B659-F380-4FEC-B06C-B6A58550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D119F-2FF4-4EE1-A6ED-F2E45F4E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4644-1B45-4026-8F0A-BE5CFF96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31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1487520"/>
            <a:ext cx="88106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720"/>
            <a:ext cx="2589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C21CC98-BF0B-4BA1-B9F9-60F386A7BF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AD8B64-7826-49F1-B812-8B8E01C16D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7C5054-AB13-4538-9A11-1064CFC2946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3250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МИФЫ и РЕАЛЬНОСТЬ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о законопро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268280"/>
            <a:ext cx="406728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деятельности бюджетных учреждений осуществляется по смете. В итоге они  заинтересованы просто потратить бюджетные день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до конца финансового года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и обосновать увеличение сметы на следующий г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Связь финансирования и результатов деятельности учреждения напрямую отсутствует, осуществляется содержание действующей сети учреждений, а не объема услуг (ст. 161, 221 БК РФ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е повысит качество услуг для граждан, а также заинтересованность бюджетных учреждений в результатах свое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6872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1268280"/>
            <a:ext cx="5148360" cy="4464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выполнения госзадания осуществляется путем предоставления субсидии на его выполнение. Госзадание устанавливает показатели эффективности, объема, категории получателей госуслуги и результаты от оказания услуг, таким образом устанавливается связь между финансовым обеспечением учреждения и качеством (результатом) его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Не использованные до конца финансового года остатки субсидий, предоставленных бюджетному учреждению на выполнение госзадания,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остаются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в распоряжении бюджетного учреждения (п. 10 ст. 19 Законопроек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77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ФИНАНСОВОЕ ОБЕСПЕЧЕНИЕ УВЯЗЫВАЕТСЯ С РЕЗУЛЬТАТОМ И ПОКАЗАТЕЛЯМИ ЭФФЕКТИВНОСТИ ОКАЗАНИЯ ГОСУСЛУГИ, СОЗДАЕТСЯ МОТИВАЦИИЯ ДЛЯ ЭКОНОМИИ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Принятие законопроекта повлечет массовые уволь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16280"/>
            <a:ext cx="9144000" cy="3816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В законопроекте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прямо указано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что в связи с его принятием не требуется переназначение руководителей и работников казенных учреждений, созданных в соответствии с законом, и существующих бюджетных учреждений (п. 7 ст. 20 Законопроекта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25360"/>
            <a:ext cx="3492360" cy="40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(ст. 161, 219 БК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роме того, информация о деятельности бюджетного учреждения закрыта для общественности, так как законодательство не устанавливает нормы о публикации такой информации в открытом досту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Средства бюджета, попав в новые бюджетные учреждения, перестанут контролироваться их использование не будет прозрач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125360"/>
            <a:ext cx="5651640" cy="410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Счета по прежнему будут открыты в Федеральном казначействе или финансовом органе, таким образом, хоть санкционирования за использованием субсидии на госзадание не предусматривается, но содержание операции становится видным, в том числе и для проверяющ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в открытом доступе в сети Интернет публикуются следующие сведения об учрежде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) Юридические документы - учредительные документы; свидетельство о государственной регистрации; решение учредителя о создании; решение учредителя о назначении руководителя; положения о филиалах, представитель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) Финансовые документы - план финансово-хозяйственной деятельности; годовая бухгалтерская отчетность; сведения о проведенных в отношении учреждения контрольных мероприятиях и их результатах; госзадание на оказание услуг (выполнение работ); отчет о результатах деятельности и об использовании закрепленного госимущества      (ст. 32 Закона «О некоммерческих организациях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ДЕЯТЕЛЬНОСТЬ БЮДЖЕТНЫХ УЧРЕЖДЕНИЙ СТАНЕТ НАМНОГО ПРОЗРАЧНЕЕ ДЛЯ ОБЩЕСТВЕНН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аспределение госзаданий приведет к повышению корруп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52640"/>
            <a:ext cx="9144000" cy="4680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Коррупциогенный фактор создается не в процессе формирования сметы или госзадания, а в результате отсутствия прозрачности и нечеткости административных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аправлен на повышение публичности и открытости деятельности бюджетных учреждений (ст. 32 Закона «О некоммерческих организациях»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бюджетной смете утверждается объем финансового обеспечения, в госзадании утверждается не только объем субсидии на его выполнение, но и устанавливаются показатели эффективности (ст. 69.2 Б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021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ЗАКОНОПРОЕКТ НЕ СОЗДАЕТ  КОРРУПЦИОГЕННЫХ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уководители новых бюджетных учреждений станут полновластными хозяевами бюджетных учреждений, не подконтрольными ник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68280"/>
            <a:ext cx="9144000" cy="44625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роме предусмотренной в настоящее время законодательством РФ ответственности (административной, уголовной) руководитель несет также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персональную ответствен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за просроченную кредиторскую задолженность бюджетного учреждения, превышающую предельно допустимые значения, установленную органом, осуществляющим функции и полномочия учредителя, за превышение которой трудовой договор с ним может быть расторгнут в одностороннем порядке (п. 6 ст. 19 Законопроекта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Руководитель бюджетного учреждения несет перед бюджетным учреждение ответственность в размере убытков, причиненных в результате совершения крупной сделки, в случае если эта сделка не была предварительно согласована с учредителем (п.12 ст. 9.2 Закона «О некоммерческих организациях»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13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 ПРОСРОЧЕННУЮ КРЕДИТОРСКУЮ ЗАДОЛЖЕННОСТЬ – УВОЛЬНЕНИЕ, ЗА УБЫТОК – ВЗЫСКАНИЕ В РАЗМЕРЕ УБЫ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УСТАНОВЛЕНИЕ УКАЗАННЫХ НОРМ ТРЕБУЕТ ОТ УЧРЕДИТЕЛЯ БЮДЖЕТНОГО УЧРЕЖДЕНИЯ ПОСТОЯННОГО МОНИТОРИНГА ФИНАНСОВОГО СОСТОЯНИЯ БЮДЖЕТ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Целью законопроекта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вышение качества государственных (муниципальных) услуг, предоставляемых нас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здание стимула и мотивации для учреждений к эффективному использованию финансовых ресурсов и государственного (муниципального)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станавливаются новые нормы, направленные на обеспечение прозрачности деятельности бюджет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место существующей информации об исполнении сметы, предметом отчетности бюджетного учреждения становится отчет о результатах деятельности и об использовании закрепленного за учреждением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конопроект вводит новые нормы контроля за бюджетным учреждением, в том числе посредством контроля за финансовым состоянием (просроченной кредиторской задолженности, за совершением крупной сделки,  информацией о деятельности бюджетного учреждения, в том числе в части выполнении государственного задания, о результатах проведенных в отношении учреждения контрольных 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6526080"/>
            <a:ext cx="1511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Слайд 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41400"/>
            <a:ext cx="9144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Обсуждение законопроекта идет тихо, не обеспечена необходимая гласность и открыт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07920"/>
            <a:ext cx="9144000" cy="5329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анное утверждение не соответствует действ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была предусмотр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далее см. слайд 2.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должение слайд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4640"/>
            <a:ext cx="9144000" cy="5545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осуществлялась Рабочей группой при Правительстве Российской Федерации, с участием представителей федеральных органов государственной власти, ГУ ВШ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внесен 31 декабря 2009 г. Правительством РФ  в Госдуму РФ и размещен на сайте Госдумы, направлен всем субъектам Российской Федерации, а также в Счетную и Общественную палаты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обсужден в 13 комитетах и комиссиях Государственной Думы и Совета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6 и 27 февраля 2010 года на совещании Министерства финансов РФ с представителями всех федеральных органов государственной власти  были обсуждены основные положения Законопроекта, а также мероприятия по подготовке его к ре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марте 2010 г. были проведены неоднократные встречи по оценке социально-экономических последствий Законопроекта с представителями  Федерации Независимых Профсоюзов России, с Комиссией по социальному страхованию, социальной защите, отраслям социальной сферы Российской трехсторонней комиссии по регулированию социально-трудовых 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ходе обсуждения 2 апреля 2010 года Законопроект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-трудовых отношений информации о ходе реализации Законо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оведены совещания представителями Минфина России  с участием Сообщества финансистов России, а также в субъектах РФ (включая г. Москву, Республики Саха (Якутия), Коми, Татарстан, Оренбургскую обла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дготовка законопроекта и обсуждение его в Правительстве РФ  и Госдуме РФ происходили в атмосфере открытости и активного участия в работе над ним заинтересован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4572000" cy="475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11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ринятие законопроекта приведет к приватизации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ого имуще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125360"/>
            <a:ext cx="4643280" cy="47516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, п. 9 ст. 9.2 Закона «О некоммерческих организация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ВСЕ ИМУЩЕСТВО ПО ПРЕЖНЕМУ ОСТАЕТСЯ В СОБСТВЕННОСТИ СООТВЕТСТВУЮЩЕГО ПУБЛИЧНОГО ПРАВОВОГО ОБРАЗОВАНИЯ, СЛЕДОВАТЕЛЬНО ПРИВАТИЗАЦИИ ЭТОГО ИМУЩЕСТВА НЕ ПРОИЗОЙД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4500720" cy="518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начнут банкротить в целях завладения их имуществом и земельными участ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692280"/>
            <a:ext cx="4498920" cy="52578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89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БАНКРОТСТВО НОВОГО БЮДЖЕТНОГО УЧРЕЖДЕНИЯ НЕВОЗ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97000"/>
            <a:ext cx="3564000" cy="46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не вправе отчуждать, либо иным способом распоряжаться имуществом, закрепленным за ним собственником или приобретенным за счет средств, выделенных ему собственником на приобретение такого имущества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Земельный участок предоставляется бюджетному учреждению на праве постоянного (бессрочного) пользования, предусматривающем ограничение оборотоспособности земельного участка (ст. 20 Земельного кодекса РФ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7600"/>
            <a:ext cx="9144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ое бюджетное учреждение в обеспечение своих договоров будут закладывать земли и имущество, отдавать недвижимое имущество за дол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1197000"/>
            <a:ext cx="5507280" cy="5040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без согласия собственника не вправе распоряжаться особо ценным движимым имуществом, закрепленным за ним собственником или приобретенным бюджетным учреждением за счет средств, выделенных ему собственником на приобретение такого имущества, а также недвижимым имуществом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В дополнение к Земельному кодексу, аналогичная норма, определяющая ограничение оборотоспособности земельного участка, предоставляемого бюджетному учреждению, устанавливается в статье 9.2 Закона «О некоммерческих организация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ПЕРЕДАЧА В ЗАЛОГ НЕДВИЖИМОГО ИМУЩЕСТВА, ОСОБО ЦЕННОГО ДВИЖИМОГО ИМУЩЕСТВА, ЗЕМЕЛЬНЫХ УЧАСТКОВ БЕЗ СОГЛАСИЯ СОБСТВЕННИКА НЕЗАКО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07920"/>
            <a:ext cx="3492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Новые бюджетные учреждения начнут злоупотреблять свободой, распродавая достояние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981000"/>
            <a:ext cx="5508720" cy="4896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законопроект регулирует отношения по крупным сделкам (к которым относятся сделки связанные с распоряжением денежными средствами, отчуждением иного имущества (которым БУ вправе распоряжаться самостоятельно), с передачей такого имущества в пользование или в залог, при условии что цена такой сделки превышает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балансовой стоимости активов бюджетного учреждения). Крупная сделка может быть совершена только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предварительного согласия учредителя (п. 12 ст. 9.2 Закона «О некоммерческих организациях»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ИМУЩЕСТВО ЯВЛЯЕТСЯ ГОСУДАРСТВЕННОЙ СОБСТВЕННОСТЬЮ, СДЕЛКИ С ИМУЩЕСТВОМ ПОДКОНТРОЛЬНЫ УЧРЕДИТЕЛЮ И СОБСТВЕН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07920"/>
            <a:ext cx="414036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на бюджетные и автономные учреждения не распространяется (п.5 ст. 1 Закона «О некоммерческих организациях»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, если такое право предусмотрено учредительными документами (ст. 298 ГК РФ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00" y="115920"/>
            <a:ext cx="92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о своему статусу новые бюджетные учреждения являются коммерческими организац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836640"/>
            <a:ext cx="5076720" cy="4608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распространяется на бюджетные учреждения и является «базовым» законом, ограничивающим режим распоряжения имуществом, устанавливающим требования публичности информации о деятельности бюджетного учреждения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 при условии, что такая деятельность указана в его учредительных документах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лишь постольку, поскольку это служит достижению целей, ради которых оно создано, и соответствующую этим целям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ст. 298 ГК РФ, п. 4 ст. 9.2 Закона «О некоммерческих организациях»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6610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ЗАКОНОПРОЕКТОМ УСИЛИВАЕТСЯ НОРМА,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3851280" cy="42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ИФ: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будут наращивать платные услуги за счет сокращения объема бесплатн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981000"/>
            <a:ext cx="5364000" cy="446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казывать платные услу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только свер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установленного государственного (муниципального) задания, а также в рамках госзадания, если это прямо установлено в федеральном законе, на 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одинаковы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при оказании одних и тех же услуг условиях (ст. 9.2 Закона «О некоммерческих организациях» 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КОНОПРОЕКТ УТОЧНЯЕТ ДЕЙСТВУЮЩИЕ НОРМЫ,  О ТОМ ЧТО ПЛАТНЫЕ УСЛУГИ МОГУТ ОКАЗЫВАТЬСЯ ТОЛЬКО СВЕРХ ГОСЗАДАНИЯ, А В РАМКАХ ГОСЗАДАНИЯ, ЕСЛИ ЭТО УСТАНОВЛЕНО ФЕДЕРАЛЬНЫМ ЗАКОНОМ (НАПРИМЕР, БИЛЕТЫ В ТЕАТРЫ, МУЗЕИ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mov I.L.</dc:creator>
  <dc:description/>
  <dc:language>en-US</dc:language>
  <cp:lastModifiedBy>eilyina</cp:lastModifiedBy>
  <cp:revision>0</cp:revision>
  <dc:subject/>
  <dc:title>No Slide Title</dc:title>
</cp:coreProperties>
</file>