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229-7030-4D3D-A55F-95BEA642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EF39-4E86-4153-8BC4-D17ACD43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69C-6702-4D9E-A489-DE5B2ADD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6D4-60AD-478B-B423-4E8ECF9A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1357-001B-459E-8FA3-A0E27980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41B-B5A0-488C-945B-27B28E9B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7D7-73DE-40FE-B373-71557AA6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26F-8396-4136-98E7-E95EC07D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C851-D5C7-423B-A91D-0DEA66B9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C215-27ED-4F15-90F4-EC2F103D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F793-5AEB-4B5B-A8C3-6608589C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2B7-5C34-4362-AB52-FEA3AAF3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cc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1230-6977-43CA-9F76-A48FFFAC70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a50021"/>
                </a:solidFill>
                <a:latin typeface="Arial"/>
              </a:rPr>
              <a:t>                                                                                                                                                  </a:t>
            </a:r>
            <a:r>
              <a:rPr b="1" i="1" lang="ru-RU" sz="1200" spc="-1" strike="noStrike">
                <a:solidFill>
                  <a:srgbClr val="a50021"/>
                </a:solidFill>
                <a:latin typeface="Arial"/>
              </a:rPr>
              <a:t>Слайд №38</a:t>
            </a:r>
            <a:br>
              <a:rPr sz="1200"/>
            </a:b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Пример  учета периода военной службы при </a:t>
            </a:r>
            <a:r>
              <a:rPr b="1" i="1" lang="ru-RU" sz="2800" spc="-1" strike="noStrike" u="sng">
                <a:solidFill>
                  <a:srgbClr val="a50021"/>
                </a:solidFill>
                <a:uFillTx/>
                <a:latin typeface="Arial"/>
              </a:rPr>
              <a:t>исчисления страхового стажа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(ст.16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ФЗ №255-ФЗ) </a:t>
            </a:r>
            <a:br>
              <a:rPr sz="3600"/>
            </a:b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	</a:t>
            </a:r>
            <a:br>
              <a:rPr sz="3600"/>
            </a:b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1219320"/>
            <a:ext cx="914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ериоды прохожд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оенной службы до 31.12.2006 года учитываются  в порядке, установленном ст. 17 Закона №255-ФЗ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С 1 января 2007 года в случае если период военной службы  согласно Закону   от 24.07.2009 №213-ФЗ   влияет на размер пособия, осуществляется дополнительное финансирование за счет средств   федерального бюдже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Наприме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страхованный заболел 1 февраля 2010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6 лет  военной службы до 31.12.2006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2 года военной службы    за период с 1.01.2007 по 31.12.2008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бота по трудовому  договору  7 месяцев ( с 01.07.2009 по 1 февраля 2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г.)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ий страховой стаж  с учетом всей военной службы  до 31.12.2006 составляет 6,7 лет  -размер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особия  80 % среднего заработк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ключаем в страховой стаж 2 года  военной службы после 2006 года. Итого:  стаж  8,7 лет – 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азмер пособия    100% среднего зарабо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ница между ними  20%. Пособие в размере 20 % необходимо отнести на расходы федерального бюджета (показать  в форме -4 ФСС Р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03T07:30:33Z</dcterms:modified>
  <cp:revision>2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