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1F13-2D62-447C-B954-BFD88C4793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CE85-E600-4586-B240-FD3772894EF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71C-44DA-4342-9109-F3D2328B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EF0-50CC-4C6B-951B-EEF134A8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379-3D64-4BED-A6DC-0DEA6F5B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9CC-1F92-4EF9-8E7C-5DBE74D8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7F5-6682-4F94-A431-AC18366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BED-7EFC-444C-AF32-58568498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44C-6C6E-4867-9FF8-B6108355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5F0-4C3B-4674-8BA5-0B0164B9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1E6-34C7-415E-AC0C-7FDB746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EF7-D105-48AB-AA70-477C9202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521-432D-4FDA-9144-6ABEEF7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FC2-C601-4E3F-89A2-F12208D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0407-4416-4299-9BCB-55DB66BEE1C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7843-FD43-4426-9827-DF41BC5DF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6831-A634-4A05-9FD3-164A2D2A4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ED1E-1156-4E5D-83B0-2FE8E7941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C7F-A5C4-4921-869A-0C4E9B209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9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6643-07B3-4D0B-B0AD-06E1528AF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057-8672-4CA9-B663-F90205D1A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6B60-0489-4AB6-B1C7-C80661A25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C40B-0619-493D-B99C-FD2CE26B9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F56-7DC8-424F-A27C-041AAA0C5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B916-7D59-4672-B097-757D3CE19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ru-RU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169-5C9A-438A-B0AF-C63FB1E13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83A-5ABC-44C2-9178-C34C4A26D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ru-RU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ru-RU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ru-RU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5136-8291-4583-B07C-11EAB2681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A0A-8141-4595-B1A4-7D2123705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E00-C434-40EB-8269-809E71A80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5E7-961D-4FDA-B63F-DB573F862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EBBB-9793-4B10-9A1A-AD9D6EC27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48B-E039-4028-83C4-785AC4435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Дуга 12"/>
          <p:cNvSpPr/>
          <p:nvPr/>
        </p:nvSpPr>
        <p:spPr>
          <a:xfrm>
            <a:off x="7000920" y="5072040"/>
            <a:ext cx="46080" cy="46080"/>
          </a:xfrm>
          <a:prstGeom prst="pie">
            <a:avLst/>
          </a:prstGeom>
          <a:noFill/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E65-3654-4159-90B3-B7BE8DE3D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392-3994-4C00-9006-8555C1DF3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B85-729D-4201-8388-CD6863F28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1A5B-2CFD-4470-AAED-1E0D1999E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DCF-438C-4547-BCE3-C510CA938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0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1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F9F-F49F-4186-8EA9-14D5E7D47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4753-C297-4C43-8503-9235340E1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1-03-03T07:30:57Z</dcterms:modified>
  <cp:revision>305</cp:revision>
  <dc:subject/>
  <dc:title>Слайд 1</dc:title>
</cp:coreProperties>
</file>