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910763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12440" y="745920"/>
            <a:ext cx="538164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EE43F-C0F7-4729-BF5C-F9069E2463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19837-108F-4540-9252-E1604B1D9E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714240" y="746280"/>
            <a:ext cx="5372280" cy="371952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0760" y="4721040"/>
            <a:ext cx="543852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01CB6-B91F-406F-915D-74B0026A2B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714240" y="746280"/>
            <a:ext cx="5372280" cy="371952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0760" y="4721040"/>
            <a:ext cx="543852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EF6C1-6386-4249-989D-6CBCD2B28E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714240" y="746280"/>
            <a:ext cx="5372280" cy="3719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0760" y="4721040"/>
            <a:ext cx="543852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BF6C7-F49C-4EAD-8F71-839AF24792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1640" cy="37256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B9BA-64A0-4C0C-9DB8-956A6EB58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8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8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360" y="3964320"/>
            <a:ext cx="8918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21DE-9B17-4598-B0B8-C729DB624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8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5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5560" y="1600200"/>
            <a:ext cx="435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5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5560" y="3964320"/>
            <a:ext cx="435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A752-0720-48E6-9E1A-13919AECF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8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2871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1080" y="1600200"/>
            <a:ext cx="2871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6800" y="1600200"/>
            <a:ext cx="2871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360" y="3964320"/>
            <a:ext cx="2871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1080" y="3964320"/>
            <a:ext cx="2871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6800" y="3964320"/>
            <a:ext cx="2871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8294-07B0-4E55-A61B-BF5BDDEDE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8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360" y="1600200"/>
            <a:ext cx="8918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8718-AB7E-4ACF-9FD8-89779A4F7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8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8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C42B-6035-402E-AC31-D5A8FD219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8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52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5560" y="1600200"/>
            <a:ext cx="4352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1FD4-7149-47E5-8A52-FB699AF29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8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0629-2726-49CF-AD06-707C0BF10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8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7DC6-DE37-4A31-B543-88A240AEC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8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5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5560" y="1600200"/>
            <a:ext cx="4352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5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CBDC-B44E-4764-8927-A83AC1E4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8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52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5560" y="1600200"/>
            <a:ext cx="435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5560" y="3964320"/>
            <a:ext cx="435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D64C-CA09-4C42-AC09-1D3332944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8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5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5560" y="1600200"/>
            <a:ext cx="435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8918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831F-DCC1-461A-8422-E079E7085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50000">
              <a:srgbClr val="ffffcc"/>
            </a:gs>
            <a:gs pos="100000">
              <a:srgbClr val="ffcccc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8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8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000" y="6244920"/>
            <a:ext cx="2313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6160" y="6244920"/>
            <a:ext cx="3137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00640" y="6244920"/>
            <a:ext cx="2313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02DC8-70A6-4588-9877-3BBFE0C9DA46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65240" y="152280"/>
            <a:ext cx="974376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algn="ctr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нд социального страхования Российской Федерации: 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http://www.fss.ru/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algn="ctr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http://fz122.fss.ru/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logo"/>
          <p:cNvPicPr/>
          <p:nvPr/>
        </p:nvPicPr>
        <p:blipFill>
          <a:blip r:embed="rId1"/>
          <a:stretch/>
        </p:blipFill>
        <p:spPr>
          <a:xfrm>
            <a:off x="0" y="228600"/>
            <a:ext cx="305604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9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Порядок назначения и выплаты пособия в соответствии с частью 2.2 статьи 13 Зак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-360" y="762120"/>
            <a:ext cx="99090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обия по временной нетрудоспособности, по беременности и родам назначаются и выплачиваются либо по всем местам работы (вар.№1) либо по одному из последних мест работы (вар.№2), ес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момент наступления страхового случая застрахованное лицо занято у нескольких работодателей и в двух предшествующих календарных годах было занято как у этих же работодателей, так и у других (другого) работода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 Иванова С.И. временная нетрудоспособность наступила с 20.01.2011.-31.01.2011,.страховой стаж 8 лет, 3 мес. (100%). На момент наступления заболевания он работал в течение двух календарных лет в ООО Лилия и ООО Астра и получи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2010 году        в 2009 год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ОО Лилия                     250000 руб.        350000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ОО Астра                     150000 руб.         200000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ирма Звезда                                            300000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).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Расчет пособия каждым страховател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ОО Лилия и ООО Аст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990000"/>
                </a:solidFill>
                <a:uFillTx/>
                <a:latin typeface="Arial"/>
              </a:rPr>
              <a:t>Внимание!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Заработок полученный в Фирме Звезда, не учитывается (ч.1 ст.1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). Расчет пособия по одному из последних мест работы, например ООО Лил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 Заработок по годам составит:      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за 2009г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– 350000 (ООО Лилия)+300000 (фирма Звезда)+200000 (ООО Астра)=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850000 руб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(за 2009г.– заработок ограничиваем суммой в 415000 руб.),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за 2010г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– 250000+150000=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400000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 ср/дн. заработок равен  (415000+400000):730=1116,44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 сумма пособия составит 1116,44х12=13397,28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9147240" y="0"/>
            <a:ext cx="761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таблица 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9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Определение среднего заработка для расчета пособий по временной нетрудоспособности, по беременности и родам, ежемесячного пособия по уходу за ребенком (ч.2 ст.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2880" y="3804120"/>
            <a:ext cx="9155160" cy="13064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В заработок включаются все виды выплат и иных вознаграждений в пользу работника, на которые начислены страховые взно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5"/>
          <p:cNvSpPr/>
          <p:nvPr/>
        </p:nvSpPr>
        <p:spPr>
          <a:xfrm>
            <a:off x="382680" y="1600200"/>
            <a:ext cx="921996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Заработок за два календарных года, предшествующих году наступления страхового случая, в том числе за время работы у другого работода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6"/>
          <p:cNvSpPr/>
          <p:nvPr/>
        </p:nvSpPr>
        <p:spPr>
          <a:xfrm>
            <a:off x="382680" y="5791320"/>
            <a:ext cx="9296280" cy="914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Средний дневной заработок определяется путем деления суммы начисленного заработка на 7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7"/>
          <p:cNvSpPr/>
          <p:nvPr/>
        </p:nvSpPr>
        <p:spPr>
          <a:xfrm rot="5400000">
            <a:off x="4573080" y="3047760"/>
            <a:ext cx="533520" cy="685800"/>
          </a:xfrm>
          <a:custGeom>
            <a:avLst/>
            <a:gdLst>
              <a:gd name="textAreaLeft" fmla="*/ 66600 w 533520"/>
              <a:gd name="textAreaRight" fmla="*/ 466920 w 53352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8"/>
          <p:cNvSpPr/>
          <p:nvPr/>
        </p:nvSpPr>
        <p:spPr>
          <a:xfrm rot="5400000">
            <a:off x="4573080" y="5105160"/>
            <a:ext cx="533520" cy="685800"/>
          </a:xfrm>
          <a:custGeom>
            <a:avLst/>
            <a:gdLst>
              <a:gd name="textAreaLeft" fmla="*/ 66600 w 533520"/>
              <a:gd name="textAreaRight" fmla="*/ 466920 w 53352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9"/>
          <p:cNvSpPr/>
          <p:nvPr/>
        </p:nvSpPr>
        <p:spPr>
          <a:xfrm>
            <a:off x="9147240" y="0"/>
            <a:ext cx="761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таблица 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9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Особенности определения среднего заработка для исчисления пособий за период до 1 января 2010г. , а для лиц, работающих по трудовым договорам в организациях и у индивидуальных предпринимателей, применяющих специальные налоговые режимы - за период до 1 января 2011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93920" y="2092680"/>
            <a:ext cx="9073080" cy="20628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средний заработок включаются все виды выплат и иных вознаграждений в пользу работника, на которые начисляются страховые взносы в ФСС и которые не превышают предельную величину базы для начисления страховых взносов в Фонд, установленную в 2010 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5"/>
          <p:cNvSpPr/>
          <p:nvPr/>
        </p:nvSpPr>
        <p:spPr>
          <a:xfrm>
            <a:off x="382680" y="4952880"/>
            <a:ext cx="9296280" cy="1752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едний заработок учитывается за каждый календарный год в сумме, не превышающей предельную величину базы для начисления страховых взносов в Фонд, установленную в 2010 г. (415000 руб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6"/>
          <p:cNvSpPr/>
          <p:nvPr/>
        </p:nvSpPr>
        <p:spPr>
          <a:xfrm rot="5400000">
            <a:off x="4649040" y="1295280"/>
            <a:ext cx="533520" cy="685800"/>
          </a:xfrm>
          <a:custGeom>
            <a:avLst/>
            <a:gdLst>
              <a:gd name="textAreaLeft" fmla="*/ 66600 w 533520"/>
              <a:gd name="textAreaRight" fmla="*/ 466920 w 53352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7"/>
          <p:cNvSpPr/>
          <p:nvPr/>
        </p:nvSpPr>
        <p:spPr>
          <a:xfrm rot="5400000">
            <a:off x="4573080" y="4267080"/>
            <a:ext cx="533520" cy="685800"/>
          </a:xfrm>
          <a:custGeom>
            <a:avLst/>
            <a:gdLst>
              <a:gd name="textAreaLeft" fmla="*/ 66600 w 533520"/>
              <a:gd name="textAreaRight" fmla="*/ 466920 w 53352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9147240" y="0"/>
            <a:ext cx="761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таблица 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95360" y="250560"/>
            <a:ext cx="89186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9680" y="837720"/>
            <a:ext cx="9448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1.Пособия исчисляются из МРОТ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в случаях есл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вух календарных годах, предшествующих году наступления страхового случая, отсутствует заработная пла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ний месячный заработок составляет ниже МР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РОТ применяется без учета районного коэффициента (ч.1.1 ст.14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месте с тем аналогична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рма закреплен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.11(1) Положения, утв.Постановлением Правительства РФ №375 (в ред.Постановления Правительства от 01.03.2011 №120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этом в районах и местностях, в которых в установленном порядке применяется районный коэффициент к заработной плате, исчисленный застрахованному лицу исходя из МРОТ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размер соответствующего пособия определяется с учетом этих коэффициен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2.При неполном рабочем времени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средний заработок в указанных выше случая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пределяется пропорционально продолжительности рабочего врем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к при работе на 0,5 ставки пособие надо исчислять из 2165 руб. (50%МРОТ) (ч.1.1 ст.14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458640" y="0"/>
            <a:ext cx="8991720" cy="838080"/>
          </a:xfrm>
          <a:prstGeom prst="roundRect">
            <a:avLst>
              <a:gd name="adj" fmla="val 16667"/>
            </a:avLst>
          </a:prstGeom>
          <a:solidFill>
            <a:srgbClr val="535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Особенности исчисления и выплаты пособ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9147240" y="0"/>
            <a:ext cx="761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таблица 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9680" y="0"/>
            <a:ext cx="94489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Расчет пособия по временной нетрудоспособности (если работник не имел заработка, либо месячный заработок ниже МРОТ, не представил справок о своем заработке с прошлого места работы), т.е расчет пособия исходя из МР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9909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трудник ООО «Смена» принес листок нетрудоспособности с 14 по 18 марта 2011г. (5 кал. дней). Страховой стаж – 4г. 4 м. – 6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ОО «Смена» работник трудится с 1 сентября 2010г. В 2009г. сотрудник не работал, в 2010г. с 8 февраля по 15 июня – работал в другой организ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лад сотрудника в ООО «Смена» равен 20000руб. Расчетный период 2009-2010гг. Заработок в ООО «Смена» составил 80000руб. (20000х4мес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работок с предыдущего места работы сотрудник подтвердить не смог, поэтому расчет пособия произведен только из заработка ООО «Смен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0000руб. меньше 415000руб. и меньше 103920руб. (4330 (МРОТ)х24мес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9450360" y="-182520"/>
            <a:ext cx="4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9/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54080" y="152280"/>
            <a:ext cx="960120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обие нужно исчислять из минимума. Сумма пособия будет рав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3920 руб./730 дн.=142,36 руб. - мин.размер дневного пособ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42,36 руб. х 60%=85,42 руб. - среднедневное пособие в зависимости от страхового стаж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5,42 руб. х 5 дн. =427,10 руб. 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мер пособ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а счет работодател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427,10/5дн.х3дн.=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256,26 ру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,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а счет ФС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427,10/5дн.х2дн.=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170,84 ру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в данной местности установлены районные коэффициенты, то при исчислении пособий в соответствии с ч.1.1 ст.14 Закона №255-ФЗ и с п.11.1 Положения №375 (в ред.Постановления Правительства от 01.03.2011 №120)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айонный коэффициент применяется уже к исчисленному размеру пособ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9147240" y="0"/>
            <a:ext cx="761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9/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9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амена одного (двух) календарных годов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которых отсутствует заработок для исчисления пособий (ч.1 ст.14)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ричины отсутствия заработ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99320" y="2174400"/>
            <a:ext cx="4149360" cy="7567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пуск по беременности и род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5"/>
          <p:cNvSpPr/>
          <p:nvPr/>
        </p:nvSpPr>
        <p:spPr>
          <a:xfrm>
            <a:off x="5259240" y="2133720"/>
            <a:ext cx="4419720" cy="838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пуск по уходу за ребен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306360" y="3048120"/>
            <a:ext cx="9448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Условия замены календарных го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7"/>
          <p:cNvSpPr/>
          <p:nvPr/>
        </p:nvSpPr>
        <p:spPr>
          <a:xfrm>
            <a:off x="458640" y="4114800"/>
            <a:ext cx="438336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мена осуществляется по заявлению застрахованного л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8"/>
          <p:cNvSpPr/>
          <p:nvPr/>
        </p:nvSpPr>
        <p:spPr>
          <a:xfrm>
            <a:off x="5030640" y="4114800"/>
            <a:ext cx="464832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мена календарных годов приведет к увеличению размера пособ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230040" y="5410080"/>
            <a:ext cx="94489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4.  Перерасчет пособия за прошлое время,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о не более чем за три года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шествующих дню представления справок (справки) о сумме заработка (ч.2.1 ст.1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0"/>
          <p:cNvSpPr/>
          <p:nvPr/>
        </p:nvSpPr>
        <p:spPr>
          <a:xfrm flipH="1" rot="2003400">
            <a:off x="2734920" y="3436560"/>
            <a:ext cx="98280" cy="635040"/>
          </a:xfrm>
          <a:prstGeom prst="downArrow">
            <a:avLst>
              <a:gd name="adj1" fmla="val 50000"/>
              <a:gd name="adj2" fmla="val 161538"/>
            </a:avLst>
          </a:prstGeom>
          <a:solidFill>
            <a:srgbClr val="abd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1"/>
          <p:cNvSpPr/>
          <p:nvPr/>
        </p:nvSpPr>
        <p:spPr>
          <a:xfrm flipH="1" rot="2003400">
            <a:off x="3942360" y="1212840"/>
            <a:ext cx="74520" cy="990720"/>
          </a:xfrm>
          <a:prstGeom prst="downArrow">
            <a:avLst>
              <a:gd name="adj1" fmla="val 50000"/>
              <a:gd name="adj2" fmla="val 332367"/>
            </a:avLst>
          </a:prstGeom>
          <a:solidFill>
            <a:srgbClr val="abd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3"/>
          <p:cNvSpPr/>
          <p:nvPr/>
        </p:nvSpPr>
        <p:spPr>
          <a:xfrm flipH="1" rot="19597200">
            <a:off x="7303680" y="3389040"/>
            <a:ext cx="76320" cy="790200"/>
          </a:xfrm>
          <a:prstGeom prst="downArrow">
            <a:avLst>
              <a:gd name="adj1" fmla="val 50000"/>
              <a:gd name="adj2" fmla="val 258844"/>
            </a:avLst>
          </a:prstGeom>
          <a:solidFill>
            <a:srgbClr val="abd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4"/>
          <p:cNvSpPr/>
          <p:nvPr/>
        </p:nvSpPr>
        <p:spPr>
          <a:xfrm rot="19596600">
            <a:off x="5909760" y="1206000"/>
            <a:ext cx="76320" cy="990720"/>
          </a:xfrm>
          <a:prstGeom prst="downArrow">
            <a:avLst>
              <a:gd name="adj1" fmla="val 50000"/>
              <a:gd name="adj2" fmla="val 324528"/>
            </a:avLst>
          </a:prstGeom>
          <a:solidFill>
            <a:srgbClr val="abd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5"/>
          <p:cNvSpPr/>
          <p:nvPr/>
        </p:nvSpPr>
        <p:spPr>
          <a:xfrm>
            <a:off x="8993160" y="0"/>
            <a:ext cx="915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таблица 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4960" y="228600"/>
            <a:ext cx="8918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Особенности исчисления и выплаты ежемесячного пособия по уходу за ребенком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2680" y="114300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емесячное пособие по уходу за ребенком выплачивается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только по одному месту работ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по выбору застрахованного лица) – ч.2,2.1 ст.13 Зак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орядок учета заработ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рименяется порядок учета заработка, предусмотренный ч.2 и ч.2.1 ст. 13 Закона, т.е. пособие выплачивается по одному месту работы по выбору застрахованного лица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 учетом заработка у других работода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и расчете пособия –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ставляются справка (справки) о заработке, из которого исчисляется пособие, от другого (других) работода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8916840" y="0"/>
            <a:ext cx="992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таблица 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864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660066"/>
                </a:solidFill>
                <a:uFillTx/>
                <a:latin typeface="Arial"/>
              </a:rPr>
              <a:t>Примеры расчета пособия по уходу за ребен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2320" y="838080"/>
            <a:ext cx="9296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имер №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ница оформила отпуск по уходу за ребенком с 1 марта 2011 года, работая в фирме Сокол с 11 января 2011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асчетном периоде она работала в организациях А и Б и получи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2009 г. в организации А – 150000 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2010 г. В организации Б – 230000 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обие исчисляется фирмой Сокол из заработка за расчетный период, полученного в организациях А и Б: 150000+23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на основании представленных справок о заработной плате, на которую начислены страховые взносы в ФСС Р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р/дн. заработок равен  520,55 руб. (150000+230000):73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р/мес. заработок равен 15824,72 руб. (520,55х30,4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мер пособия составит 6329,89 руб. (15824,72х40%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660066"/>
                </a:solidFill>
                <a:uFillTx/>
                <a:latin typeface="Arial"/>
              </a:rPr>
              <a:t>Внимание!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Заработок, полученный в 2011 г. В фирме Сокол в расчете пособия не участву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8916840" y="0"/>
            <a:ext cx="992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таблица 1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29680" y="0"/>
            <a:ext cx="95252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имер №2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ботница ушла в отпуск по уходу за ребенком с 15 января 2011г. На момент ухода в отпуск она работает в ООО Ромашка и ООО Гвоздика и в течение двух предшествующих календарных лет получи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2009 году        в 2010 год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ОО Ромашка                350000 руб.        250000 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ОО Гвоздика                200000 руб.        150000 руб. – не учитыва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ОО Звезда                    100000 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660066"/>
                </a:solidFill>
                <a:uFillTx/>
                <a:latin typeface="Arial"/>
              </a:rPr>
              <a:t>Расчет пособия делаем по одному месту работы (по выбору) (ч.2 ст.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пример, пособие выплачивает ООО Ромашка, заработок у ООО Гвоздика не учитыва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итываем заработок у другого работодателя в ООО Звезда (ч.1 ст.1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аработок состави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 2009г. – 450000руб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350000руб. (ООО Ромашка)+100000руб. (ООО Звезд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 2010г. – 250000руб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ООО Ромаш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бщий заработок для исчисления пособия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15000руб. (из 450000)+250000руб.=665000 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р/дн. заработок – 665000/730=910,96 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р/мес. заработок – 910,96х30,4=27693,18 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мер пособия – 27693,18х40%=11077,27 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8916840" y="0"/>
            <a:ext cx="992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таблица 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230040" y="3505320"/>
            <a:ext cx="9525240" cy="32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Georgia"/>
              </a:rPr>
              <a:t>О применении законодательных и нормативных правовых актов с 1 января 2011 года по обязательному социальному страхованию на случай временной нетрудоспособности и в связи с материнств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0" y="0"/>
            <a:ext cx="9909000" cy="13413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8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0" y="0"/>
            <a:ext cx="9909000" cy="32004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Object 6"/>
          <p:cNvGraphicFramePr/>
          <p:nvPr/>
        </p:nvGraphicFramePr>
        <p:xfrm>
          <a:off x="154080" y="0"/>
          <a:ext cx="2455920" cy="18446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080" y="0"/>
                    <a:ext cx="2455920" cy="18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Text Box 8"/>
          <p:cNvSpPr/>
          <p:nvPr/>
        </p:nvSpPr>
        <p:spPr>
          <a:xfrm>
            <a:off x="9298080" y="144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Oval 3"/>
          <p:cNvSpPr/>
          <p:nvPr/>
        </p:nvSpPr>
        <p:spPr>
          <a:xfrm>
            <a:off x="428760" y="2060640"/>
            <a:ext cx="2730240" cy="1873080"/>
          </a:xfrm>
          <a:prstGeom prst="ellipse">
            <a:avLst/>
          </a:prstGeom>
          <a:solidFill>
            <a:srgbClr val="fdc7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99"/>
                </a:solidFill>
                <a:latin typeface="Georgia"/>
              </a:rPr>
              <a:t>Периодичность: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работодателей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– ежеквартальн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страхователей, не осуществляющих выплаты физическим лицам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– ежегодно.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4"/>
          <p:cNvSpPr/>
          <p:nvPr/>
        </p:nvSpPr>
        <p:spPr>
          <a:xfrm>
            <a:off x="584280" y="4078440"/>
            <a:ext cx="4137120" cy="23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Проводится </a:t>
            </a: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по месту нахождения органа контроля за уплатой страховых взносов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на основе расчетов по начисленным и уплаченным страховым взносам и документов, подтверждающих обоснованность расходов на выплату социального страхового обеспеч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5265720" y="4005360"/>
            <a:ext cx="4135320" cy="23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Проводится</a:t>
            </a: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 уполномоченными должностными лицами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органа контроля за уплатой страховых взносов в соответствии с их служебными обязанностями </a:t>
            </a:r>
            <a:r>
              <a:rPr b="1" lang="ru-RU" sz="1400" spc="-1" strike="noStrike">
                <a:solidFill>
                  <a:srgbClr val="000099"/>
                </a:solidFill>
                <a:latin typeface="Georgia"/>
              </a:rPr>
              <a:t>без какого-либо специального решения руководителя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органа контроля за уплатой страховых взнос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6"/>
          <p:cNvSpPr/>
          <p:nvPr/>
        </p:nvSpPr>
        <p:spPr>
          <a:xfrm>
            <a:off x="3551400" y="2203560"/>
            <a:ext cx="2730240" cy="1873080"/>
          </a:xfrm>
          <a:prstGeom prst="ellipse">
            <a:avLst/>
          </a:prstGeom>
          <a:solidFill>
            <a:srgbClr val="fdc7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99"/>
                </a:solidFill>
                <a:latin typeface="Georgia"/>
              </a:rPr>
              <a:t>Проверяемый  период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– прошедший отчетный пери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7"/>
          <p:cNvSpPr/>
          <p:nvPr/>
        </p:nvSpPr>
        <p:spPr>
          <a:xfrm>
            <a:off x="6672240" y="2060640"/>
            <a:ext cx="2728800" cy="1800000"/>
          </a:xfrm>
          <a:prstGeom prst="ellipse">
            <a:avLst/>
          </a:prstGeom>
          <a:solidFill>
            <a:srgbClr val="fdc7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99"/>
                </a:solidFill>
                <a:latin typeface="Georgia"/>
              </a:rPr>
              <a:t>Срок проведения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– в период </a:t>
            </a: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3-х месяцев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со дня представления плательщиком страховых взносов расч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8"/>
          <p:cNvSpPr/>
          <p:nvPr/>
        </p:nvSpPr>
        <p:spPr>
          <a:xfrm flipH="1" rot="2003400">
            <a:off x="3706200" y="186480"/>
            <a:ext cx="114480" cy="4181400"/>
          </a:xfrm>
          <a:prstGeom prst="downArrow">
            <a:avLst>
              <a:gd name="adj1" fmla="val 50000"/>
              <a:gd name="adj2" fmla="val 913129"/>
            </a:avLst>
          </a:prstGeom>
          <a:solidFill>
            <a:srgbClr val="abd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9"/>
          <p:cNvSpPr/>
          <p:nvPr/>
        </p:nvSpPr>
        <p:spPr>
          <a:xfrm flipH="1" rot="19597200">
            <a:off x="6039720" y="241200"/>
            <a:ext cx="85680" cy="4067280"/>
          </a:xfrm>
          <a:prstGeom prst="downArrow">
            <a:avLst>
              <a:gd name="adj1" fmla="val 50000"/>
              <a:gd name="adj2" fmla="val 1186765"/>
            </a:avLst>
          </a:prstGeom>
          <a:solidFill>
            <a:srgbClr val="abd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0"/>
          <p:cNvSpPr/>
          <p:nvPr/>
        </p:nvSpPr>
        <p:spPr>
          <a:xfrm flipH="1" rot="3249600">
            <a:off x="3699360" y="-120240"/>
            <a:ext cx="69840" cy="2992680"/>
          </a:xfrm>
          <a:prstGeom prst="downArrow">
            <a:avLst>
              <a:gd name="adj1" fmla="val 50000"/>
              <a:gd name="adj2" fmla="val 1071263"/>
            </a:avLst>
          </a:prstGeom>
          <a:solidFill>
            <a:srgbClr val="fdc7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1"/>
          <p:cNvSpPr/>
          <p:nvPr/>
        </p:nvSpPr>
        <p:spPr>
          <a:xfrm rot="18350400">
            <a:off x="6073920" y="-117720"/>
            <a:ext cx="87480" cy="2982960"/>
          </a:xfrm>
          <a:prstGeom prst="downArrow">
            <a:avLst>
              <a:gd name="adj1" fmla="val 50000"/>
              <a:gd name="adj2" fmla="val 852469"/>
            </a:avLst>
          </a:prstGeom>
          <a:solidFill>
            <a:srgbClr val="fdc7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2"/>
          <p:cNvSpPr/>
          <p:nvPr/>
        </p:nvSpPr>
        <p:spPr>
          <a:xfrm flipH="1" rot="1200">
            <a:off x="4876560" y="612720"/>
            <a:ext cx="81000" cy="1592280"/>
          </a:xfrm>
          <a:prstGeom prst="downArrow">
            <a:avLst>
              <a:gd name="adj1" fmla="val 50000"/>
              <a:gd name="adj2" fmla="val 491444"/>
            </a:avLst>
          </a:prstGeom>
          <a:solidFill>
            <a:srgbClr val="fdc7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3"/>
          <p:cNvSpPr/>
          <p:nvPr/>
        </p:nvSpPr>
        <p:spPr>
          <a:xfrm>
            <a:off x="584280" y="907920"/>
            <a:ext cx="8663040" cy="115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Цель камеральной проверки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– контроль за соблюдением страхователем законодательства Российской Федерации об обязательном социальном страховании в части правильности исчисления, полноты и своевременности уплаты (перечисления) страховых взносов в бюджет Фонда, а также расходования средств Фонд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4"/>
          <p:cNvSpPr/>
          <p:nvPr/>
        </p:nvSpPr>
        <p:spPr>
          <a:xfrm>
            <a:off x="3940200" y="620640"/>
            <a:ext cx="1952640" cy="287280"/>
          </a:xfrm>
          <a:prstGeom prst="downArrow">
            <a:avLst>
              <a:gd name="adj1" fmla="val 47111"/>
              <a:gd name="adj2" fmla="val 75139"/>
            </a:avLst>
          </a:prstGeom>
          <a:noFill/>
          <a:ln w="28440">
            <a:solidFill>
              <a:srgbClr val="5695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5"/>
          <p:cNvSpPr/>
          <p:nvPr/>
        </p:nvSpPr>
        <p:spPr>
          <a:xfrm>
            <a:off x="584280" y="189000"/>
            <a:ext cx="8740800" cy="431640"/>
          </a:xfrm>
          <a:prstGeom prst="roundRect">
            <a:avLst>
              <a:gd name="adj" fmla="val 16667"/>
            </a:avLst>
          </a:prstGeom>
          <a:solidFill>
            <a:srgbClr val="535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Камеральная проверка (статья 34 ФЗ №212-ФЗ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7"/>
          <p:cNvSpPr/>
          <p:nvPr/>
        </p:nvSpPr>
        <p:spPr>
          <a:xfrm>
            <a:off x="9374040" y="0"/>
            <a:ext cx="534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2520" y="0"/>
            <a:ext cx="943452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Размеры пособий,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одлежащие индексации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(согласно ст. 4</a:t>
            </a:r>
            <a:r>
              <a:rPr b="1" lang="ru-RU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Федерального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закона от 19.05.1995 №81-ФЗ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2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с 1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нваря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2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год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коэффициент индексации 1,0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0" y="907920"/>
          <a:ext cx="9505800" cy="5761080"/>
        </p:xfrm>
        <a:graphic>
          <a:graphicData uri="http://schemas.openxmlformats.org/drawingml/2006/table">
            <a:tbl>
              <a:tblPr/>
              <a:tblGrid>
                <a:gridCol w="2448000"/>
                <a:gridCol w="1592280"/>
                <a:gridCol w="1830240"/>
                <a:gridCol w="1824120"/>
                <a:gridCol w="18111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ды пособ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има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зм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 учет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йонн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эффициента 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ксима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зм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 учет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йонн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эффициен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обие п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ременности 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дам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плачиваем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енщинам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оленным в связ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 ликвидаци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ганизац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438,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в меся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504,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диновремен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об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енщинам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ставшим на уч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медицински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ганизациях 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нние с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ремен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438,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504,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8640" cy="2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с 1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нваря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11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год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коэффициент индексации 1,065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01600" y="463680"/>
          <a:ext cx="9505800" cy="6065640"/>
        </p:xfrm>
        <a:graphic>
          <a:graphicData uri="http://schemas.openxmlformats.org/drawingml/2006/table">
            <a:tbl>
              <a:tblPr/>
              <a:tblGrid>
                <a:gridCol w="2303640"/>
                <a:gridCol w="1726920"/>
                <a:gridCol w="1839960"/>
                <a:gridCol w="1824120"/>
                <a:gridCol w="18111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ды пособ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има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зм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 учет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йонн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эффициента 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ксима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зм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 учет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йонн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эффициен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9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диновременно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обие пр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ждени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бенк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11 703,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13 458,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1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жемесяч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обие п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ходу 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бенком (д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стижения и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зраста 1,5лет)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 первым ребенк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 вторым и последую-щими деть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2 194,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 388,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2 523,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 046,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С 01.01.2010 предельный размер пособи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13 833,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8640" cy="2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с 1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нваря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11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год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коэффициент индексации 1,065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54080" y="609480"/>
          <a:ext cx="9505800" cy="2592360"/>
        </p:xfrm>
        <a:graphic>
          <a:graphicData uri="http://schemas.openxmlformats.org/drawingml/2006/table">
            <a:tbl>
              <a:tblPr/>
              <a:tblGrid>
                <a:gridCol w="2303280"/>
                <a:gridCol w="1727280"/>
                <a:gridCol w="1839960"/>
                <a:gridCol w="1824120"/>
                <a:gridCol w="18111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ды пособ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има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зм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 учет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йонн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эффициента 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ксима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зм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 учет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йонн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эффициен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1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циально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обие н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гребен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4 26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 899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9909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Статья 4.6. Порядок финансового обеспечения расходов страхователей на выплату страхового обеспечения за счет средств бюджета Фонда социального страхования Российской Федерации</a:t>
            </a:r>
            <a:br>
              <a:rPr sz="2400"/>
            </a:b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(Федеральный закон от 29.12.2006 №255-ФЗ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584280" y="350028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584280" y="349092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507960" y="4292640"/>
            <a:ext cx="62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351000" y="3573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7"/>
          <p:cNvSpPr/>
          <p:nvPr/>
        </p:nvSpPr>
        <p:spPr>
          <a:xfrm>
            <a:off x="3887640" y="2590920"/>
            <a:ext cx="762120" cy="685800"/>
          </a:xfrm>
          <a:custGeom>
            <a:avLst/>
            <a:gdLst>
              <a:gd name="textAreaLeft" fmla="*/ 95040 w 762120"/>
              <a:gd name="textAreaRight" fmla="*/ 667080 w 76212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154080" y="2057400"/>
            <a:ext cx="3581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Территориальный орган страховщика выделяет страхователю необходимые средства на выплату страхового обеспе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4878360" y="1981080"/>
            <a:ext cx="5030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Times New Roman"/>
              </a:rPr>
              <a:t>В течение 10 календарных дней с даты представления страхователем всех необходимых документов </a:t>
            </a:r>
            <a:r>
              <a:rPr b="1" i="1" lang="ru-RU" sz="2400" spc="-1" strike="noStrike" u="sng">
                <a:solidFill>
                  <a:srgbClr val="990000"/>
                </a:solidFill>
                <a:uFillTx/>
                <a:latin typeface="Times New Roman"/>
              </a:rPr>
              <a:t>(без проведения проверки)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(ч.3 ст.4.6 ФЗ №255-ФЗ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660066"/>
                </a:solidFill>
                <a:uFillTx/>
                <a:latin typeface="Times New Roman"/>
              </a:rPr>
              <a:t>По результатам проведенной проверки</a:t>
            </a:r>
            <a:r>
              <a:rPr b="1" i="1" lang="ru-RU" sz="2400" spc="-1" strike="noStrike">
                <a:solidFill>
                  <a:srgbClr val="660066"/>
                </a:solidFill>
                <a:latin typeface="Times New Roman"/>
              </a:rPr>
              <a:t> (</a:t>
            </a:r>
            <a:r>
              <a:rPr b="1" i="1" lang="ru-RU" sz="2400" spc="-1" strike="noStrike" u="sng">
                <a:solidFill>
                  <a:srgbClr val="660066"/>
                </a:solidFill>
                <a:uFillTx/>
                <a:latin typeface="Times New Roman"/>
              </a:rPr>
              <a:t>вправе</a:t>
            </a:r>
            <a:r>
              <a:rPr b="1" i="1" lang="ru-RU" sz="2400" spc="-1" strike="noStrike">
                <a:solidFill>
                  <a:srgbClr val="660066"/>
                </a:solidFill>
                <a:latin typeface="Times New Roman"/>
              </a:rPr>
              <a:t> провести проверку выездную или камеральную </a:t>
            </a:r>
            <a:r>
              <a:rPr b="1" i="1" lang="ru-RU" sz="2400" spc="-1" strike="noStrike" u="sng">
                <a:solidFill>
                  <a:srgbClr val="990000"/>
                </a:solidFill>
                <a:uFillTx/>
                <a:latin typeface="Times New Roman"/>
              </a:rPr>
              <a:t>в период 3 месяцев</a:t>
            </a:r>
            <a:r>
              <a:rPr b="1" i="1" lang="ru-RU" sz="2400" spc="-1" strike="noStrike">
                <a:solidFill>
                  <a:srgbClr val="660066"/>
                </a:solidFill>
                <a:latin typeface="Times New Roman"/>
              </a:rPr>
              <a:t> (с учетом ст. 34, 35 Федерального закона от 24.07.2009 №212-ФЗ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(ч.4 ст.4.6, ст. 4.7 ФЗ №255-ФЗ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0"/>
          <p:cNvSpPr/>
          <p:nvPr/>
        </p:nvSpPr>
        <p:spPr>
          <a:xfrm>
            <a:off x="4802040" y="2057400"/>
            <a:ext cx="0" cy="1752480"/>
          </a:xfrm>
          <a:prstGeom prst="line">
            <a:avLst/>
          </a:prstGeom>
          <a:ln cap="rnd" w="47520">
            <a:solidFill>
              <a:srgbClr val="9900cc"/>
            </a:solidFill>
            <a:custDash>
              <a:ds d="100000" sp="1000"/>
            </a:custDash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1"/>
          <p:cNvSpPr/>
          <p:nvPr/>
        </p:nvSpPr>
        <p:spPr>
          <a:xfrm>
            <a:off x="4802040" y="4191120"/>
            <a:ext cx="0" cy="2514600"/>
          </a:xfrm>
          <a:prstGeom prst="line">
            <a:avLst/>
          </a:prstGeom>
          <a:ln cap="rnd" w="47520">
            <a:solidFill>
              <a:srgbClr val="9900cc"/>
            </a:solidFill>
            <a:custDash>
              <a:ds d="100000" sp="1000"/>
            </a:custDash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2"/>
          <p:cNvSpPr/>
          <p:nvPr/>
        </p:nvSpPr>
        <p:spPr>
          <a:xfrm>
            <a:off x="3887640" y="4724280"/>
            <a:ext cx="762120" cy="685800"/>
          </a:xfrm>
          <a:custGeom>
            <a:avLst/>
            <a:gdLst>
              <a:gd name="textAreaLeft" fmla="*/ 95040 w 762120"/>
              <a:gd name="textAreaRight" fmla="*/ 667080 w 76212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3"/>
          <p:cNvSpPr/>
          <p:nvPr/>
        </p:nvSpPr>
        <p:spPr>
          <a:xfrm>
            <a:off x="8993160" y="0"/>
            <a:ext cx="91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4"/>
          <p:cNvSpPr/>
          <p:nvPr/>
        </p:nvSpPr>
        <p:spPr>
          <a:xfrm>
            <a:off x="8840880" y="33480"/>
            <a:ext cx="106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345960" y="2781360"/>
            <a:ext cx="9283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Times New Roman"/>
                <a:ea typeface="Arial Unicode MS"/>
              </a:rPr>
              <a:t>    </a:t>
            </a:r>
            <a:r>
              <a:rPr b="1" lang="ru-RU" sz="6000" spc="-1" strike="noStrike">
                <a:solidFill>
                  <a:srgbClr val="660066"/>
                </a:solidFill>
                <a:latin typeface="Times New Roman"/>
                <a:ea typeface="Arial Unicode MS"/>
              </a:rPr>
              <a:t> </a:t>
            </a:r>
            <a:r>
              <a:rPr b="1" lang="ru-RU" sz="6000" spc="-1" strike="noStrike">
                <a:solidFill>
                  <a:srgbClr val="993300"/>
                </a:solidFill>
                <a:latin typeface="Times New Roman"/>
                <a:ea typeface="Arial Unicode MS"/>
              </a:rPr>
              <a:t>С</a:t>
            </a:r>
            <a:r>
              <a:rPr b="1" lang="ru-RU" sz="4400" spc="-1" strike="noStrike">
                <a:solidFill>
                  <a:srgbClr val="993300"/>
                </a:solidFill>
                <a:latin typeface="Times New Roman"/>
                <a:ea typeface="Arial Unicode MS"/>
              </a:rPr>
              <a:t>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-360" y="152280"/>
            <a:ext cx="990900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едеральный закон от 24.07.2009 №212-Ф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"О страховых взносах в Пенсионный фонд Российской Федерации, Фонд социального страхования Российской Федерации, Федеральный фонд обязательного медицинского страхования и территориальные фонды обязательного медицинского страхования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едеральный закон от 29.12.2006 №255-Ф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«Об обязательном социальном страховании на случай временной нетрудоспособности и в связи с материнством» (в ред. Федеральных законов от 08.12.2010 №343-ФЗ, от 25.02.2011 №21-ФЗ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ожение  об особенностях порядка исчисления пособий по временной нетрудоспособности, по беременности и родам, ежемесячного пособия по уходу за ребенком гражданам, подлежащим обязательному социальному страхованию на случай временной нетрудоспособности и в связи с материнством, утвержденно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тановлением Правительства РФ от 15.06.2007 №37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в ред. Постановления Правительства от 01.03.2011 №12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каз Минздравсоцразвития от 17.01.2011 №4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«Об утверждении формы и порядка выдачи справки о сумме заработной платы, иных выплат и вознаграждений, на которую были начислены страховые взносы……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каз Минздравсоцразвития от 24.01.2011 №20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«Об утверждении формы и порядка направления запроса страхователя в территориальный орган страховщика для осуществления проверки сведений о страхователе (страхователях), выдавшем (выдавших) застрахованному лицу справку (справки) о сумме заработной платы, иных выплат и вознаграждений для исчисления пособий….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каз Минздравсоцразвития от 24.01.2011 №21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«Об утверждении формы заявления застрахованного лица о направлении запроса в территориальный орган Пенсионного фонда РФ о представлении сведений о заработной плате, иных выплатах и вознаграждениях, формы и порядка направления запроса……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9298080" y="144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7552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сьма (разъяснения) Минздравсоцразвития РФ по порядку исчисления и уплаты страховых взносов, в том числе и по применению ФЗ №212-ФЗ, №255-ФЗ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83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54080" y="914400"/>
          <a:ext cx="9601200" cy="6093000"/>
        </p:xfrm>
        <a:graphic>
          <a:graphicData uri="http://schemas.openxmlformats.org/drawingml/2006/table">
            <a:tbl>
              <a:tblPr/>
              <a:tblGrid>
                <a:gridCol w="5105160"/>
                <a:gridCol w="4496040"/>
              </a:tblGrid>
              <a:tr h="52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26.01.2010 №20-1/2534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20.04.2010 №939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11.02.2010 №286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17.05.2010 №1212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27.02.2010 №406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19.05.2010 №1239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01.03.2010 №421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26.05.2010 №1343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01.03.2010 №426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27.05.2010 №1354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05.03.2010 №473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05.08.2010 №2519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10.03.2010 №10-4/308103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06.08.2010 №2538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16.03.2010 №589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23.03.2010 №647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13.08.2010 №2640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11.11.2010 №3416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17.01.2011 №70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05.04.2010 №5905-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07.04.2010 №820-19обзо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17.01.2011 №76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15.03.2011 №784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Rectangle 51"/>
          <p:cNvSpPr/>
          <p:nvPr/>
        </p:nvSpPr>
        <p:spPr>
          <a:xfrm>
            <a:off x="3532320" y="3273480"/>
            <a:ext cx="2602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5"/>
          <p:cNvSpPr/>
          <p:nvPr/>
        </p:nvSpPr>
        <p:spPr>
          <a:xfrm flipH="1">
            <a:off x="9528120" y="0"/>
            <a:ext cx="38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9680" y="-3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Тарифы страховых взносов в Фонд социального страхования </a:t>
            </a:r>
            <a:br>
              <a:rPr sz="2400"/>
            </a:b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Российской Федерации на переходный период 2011-2014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0" y="762120"/>
          <a:ext cx="9909000" cy="6095880"/>
        </p:xfrm>
        <a:graphic>
          <a:graphicData uri="http://schemas.openxmlformats.org/drawingml/2006/table">
            <a:tbl>
              <a:tblPr/>
              <a:tblGrid>
                <a:gridCol w="6064200"/>
                <a:gridCol w="854280"/>
                <a:gridCol w="941400"/>
                <a:gridCol w="939600"/>
                <a:gridCol w="1109520"/>
              </a:tblGrid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Категории страховател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9e9b5"/>
                        </a:gs>
                        <a:gs pos="100000">
                          <a:srgbClr val="ededc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201</a:t>
                      </a:r>
                      <a:r>
                        <a:rPr b="1" lang="ru-RU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9e9b5"/>
                        </a:gs>
                        <a:gs pos="100000">
                          <a:srgbClr val="ededc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20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9e9b5"/>
                        </a:gs>
                        <a:gs pos="100000">
                          <a:srgbClr val="ededc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201</a:t>
                      </a:r>
                      <a:r>
                        <a:rPr b="1" lang="ru-RU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9e9b5"/>
                        </a:gs>
                        <a:gs pos="100000">
                          <a:srgbClr val="ededc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201</a:t>
                      </a:r>
                      <a:r>
                        <a:rPr b="1" lang="ru-RU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9e9b5"/>
                        </a:gs>
                        <a:gs pos="100000">
                          <a:srgbClr val="ededc4"/>
                        </a:gs>
                      </a:gsLst>
                      <a:lin ang="5400000"/>
                    </a:gradFill>
                  </a:tcPr>
                </a:tc>
              </a:tr>
              <a:tr h="184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Основная категория страхователей, в т.ч. применяющих спецналогрежимы,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 в организациях инвалидов, занимающихся производством и (или) реализацией подакцизных и иных товаров в соответствии с перечнем 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я сельхозтоваропроизводителей, организаций нар. худ. промыслов, общин народов Севера 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организациях и ИП, имеющих статус резидента технико-внедренческой особой экономической зоны 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организациях инвалидов 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отношении выплат инвалидам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, II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или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I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уппы 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я организаций и ИП, применяющих единый сельскохозяйственный налог 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6" name="Text Box 39"/>
          <p:cNvSpPr/>
          <p:nvPr/>
        </p:nvSpPr>
        <p:spPr>
          <a:xfrm>
            <a:off x="9298080" y="144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6000" y="0"/>
            <a:ext cx="9372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Условия назначения, исчисления и выплаты пособий по временной нетрудоспособности , по беременности и род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3720" y="1066320"/>
            <a:ext cx="47242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Действовавшие в 2010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счет средств работодателя оплачиваются первые 2 дня заболевания (травмы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лата пособия осуществляется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о всем местам работы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числение пособий из заработка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а последние 12 календарны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есяцев, предшествующих месяцу наступления страхового случа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едний дневной заработок определяется путем деления общего заработка за расчетный период на число календарных дней, за которые начислен заработ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01680" y="1142640"/>
            <a:ext cx="49532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Действующие в 2011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счет средств работодателя оплачиваются первые 3 дня заболевания (травмы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лата либо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о всем местам работ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либо только по одному месту работы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о выбор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застрахованного лица с учетом заработка у других работодател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числение пособий из среднего заработка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а два календарных года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едшествующих году наступления страхового случа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едний дневной заработок определяется путем деления общего заработка на 73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9069480" y="1440"/>
            <a:ext cx="83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таблица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9680" y="0"/>
            <a:ext cx="95252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Порядок назначения и выплаты пособий с 1 января 2011г. (части 2,2.1 и 2.2 статьи 13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480204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№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собия по временной нетрудоспособности, по беременности и родам назначаются и выплачиваются по каждому месту работы (службы, иной деятельности), если (ч.2 ст.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№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собия по временной нетрудоспособности, по беременности и родам, по уходу за ребенком назначаются и выплачиваются по одному месту работы (службы, иной деятельности), если (ч.2.1 ст.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№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обия по временной нетрудоспособности, по беременности и родам назначаются и выплачиваются либо по порядку вариант №1, либо вариант №2, если (ч.2.2 ст.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6080" y="990360"/>
            <a:ext cx="5029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момент наступления страхового случая застрахованное лицо занято у нескольких работодателей, у которых было занято и в двух предшествующих календарных год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момент наступления страхового случая застрахованное лицо занято у нескольких работодателей, 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двух предшествующих календарных годах было занято у других работодателей (др. работодател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момент наступления страхового случая застрахованное лицо занято у нескольких работодателей, а двух предшествующих календарных годах было занято как у этих же, так и у других работодателей (др. работодател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7"/>
          <p:cNvSpPr/>
          <p:nvPr/>
        </p:nvSpPr>
        <p:spPr>
          <a:xfrm>
            <a:off x="4344840" y="838080"/>
            <a:ext cx="762120" cy="685800"/>
          </a:xfrm>
          <a:custGeom>
            <a:avLst/>
            <a:gdLst>
              <a:gd name="textAreaLeft" fmla="*/ 95040 w 762120"/>
              <a:gd name="textAreaRight" fmla="*/ 667080 w 76212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8"/>
          <p:cNvSpPr/>
          <p:nvPr/>
        </p:nvSpPr>
        <p:spPr>
          <a:xfrm>
            <a:off x="4344840" y="2666880"/>
            <a:ext cx="762120" cy="685800"/>
          </a:xfrm>
          <a:custGeom>
            <a:avLst/>
            <a:gdLst>
              <a:gd name="textAreaLeft" fmla="*/ 95040 w 762120"/>
              <a:gd name="textAreaRight" fmla="*/ 667080 w 76212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9"/>
          <p:cNvSpPr/>
          <p:nvPr/>
        </p:nvSpPr>
        <p:spPr>
          <a:xfrm>
            <a:off x="4268880" y="4724280"/>
            <a:ext cx="761760" cy="685800"/>
          </a:xfrm>
          <a:custGeom>
            <a:avLst/>
            <a:gdLst>
              <a:gd name="textAreaLeft" fmla="*/ 95040 w 761760"/>
              <a:gd name="textAreaRight" fmla="*/ 666720 w 76176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9147240" y="0"/>
            <a:ext cx="761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таблица 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4080" y="0"/>
            <a:ext cx="9601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Порядок назначения и выплаты пособия в соответствии с частью 2 статьи 13 Зак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-360" y="685440"/>
            <a:ext cx="9909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обия по временной нетрудоспособности, по беременности и родам назначаются и выплачиваются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о каждому месту работы (службы, иной деятельности)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ес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момент наступления страхового случая застрахованное лицо занято у нескольких работодателей и в двух предшествующих календарных годах было занято у тех же работода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 Иванова С.И. временная нетрудоспособность наступила с 20.01.2011.-31.01.2011,.страховой стаж 8 лет, 3 мес. (100%). На момент наступления заболевания он работал в течение двух календарных лет в ООО Ромашка и ООО Гвоздика и получи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2010 году        в 2009 год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ОО Ромашка                250000 руб.        350000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ОО Гвоздика                150000 руб.        200000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). ООО Ромашка – ср/дн. заработок равен  (250000+350000):730=821,92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умма пособия составит 821,92х12=9863,01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). ООО Гвоздика – ср/дн. заработок равен  (150000+200000):730=479,45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умма пособия составит 479,45х12=5753,40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990000"/>
                </a:solidFill>
                <a:uFillTx/>
                <a:latin typeface="Arial"/>
              </a:rPr>
              <a:t>ВНИМАНИЕ: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ний заработок учитывается за каждый календарный год в сумме не превышающей предельную величину базы для начисления страховых взносов в ФСС на соответствующий календарный год каждым страхователем (на 2009-2010 - 415000 руб. на каждый указанный календарный год (ч.3.1 ст.14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8840880" y="0"/>
            <a:ext cx="914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таблица 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9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Порядок назначения и выплаты пособия в соответствии с частью 2.1 статьи 13 Зак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4080" y="761760"/>
            <a:ext cx="96012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обия по временной нетрудоспособности, по беременности и родам, ежемесячное пособие по уходу за ребенком  назначаются и выплачиваются страхователем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по одному из последних мест работы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службы, иной деятельности)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по выбору застрахованного лица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ес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момент наступления страхового случая застрахованное лицо занято у нескольких работодателей, а в двух предшествующих календарных годах было занято у других работодателей (работодател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 Сидорова В.И. временная нетрудоспособность наступила с 01.02.2011.-28.02.2011,.страховой стаж 7 лет, 3 мес. (80%). На момент наступления заболевания он работал в ООО Ромашка и ООО Гвоздика и получи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в 2010 году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в 2009 году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ОО Ромашка                350000 руб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ОО Пламя                    150000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ирма Заря                                                 250000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собие назначает и выплачивает ООО Ромашка (по выбору работник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 2009г.  - 250000руб. , за 2010г. – 415000 руб. (350000+1500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р/дн. заработок равен  (415000+250000):730=910,96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невное пособие ( с учетом стажа) – 910,96х80%=728,77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умма пособия составит 728,77х28=20405,56 руб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990000"/>
                </a:solidFill>
                <a:uFillTx/>
                <a:latin typeface="Arial"/>
              </a:rPr>
              <a:t>ВНИМАНИЕ: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работок, полученный в ООО Гвоздика и ООО Ромашка в 2011 году в расчете данного пособия не участвуе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9147240" y="0"/>
            <a:ext cx="761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таблица 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06-10T05:30:49Z</dcterms:modified>
  <cp:revision>30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